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5.wmf" ContentType="image/x-wmf"/>
  <Override PartName="/ppt/media/image22.wmf" ContentType="image/x-wmf"/>
  <Override PartName="/ppt/media/image21.wmf" ContentType="image/x-wmf"/>
  <Override PartName="/ppt/media/image4.wmf" ContentType="image/x-wmf"/>
  <Override PartName="/ppt/media/image20.wmf" ContentType="image/x-wmf"/>
  <Override PartName="/ppt/media/image3.wmf" ContentType="image/x-wmf"/>
  <Override PartName="/ppt/media/image19.png" ContentType="image/png"/>
  <Override PartName="/ppt/media/image1.png" ContentType="image/png"/>
  <Override PartName="/ppt/media/image18.png" ContentType="image/png"/>
  <Override PartName="/ppt/media/image17.wmf" ContentType="image/x-wmf"/>
  <Override PartName="/ppt/media/image16.wmf" ContentType="image/x-wmf"/>
  <Override PartName="/ppt/media/image15.wmf" ContentType="image/x-wmf"/>
  <Override PartName="/ppt/media/image14.wmf" ContentType="image/x-wmf"/>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87C717B-5A28-4B80-AEEB-B475A2477A79}"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5E937F3C-5B15-4054-9A60-53C27DC26B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B38ED87C-9D69-42C9-840B-DEF498A7B5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26C344D5-8AE2-41E9-A70F-5F658A8FC100}"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8164C91-D44D-4251-A44B-F12F9C1B01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9570159-DBAA-4DBF-891C-5E5D6F2C84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9045E04A-ADB4-4E8D-9D01-1CE92F6C23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2"/>
          </p:nvPr>
        </p:nvSpPr>
        <p:spPr/>
        <p:txBody>
          <a:bodyPr/>
          <a:p>
            <a:fld id="{0FA31A44-C497-49A5-85BE-FDCA545890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 name="PlaceHolder 1"/>
          <p:cNvSpPr>
            <a:spLocks noGrp="1"/>
          </p:cNvSpPr>
          <p:nvPr>
            <p:ph type="subTitle"/>
          </p:nvPr>
        </p:nvSpPr>
        <p:spPr>
          <a:xfrm>
            <a:off x="1676520" y="-360"/>
            <a:ext cx="7162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BB6DC30C-A151-4652-9054-E2CAB9B0DE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E3639ED4-0B0C-4A35-821B-1A722950B8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2EEC1D4C-9083-4CD6-AADA-47ECEA9571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4BAC624C-5E1D-41EE-9D97-1E97C3369D9D}"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447920" y="914400"/>
            <a:ext cx="7162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2" name=""/>
          <p:cNvSpPr/>
          <p:nvPr/>
        </p:nvSpPr>
        <p:spPr>
          <a:xfrm>
            <a:off x="550800" y="6556320"/>
            <a:ext cx="108000" cy="185760"/>
          </a:xfrm>
          <a:custGeom>
            <a:avLst/>
            <a:gdLst/>
            <a:ahLst/>
            <a:rect l="l" t="t" r="r" b="b"/>
            <a:pathLst>
              <a:path w="68" h="117">
                <a:moveTo>
                  <a:pt x="0" y="0"/>
                </a:moveTo>
                <a:lnTo>
                  <a:pt x="68" y="0"/>
                </a:lnTo>
                <a:lnTo>
                  <a:pt x="68" y="19"/>
                </a:lnTo>
                <a:lnTo>
                  <a:pt x="44" y="19"/>
                </a:lnTo>
                <a:lnTo>
                  <a:pt x="44" y="117"/>
                </a:lnTo>
                <a:lnTo>
                  <a:pt x="26" y="117"/>
                </a:lnTo>
                <a:lnTo>
                  <a:pt x="26" y="19"/>
                </a:lnTo>
                <a:lnTo>
                  <a:pt x="0" y="19"/>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
          <p:cNvSpPr/>
          <p:nvPr/>
        </p:nvSpPr>
        <p:spPr>
          <a:xfrm>
            <a:off x="781200" y="6607080"/>
            <a:ext cx="82440" cy="135000"/>
          </a:xfrm>
          <a:custGeom>
            <a:avLst/>
            <a:gdLst/>
            <a:ahLst/>
            <a:rect l="l" t="t" r="r" b="b"/>
            <a:pathLst>
              <a:path w="52" h="85">
                <a:moveTo>
                  <a:pt x="0" y="85"/>
                </a:moveTo>
                <a:lnTo>
                  <a:pt x="0" y="0"/>
                </a:lnTo>
                <a:lnTo>
                  <a:pt x="15" y="0"/>
                </a:lnTo>
                <a:lnTo>
                  <a:pt x="15" y="34"/>
                </a:lnTo>
                <a:lnTo>
                  <a:pt x="37" y="34"/>
                </a:lnTo>
                <a:lnTo>
                  <a:pt x="37" y="0"/>
                </a:lnTo>
                <a:lnTo>
                  <a:pt x="52" y="0"/>
                </a:lnTo>
                <a:lnTo>
                  <a:pt x="52" y="85"/>
                </a:lnTo>
                <a:lnTo>
                  <a:pt x="37" y="85"/>
                </a:lnTo>
                <a:lnTo>
                  <a:pt x="37" y="48"/>
                </a:lnTo>
                <a:lnTo>
                  <a:pt x="15" y="48"/>
                </a:lnTo>
                <a:lnTo>
                  <a:pt x="15"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
          <p:cNvSpPr/>
          <p:nvPr/>
        </p:nvSpPr>
        <p:spPr>
          <a:xfrm>
            <a:off x="960480" y="6607080"/>
            <a:ext cx="68400" cy="135000"/>
          </a:xfrm>
          <a:custGeom>
            <a:avLst/>
            <a:gdLst/>
            <a:ahLst/>
            <a:rect l="l" t="t" r="r" b="b"/>
            <a:pathLst>
              <a:path w="43" h="85">
                <a:moveTo>
                  <a:pt x="0" y="0"/>
                </a:moveTo>
                <a:lnTo>
                  <a:pt x="43" y="0"/>
                </a:lnTo>
                <a:lnTo>
                  <a:pt x="43" y="14"/>
                </a:lnTo>
                <a:lnTo>
                  <a:pt x="13" y="14"/>
                </a:lnTo>
                <a:lnTo>
                  <a:pt x="13" y="34"/>
                </a:lnTo>
                <a:lnTo>
                  <a:pt x="41" y="34"/>
                </a:lnTo>
                <a:lnTo>
                  <a:pt x="41" y="48"/>
                </a:lnTo>
                <a:lnTo>
                  <a:pt x="13" y="48"/>
                </a:lnTo>
                <a:lnTo>
                  <a:pt x="13" y="71"/>
                </a:lnTo>
                <a:lnTo>
                  <a:pt x="43" y="71"/>
                </a:lnTo>
                <a:lnTo>
                  <a:pt x="43"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a:off x="1284120" y="6556320"/>
            <a:ext cx="181080" cy="185760"/>
          </a:xfrm>
          <a:custGeom>
            <a:avLst/>
            <a:gdLst/>
            <a:ahLst/>
            <a:rect l="l" t="t" r="r" b="b"/>
            <a:pathLst>
              <a:path w="114" h="117">
                <a:moveTo>
                  <a:pt x="48" y="0"/>
                </a:moveTo>
                <a:lnTo>
                  <a:pt x="68" y="0"/>
                </a:lnTo>
                <a:lnTo>
                  <a:pt x="83" y="87"/>
                </a:lnTo>
                <a:lnTo>
                  <a:pt x="85" y="87"/>
                </a:lnTo>
                <a:lnTo>
                  <a:pt x="98" y="0"/>
                </a:lnTo>
                <a:lnTo>
                  <a:pt x="114" y="0"/>
                </a:lnTo>
                <a:lnTo>
                  <a:pt x="94" y="117"/>
                </a:lnTo>
                <a:lnTo>
                  <a:pt x="74" y="117"/>
                </a:lnTo>
                <a:lnTo>
                  <a:pt x="57" y="28"/>
                </a:lnTo>
                <a:lnTo>
                  <a:pt x="57" y="28"/>
                </a:lnTo>
                <a:lnTo>
                  <a:pt x="40" y="117"/>
                </a:lnTo>
                <a:lnTo>
                  <a:pt x="20" y="117"/>
                </a:lnTo>
                <a:lnTo>
                  <a:pt x="0" y="0"/>
                </a:lnTo>
                <a:lnTo>
                  <a:pt x="18" y="0"/>
                </a:lnTo>
                <a:lnTo>
                  <a:pt x="31" y="87"/>
                </a:lnTo>
                <a:lnTo>
                  <a:pt x="31" y="87"/>
                </a:lnTo>
                <a:lnTo>
                  <a:pt x="4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
          <p:cNvSpPr/>
          <p:nvPr/>
        </p:nvSpPr>
        <p:spPr>
          <a:xfrm>
            <a:off x="1585800" y="6603840"/>
            <a:ext cx="95400" cy="141480"/>
          </a:xfrm>
          <a:custGeom>
            <a:avLst/>
            <a:gdLst/>
            <a:ahLst/>
            <a:rect l="l" t="t" r="r" b="b"/>
            <a:pathLst>
              <a:path w="59" h="89">
                <a:moveTo>
                  <a:pt x="0" y="45"/>
                </a:moveTo>
                <a:lnTo>
                  <a:pt x="0" y="36"/>
                </a:lnTo>
                <a:lnTo>
                  <a:pt x="2" y="27"/>
                </a:lnTo>
                <a:lnTo>
                  <a:pt x="4" y="20"/>
                </a:lnTo>
                <a:lnTo>
                  <a:pt x="7" y="12"/>
                </a:lnTo>
                <a:lnTo>
                  <a:pt x="11" y="7"/>
                </a:lnTo>
                <a:lnTo>
                  <a:pt x="17" y="4"/>
                </a:lnTo>
                <a:lnTo>
                  <a:pt x="22" y="2"/>
                </a:lnTo>
                <a:lnTo>
                  <a:pt x="30" y="0"/>
                </a:lnTo>
                <a:lnTo>
                  <a:pt x="37" y="2"/>
                </a:lnTo>
                <a:lnTo>
                  <a:pt x="43" y="4"/>
                </a:lnTo>
                <a:lnTo>
                  <a:pt x="48" y="7"/>
                </a:lnTo>
                <a:lnTo>
                  <a:pt x="52" y="12"/>
                </a:lnTo>
                <a:lnTo>
                  <a:pt x="56" y="20"/>
                </a:lnTo>
                <a:lnTo>
                  <a:pt x="57" y="27"/>
                </a:lnTo>
                <a:lnTo>
                  <a:pt x="59" y="36"/>
                </a:lnTo>
                <a:lnTo>
                  <a:pt x="59" y="45"/>
                </a:lnTo>
                <a:lnTo>
                  <a:pt x="59" y="53"/>
                </a:lnTo>
                <a:lnTo>
                  <a:pt x="57" y="62"/>
                </a:lnTo>
                <a:lnTo>
                  <a:pt x="56" y="69"/>
                </a:lnTo>
                <a:lnTo>
                  <a:pt x="52" y="77"/>
                </a:lnTo>
                <a:lnTo>
                  <a:pt x="48" y="82"/>
                </a:lnTo>
                <a:lnTo>
                  <a:pt x="43" y="85"/>
                </a:lnTo>
                <a:lnTo>
                  <a:pt x="37" y="87"/>
                </a:lnTo>
                <a:lnTo>
                  <a:pt x="30" y="89"/>
                </a:lnTo>
                <a:lnTo>
                  <a:pt x="22" y="87"/>
                </a:lnTo>
                <a:lnTo>
                  <a:pt x="17" y="85"/>
                </a:lnTo>
                <a:lnTo>
                  <a:pt x="11" y="82"/>
                </a:lnTo>
                <a:lnTo>
                  <a:pt x="7" y="77"/>
                </a:lnTo>
                <a:lnTo>
                  <a:pt x="4" y="69"/>
                </a:lnTo>
                <a:lnTo>
                  <a:pt x="2" y="62"/>
                </a:lnTo>
                <a:lnTo>
                  <a:pt x="0" y="53"/>
                </a:lnTo>
                <a:lnTo>
                  <a:pt x="0" y="45"/>
                </a:lnTo>
                <a:close/>
                <a:moveTo>
                  <a:pt x="15" y="45"/>
                </a:moveTo>
                <a:lnTo>
                  <a:pt x="15" y="50"/>
                </a:lnTo>
                <a:lnTo>
                  <a:pt x="15" y="55"/>
                </a:lnTo>
                <a:lnTo>
                  <a:pt x="17" y="61"/>
                </a:lnTo>
                <a:lnTo>
                  <a:pt x="17" y="66"/>
                </a:lnTo>
                <a:lnTo>
                  <a:pt x="19" y="69"/>
                </a:lnTo>
                <a:lnTo>
                  <a:pt x="22" y="73"/>
                </a:lnTo>
                <a:lnTo>
                  <a:pt x="26" y="75"/>
                </a:lnTo>
                <a:lnTo>
                  <a:pt x="30" y="75"/>
                </a:lnTo>
                <a:lnTo>
                  <a:pt x="35" y="75"/>
                </a:lnTo>
                <a:lnTo>
                  <a:pt x="39" y="73"/>
                </a:lnTo>
                <a:lnTo>
                  <a:pt x="41" y="69"/>
                </a:lnTo>
                <a:lnTo>
                  <a:pt x="43" y="66"/>
                </a:lnTo>
                <a:lnTo>
                  <a:pt x="44" y="61"/>
                </a:lnTo>
                <a:lnTo>
                  <a:pt x="44" y="55"/>
                </a:lnTo>
                <a:lnTo>
                  <a:pt x="46" y="50"/>
                </a:lnTo>
                <a:lnTo>
                  <a:pt x="46" y="45"/>
                </a:lnTo>
                <a:lnTo>
                  <a:pt x="46" y="39"/>
                </a:lnTo>
                <a:lnTo>
                  <a:pt x="44" y="34"/>
                </a:lnTo>
                <a:lnTo>
                  <a:pt x="44" y="29"/>
                </a:lnTo>
                <a:lnTo>
                  <a:pt x="43" y="23"/>
                </a:lnTo>
                <a:lnTo>
                  <a:pt x="41" y="20"/>
                </a:lnTo>
                <a:lnTo>
                  <a:pt x="39" y="16"/>
                </a:lnTo>
                <a:lnTo>
                  <a:pt x="35" y="14"/>
                </a:lnTo>
                <a:lnTo>
                  <a:pt x="30" y="14"/>
                </a:lnTo>
                <a:lnTo>
                  <a:pt x="26" y="14"/>
                </a:lnTo>
                <a:lnTo>
                  <a:pt x="22" y="16"/>
                </a:lnTo>
                <a:lnTo>
                  <a:pt x="19" y="20"/>
                </a:lnTo>
                <a:lnTo>
                  <a:pt x="17" y="23"/>
                </a:lnTo>
                <a:lnTo>
                  <a:pt x="17" y="29"/>
                </a:lnTo>
                <a:lnTo>
                  <a:pt x="15" y="34"/>
                </a:lnTo>
                <a:lnTo>
                  <a:pt x="15" y="39"/>
                </a:lnTo>
                <a:lnTo>
                  <a:pt x="15"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 name=""/>
          <p:cNvSpPr/>
          <p:nvPr/>
        </p:nvSpPr>
        <p:spPr>
          <a:xfrm>
            <a:off x="1776240" y="6607080"/>
            <a:ext cx="79560" cy="135000"/>
          </a:xfrm>
          <a:custGeom>
            <a:avLst/>
            <a:gdLst/>
            <a:ahLst/>
            <a:rect l="l" t="t" r="r" b="b"/>
            <a:pathLst>
              <a:path w="50" h="85">
                <a:moveTo>
                  <a:pt x="13" y="37"/>
                </a:moveTo>
                <a:lnTo>
                  <a:pt x="24" y="37"/>
                </a:lnTo>
                <a:lnTo>
                  <a:pt x="26" y="37"/>
                </a:lnTo>
                <a:lnTo>
                  <a:pt x="28" y="35"/>
                </a:lnTo>
                <a:lnTo>
                  <a:pt x="30" y="35"/>
                </a:lnTo>
                <a:lnTo>
                  <a:pt x="32" y="34"/>
                </a:lnTo>
                <a:lnTo>
                  <a:pt x="32" y="32"/>
                </a:lnTo>
                <a:lnTo>
                  <a:pt x="34" y="30"/>
                </a:lnTo>
                <a:lnTo>
                  <a:pt x="34" y="28"/>
                </a:lnTo>
                <a:lnTo>
                  <a:pt x="34" y="25"/>
                </a:lnTo>
                <a:lnTo>
                  <a:pt x="34" y="23"/>
                </a:lnTo>
                <a:lnTo>
                  <a:pt x="34" y="19"/>
                </a:lnTo>
                <a:lnTo>
                  <a:pt x="32" y="18"/>
                </a:lnTo>
                <a:lnTo>
                  <a:pt x="32" y="18"/>
                </a:lnTo>
                <a:lnTo>
                  <a:pt x="30" y="16"/>
                </a:lnTo>
                <a:lnTo>
                  <a:pt x="28" y="14"/>
                </a:lnTo>
                <a:lnTo>
                  <a:pt x="26" y="14"/>
                </a:lnTo>
                <a:lnTo>
                  <a:pt x="24" y="14"/>
                </a:lnTo>
                <a:lnTo>
                  <a:pt x="13" y="14"/>
                </a:lnTo>
                <a:lnTo>
                  <a:pt x="13" y="37"/>
                </a:lnTo>
                <a:close/>
                <a:moveTo>
                  <a:pt x="13" y="85"/>
                </a:moveTo>
                <a:lnTo>
                  <a:pt x="0" y="85"/>
                </a:lnTo>
                <a:lnTo>
                  <a:pt x="0" y="0"/>
                </a:lnTo>
                <a:lnTo>
                  <a:pt x="26" y="0"/>
                </a:lnTo>
                <a:lnTo>
                  <a:pt x="30" y="0"/>
                </a:lnTo>
                <a:lnTo>
                  <a:pt x="34" y="2"/>
                </a:lnTo>
                <a:lnTo>
                  <a:pt x="37" y="3"/>
                </a:lnTo>
                <a:lnTo>
                  <a:pt x="41" y="5"/>
                </a:lnTo>
                <a:lnTo>
                  <a:pt x="43" y="7"/>
                </a:lnTo>
                <a:lnTo>
                  <a:pt x="47" y="12"/>
                </a:lnTo>
                <a:lnTo>
                  <a:pt x="47" y="16"/>
                </a:lnTo>
                <a:lnTo>
                  <a:pt x="48" y="23"/>
                </a:lnTo>
                <a:lnTo>
                  <a:pt x="47" y="27"/>
                </a:lnTo>
                <a:lnTo>
                  <a:pt x="47" y="30"/>
                </a:lnTo>
                <a:lnTo>
                  <a:pt x="47" y="34"/>
                </a:lnTo>
                <a:lnTo>
                  <a:pt x="45" y="35"/>
                </a:lnTo>
                <a:lnTo>
                  <a:pt x="43" y="37"/>
                </a:lnTo>
                <a:lnTo>
                  <a:pt x="41" y="41"/>
                </a:lnTo>
                <a:lnTo>
                  <a:pt x="37" y="41"/>
                </a:lnTo>
                <a:lnTo>
                  <a:pt x="36" y="43"/>
                </a:lnTo>
                <a:lnTo>
                  <a:pt x="36" y="43"/>
                </a:lnTo>
                <a:lnTo>
                  <a:pt x="37" y="44"/>
                </a:lnTo>
                <a:lnTo>
                  <a:pt x="41" y="46"/>
                </a:lnTo>
                <a:lnTo>
                  <a:pt x="43" y="48"/>
                </a:lnTo>
                <a:lnTo>
                  <a:pt x="45" y="50"/>
                </a:lnTo>
                <a:lnTo>
                  <a:pt x="45" y="53"/>
                </a:lnTo>
                <a:lnTo>
                  <a:pt x="45" y="57"/>
                </a:lnTo>
                <a:lnTo>
                  <a:pt x="47" y="60"/>
                </a:lnTo>
                <a:lnTo>
                  <a:pt x="47" y="64"/>
                </a:lnTo>
                <a:lnTo>
                  <a:pt x="47" y="67"/>
                </a:lnTo>
                <a:lnTo>
                  <a:pt x="47" y="69"/>
                </a:lnTo>
                <a:lnTo>
                  <a:pt x="47" y="73"/>
                </a:lnTo>
                <a:lnTo>
                  <a:pt x="47" y="75"/>
                </a:lnTo>
                <a:lnTo>
                  <a:pt x="48" y="78"/>
                </a:lnTo>
                <a:lnTo>
                  <a:pt x="48" y="80"/>
                </a:lnTo>
                <a:lnTo>
                  <a:pt x="48" y="83"/>
                </a:lnTo>
                <a:lnTo>
                  <a:pt x="50" y="85"/>
                </a:lnTo>
                <a:lnTo>
                  <a:pt x="36" y="85"/>
                </a:lnTo>
                <a:lnTo>
                  <a:pt x="36" y="82"/>
                </a:lnTo>
                <a:lnTo>
                  <a:pt x="34" y="78"/>
                </a:lnTo>
                <a:lnTo>
                  <a:pt x="34" y="76"/>
                </a:lnTo>
                <a:lnTo>
                  <a:pt x="34" y="73"/>
                </a:lnTo>
                <a:lnTo>
                  <a:pt x="34" y="71"/>
                </a:lnTo>
                <a:lnTo>
                  <a:pt x="34" y="67"/>
                </a:lnTo>
                <a:lnTo>
                  <a:pt x="34" y="64"/>
                </a:lnTo>
                <a:lnTo>
                  <a:pt x="34" y="62"/>
                </a:lnTo>
                <a:lnTo>
                  <a:pt x="32" y="60"/>
                </a:lnTo>
                <a:lnTo>
                  <a:pt x="32" y="59"/>
                </a:lnTo>
                <a:lnTo>
                  <a:pt x="32" y="57"/>
                </a:lnTo>
                <a:lnTo>
                  <a:pt x="32" y="55"/>
                </a:lnTo>
                <a:lnTo>
                  <a:pt x="30" y="53"/>
                </a:lnTo>
                <a:lnTo>
                  <a:pt x="30" y="51"/>
                </a:lnTo>
                <a:lnTo>
                  <a:pt x="28" y="51"/>
                </a:lnTo>
                <a:lnTo>
                  <a:pt x="28" y="51"/>
                </a:lnTo>
                <a:lnTo>
                  <a:pt x="13" y="51"/>
                </a:lnTo>
                <a:lnTo>
                  <a:pt x="13"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 name=""/>
          <p:cNvSpPr/>
          <p:nvPr/>
        </p:nvSpPr>
        <p:spPr>
          <a:xfrm>
            <a:off x="1951200" y="6607080"/>
            <a:ext cx="63360" cy="135000"/>
          </a:xfrm>
          <a:custGeom>
            <a:avLst/>
            <a:gdLst/>
            <a:ahLst/>
            <a:rect l="l" t="t" r="r" b="b"/>
            <a:pathLst>
              <a:path w="40" h="85">
                <a:moveTo>
                  <a:pt x="0" y="85"/>
                </a:moveTo>
                <a:lnTo>
                  <a:pt x="0" y="0"/>
                </a:lnTo>
                <a:lnTo>
                  <a:pt x="12" y="0"/>
                </a:lnTo>
                <a:lnTo>
                  <a:pt x="12" y="71"/>
                </a:lnTo>
                <a:lnTo>
                  <a:pt x="40" y="71"/>
                </a:lnTo>
                <a:lnTo>
                  <a:pt x="40"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 name=""/>
          <p:cNvSpPr/>
          <p:nvPr/>
        </p:nvSpPr>
        <p:spPr>
          <a:xfrm>
            <a:off x="2106720" y="6607080"/>
            <a:ext cx="82440" cy="135000"/>
          </a:xfrm>
          <a:custGeom>
            <a:avLst/>
            <a:gdLst/>
            <a:ahLst/>
            <a:rect l="l" t="t" r="r" b="b"/>
            <a:pathLst>
              <a:path w="51" h="85">
                <a:moveTo>
                  <a:pt x="0" y="0"/>
                </a:moveTo>
                <a:lnTo>
                  <a:pt x="22" y="0"/>
                </a:lnTo>
                <a:lnTo>
                  <a:pt x="27" y="2"/>
                </a:lnTo>
                <a:lnTo>
                  <a:pt x="35" y="3"/>
                </a:lnTo>
                <a:lnTo>
                  <a:pt x="38" y="5"/>
                </a:lnTo>
                <a:lnTo>
                  <a:pt x="44" y="10"/>
                </a:lnTo>
                <a:lnTo>
                  <a:pt x="48" y="16"/>
                </a:lnTo>
                <a:lnTo>
                  <a:pt x="50" y="23"/>
                </a:lnTo>
                <a:lnTo>
                  <a:pt x="51" y="32"/>
                </a:lnTo>
                <a:lnTo>
                  <a:pt x="51" y="43"/>
                </a:lnTo>
                <a:lnTo>
                  <a:pt x="51" y="53"/>
                </a:lnTo>
                <a:lnTo>
                  <a:pt x="50" y="62"/>
                </a:lnTo>
                <a:lnTo>
                  <a:pt x="48" y="69"/>
                </a:lnTo>
                <a:lnTo>
                  <a:pt x="44" y="75"/>
                </a:lnTo>
                <a:lnTo>
                  <a:pt x="38" y="80"/>
                </a:lnTo>
                <a:lnTo>
                  <a:pt x="35" y="82"/>
                </a:lnTo>
                <a:lnTo>
                  <a:pt x="27" y="83"/>
                </a:lnTo>
                <a:lnTo>
                  <a:pt x="22" y="85"/>
                </a:lnTo>
                <a:lnTo>
                  <a:pt x="0" y="85"/>
                </a:lnTo>
                <a:lnTo>
                  <a:pt x="0" y="0"/>
                </a:lnTo>
                <a:close/>
                <a:moveTo>
                  <a:pt x="13" y="71"/>
                </a:moveTo>
                <a:lnTo>
                  <a:pt x="20" y="71"/>
                </a:lnTo>
                <a:lnTo>
                  <a:pt x="25" y="69"/>
                </a:lnTo>
                <a:lnTo>
                  <a:pt x="29" y="67"/>
                </a:lnTo>
                <a:lnTo>
                  <a:pt x="33" y="66"/>
                </a:lnTo>
                <a:lnTo>
                  <a:pt x="35" y="62"/>
                </a:lnTo>
                <a:lnTo>
                  <a:pt x="37" y="57"/>
                </a:lnTo>
                <a:lnTo>
                  <a:pt x="38" y="53"/>
                </a:lnTo>
                <a:lnTo>
                  <a:pt x="38" y="48"/>
                </a:lnTo>
                <a:lnTo>
                  <a:pt x="38" y="43"/>
                </a:lnTo>
                <a:lnTo>
                  <a:pt x="38" y="37"/>
                </a:lnTo>
                <a:lnTo>
                  <a:pt x="38" y="32"/>
                </a:lnTo>
                <a:lnTo>
                  <a:pt x="37" y="28"/>
                </a:lnTo>
                <a:lnTo>
                  <a:pt x="35" y="23"/>
                </a:lnTo>
                <a:lnTo>
                  <a:pt x="33" y="19"/>
                </a:lnTo>
                <a:lnTo>
                  <a:pt x="29" y="16"/>
                </a:lnTo>
                <a:lnTo>
                  <a:pt x="25" y="14"/>
                </a:lnTo>
                <a:lnTo>
                  <a:pt x="20" y="14"/>
                </a:lnTo>
                <a:lnTo>
                  <a:pt x="13" y="14"/>
                </a:lnTo>
                <a:lnTo>
                  <a:pt x="13"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
          <p:cNvSpPr/>
          <p:nvPr/>
        </p:nvSpPr>
        <p:spPr>
          <a:xfrm>
            <a:off x="2455920" y="6556320"/>
            <a:ext cx="84240" cy="185760"/>
          </a:xfrm>
          <a:custGeom>
            <a:avLst/>
            <a:gdLst/>
            <a:ahLst/>
            <a:rect l="l" t="t" r="r" b="b"/>
            <a:pathLst>
              <a:path w="53" h="117">
                <a:moveTo>
                  <a:pt x="0" y="117"/>
                </a:moveTo>
                <a:lnTo>
                  <a:pt x="0" y="0"/>
                </a:lnTo>
                <a:lnTo>
                  <a:pt x="18" y="0"/>
                </a:lnTo>
                <a:lnTo>
                  <a:pt x="18" y="98"/>
                </a:lnTo>
                <a:lnTo>
                  <a:pt x="53" y="98"/>
                </a:lnTo>
                <a:lnTo>
                  <a:pt x="53" y="117"/>
                </a:lnTo>
                <a:lnTo>
                  <a:pt x="0" y="11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 name=""/>
          <p:cNvSpPr/>
          <p:nvPr/>
        </p:nvSpPr>
        <p:spPr>
          <a:xfrm>
            <a:off x="2666880" y="6607080"/>
            <a:ext cx="65160" cy="135000"/>
          </a:xfrm>
          <a:custGeom>
            <a:avLst/>
            <a:gdLst/>
            <a:ahLst/>
            <a:rect l="l" t="t" r="r" b="b"/>
            <a:pathLst>
              <a:path w="41" h="85">
                <a:moveTo>
                  <a:pt x="0" y="0"/>
                </a:moveTo>
                <a:lnTo>
                  <a:pt x="41" y="0"/>
                </a:lnTo>
                <a:lnTo>
                  <a:pt x="41" y="14"/>
                </a:lnTo>
                <a:lnTo>
                  <a:pt x="13" y="14"/>
                </a:lnTo>
                <a:lnTo>
                  <a:pt x="13" y="34"/>
                </a:lnTo>
                <a:lnTo>
                  <a:pt x="39" y="34"/>
                </a:lnTo>
                <a:lnTo>
                  <a:pt x="39" y="48"/>
                </a:lnTo>
                <a:lnTo>
                  <a:pt x="13" y="48"/>
                </a:lnTo>
                <a:lnTo>
                  <a:pt x="13" y="71"/>
                </a:lnTo>
                <a:lnTo>
                  <a:pt x="41" y="71"/>
                </a:lnTo>
                <a:lnTo>
                  <a:pt x="41"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 name=""/>
          <p:cNvSpPr/>
          <p:nvPr/>
        </p:nvSpPr>
        <p:spPr>
          <a:xfrm>
            <a:off x="2824200" y="6607080"/>
            <a:ext cx="95040" cy="135000"/>
          </a:xfrm>
          <a:custGeom>
            <a:avLst/>
            <a:gdLst/>
            <a:ahLst/>
            <a:rect l="l" t="t" r="r" b="b"/>
            <a:pathLst>
              <a:path w="61" h="85">
                <a:moveTo>
                  <a:pt x="0" y="85"/>
                </a:moveTo>
                <a:lnTo>
                  <a:pt x="24" y="0"/>
                </a:lnTo>
                <a:lnTo>
                  <a:pt x="39" y="0"/>
                </a:lnTo>
                <a:lnTo>
                  <a:pt x="61" y="85"/>
                </a:lnTo>
                <a:lnTo>
                  <a:pt x="46" y="85"/>
                </a:lnTo>
                <a:lnTo>
                  <a:pt x="43" y="67"/>
                </a:lnTo>
                <a:lnTo>
                  <a:pt x="18" y="67"/>
                </a:lnTo>
                <a:lnTo>
                  <a:pt x="13" y="85"/>
                </a:lnTo>
                <a:lnTo>
                  <a:pt x="0" y="85"/>
                </a:lnTo>
                <a:close/>
                <a:moveTo>
                  <a:pt x="39" y="53"/>
                </a:moveTo>
                <a:lnTo>
                  <a:pt x="31" y="16"/>
                </a:lnTo>
                <a:lnTo>
                  <a:pt x="31" y="16"/>
                </a:lnTo>
                <a:lnTo>
                  <a:pt x="22" y="53"/>
                </a:lnTo>
                <a:lnTo>
                  <a:pt x="39"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 name=""/>
          <p:cNvSpPr/>
          <p:nvPr/>
        </p:nvSpPr>
        <p:spPr>
          <a:xfrm>
            <a:off x="3009960" y="6607080"/>
            <a:ext cx="82440" cy="135000"/>
          </a:xfrm>
          <a:custGeom>
            <a:avLst/>
            <a:gdLst/>
            <a:ahLst/>
            <a:rect l="l" t="t" r="r" b="b"/>
            <a:pathLst>
              <a:path w="52" h="85">
                <a:moveTo>
                  <a:pt x="0" y="0"/>
                </a:moveTo>
                <a:lnTo>
                  <a:pt x="21" y="0"/>
                </a:lnTo>
                <a:lnTo>
                  <a:pt x="28" y="2"/>
                </a:lnTo>
                <a:lnTo>
                  <a:pt x="36" y="3"/>
                </a:lnTo>
                <a:lnTo>
                  <a:pt x="39" y="5"/>
                </a:lnTo>
                <a:lnTo>
                  <a:pt x="45" y="10"/>
                </a:lnTo>
                <a:lnTo>
                  <a:pt x="49" y="16"/>
                </a:lnTo>
                <a:lnTo>
                  <a:pt x="50" y="23"/>
                </a:lnTo>
                <a:lnTo>
                  <a:pt x="52" y="32"/>
                </a:lnTo>
                <a:lnTo>
                  <a:pt x="52" y="43"/>
                </a:lnTo>
                <a:lnTo>
                  <a:pt x="52" y="53"/>
                </a:lnTo>
                <a:lnTo>
                  <a:pt x="50" y="62"/>
                </a:lnTo>
                <a:lnTo>
                  <a:pt x="49" y="69"/>
                </a:lnTo>
                <a:lnTo>
                  <a:pt x="45" y="75"/>
                </a:lnTo>
                <a:lnTo>
                  <a:pt x="39" y="80"/>
                </a:lnTo>
                <a:lnTo>
                  <a:pt x="36" y="82"/>
                </a:lnTo>
                <a:lnTo>
                  <a:pt x="28" y="83"/>
                </a:lnTo>
                <a:lnTo>
                  <a:pt x="21" y="85"/>
                </a:lnTo>
                <a:lnTo>
                  <a:pt x="0" y="85"/>
                </a:lnTo>
                <a:lnTo>
                  <a:pt x="0" y="0"/>
                </a:lnTo>
                <a:close/>
                <a:moveTo>
                  <a:pt x="13" y="71"/>
                </a:moveTo>
                <a:lnTo>
                  <a:pt x="21" y="71"/>
                </a:lnTo>
                <a:lnTo>
                  <a:pt x="26" y="69"/>
                </a:lnTo>
                <a:lnTo>
                  <a:pt x="30" y="67"/>
                </a:lnTo>
                <a:lnTo>
                  <a:pt x="34" y="66"/>
                </a:lnTo>
                <a:lnTo>
                  <a:pt x="36" y="62"/>
                </a:lnTo>
                <a:lnTo>
                  <a:pt x="37" y="57"/>
                </a:lnTo>
                <a:lnTo>
                  <a:pt x="37" y="53"/>
                </a:lnTo>
                <a:lnTo>
                  <a:pt x="39" y="48"/>
                </a:lnTo>
                <a:lnTo>
                  <a:pt x="39" y="43"/>
                </a:lnTo>
                <a:lnTo>
                  <a:pt x="39" y="37"/>
                </a:lnTo>
                <a:lnTo>
                  <a:pt x="37" y="32"/>
                </a:lnTo>
                <a:lnTo>
                  <a:pt x="37" y="28"/>
                </a:lnTo>
                <a:lnTo>
                  <a:pt x="36" y="23"/>
                </a:lnTo>
                <a:lnTo>
                  <a:pt x="34" y="19"/>
                </a:lnTo>
                <a:lnTo>
                  <a:pt x="30" y="16"/>
                </a:lnTo>
                <a:lnTo>
                  <a:pt x="26" y="14"/>
                </a:lnTo>
                <a:lnTo>
                  <a:pt x="21" y="14"/>
                </a:lnTo>
                <a:lnTo>
                  <a:pt x="13" y="14"/>
                </a:lnTo>
                <a:lnTo>
                  <a:pt x="13"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 name=""/>
          <p:cNvSpPr/>
          <p:nvPr/>
        </p:nvSpPr>
        <p:spPr>
          <a:xfrm>
            <a:off x="3189240" y="6607080"/>
            <a:ext cx="68400" cy="135000"/>
          </a:xfrm>
          <a:custGeom>
            <a:avLst/>
            <a:gdLst/>
            <a:ahLst/>
            <a:rect l="l" t="t" r="r" b="b"/>
            <a:pathLst>
              <a:path w="43" h="85">
                <a:moveTo>
                  <a:pt x="0" y="0"/>
                </a:moveTo>
                <a:lnTo>
                  <a:pt x="41" y="0"/>
                </a:lnTo>
                <a:lnTo>
                  <a:pt x="41" y="14"/>
                </a:lnTo>
                <a:lnTo>
                  <a:pt x="13" y="14"/>
                </a:lnTo>
                <a:lnTo>
                  <a:pt x="13" y="34"/>
                </a:lnTo>
                <a:lnTo>
                  <a:pt x="39" y="34"/>
                </a:lnTo>
                <a:lnTo>
                  <a:pt x="39" y="48"/>
                </a:lnTo>
                <a:lnTo>
                  <a:pt x="13" y="48"/>
                </a:lnTo>
                <a:lnTo>
                  <a:pt x="13" y="71"/>
                </a:lnTo>
                <a:lnTo>
                  <a:pt x="43" y="71"/>
                </a:lnTo>
                <a:lnTo>
                  <a:pt x="43"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 name=""/>
          <p:cNvSpPr/>
          <p:nvPr/>
        </p:nvSpPr>
        <p:spPr>
          <a:xfrm>
            <a:off x="3354480" y="6607080"/>
            <a:ext cx="79200" cy="135000"/>
          </a:xfrm>
          <a:custGeom>
            <a:avLst/>
            <a:gdLst/>
            <a:ahLst/>
            <a:rect l="l" t="t" r="r" b="b"/>
            <a:pathLst>
              <a:path w="50" h="85">
                <a:moveTo>
                  <a:pt x="13" y="85"/>
                </a:moveTo>
                <a:lnTo>
                  <a:pt x="0" y="85"/>
                </a:lnTo>
                <a:lnTo>
                  <a:pt x="0" y="0"/>
                </a:lnTo>
                <a:lnTo>
                  <a:pt x="26" y="0"/>
                </a:lnTo>
                <a:lnTo>
                  <a:pt x="29" y="0"/>
                </a:lnTo>
                <a:lnTo>
                  <a:pt x="35" y="2"/>
                </a:lnTo>
                <a:lnTo>
                  <a:pt x="39" y="3"/>
                </a:lnTo>
                <a:lnTo>
                  <a:pt x="41" y="5"/>
                </a:lnTo>
                <a:lnTo>
                  <a:pt x="44" y="7"/>
                </a:lnTo>
                <a:lnTo>
                  <a:pt x="46" y="12"/>
                </a:lnTo>
                <a:lnTo>
                  <a:pt x="48" y="16"/>
                </a:lnTo>
                <a:lnTo>
                  <a:pt x="48" y="23"/>
                </a:lnTo>
                <a:lnTo>
                  <a:pt x="48" y="27"/>
                </a:lnTo>
                <a:lnTo>
                  <a:pt x="46" y="30"/>
                </a:lnTo>
                <a:lnTo>
                  <a:pt x="46" y="34"/>
                </a:lnTo>
                <a:lnTo>
                  <a:pt x="44" y="35"/>
                </a:lnTo>
                <a:lnTo>
                  <a:pt x="42" y="37"/>
                </a:lnTo>
                <a:lnTo>
                  <a:pt x="41" y="41"/>
                </a:lnTo>
                <a:lnTo>
                  <a:pt x="37" y="41"/>
                </a:lnTo>
                <a:lnTo>
                  <a:pt x="35" y="43"/>
                </a:lnTo>
                <a:lnTo>
                  <a:pt x="35" y="43"/>
                </a:lnTo>
                <a:lnTo>
                  <a:pt x="39" y="44"/>
                </a:lnTo>
                <a:lnTo>
                  <a:pt x="41" y="46"/>
                </a:lnTo>
                <a:lnTo>
                  <a:pt x="42" y="48"/>
                </a:lnTo>
                <a:lnTo>
                  <a:pt x="44" y="50"/>
                </a:lnTo>
                <a:lnTo>
                  <a:pt x="44" y="53"/>
                </a:lnTo>
                <a:lnTo>
                  <a:pt x="46" y="57"/>
                </a:lnTo>
                <a:lnTo>
                  <a:pt x="46" y="60"/>
                </a:lnTo>
                <a:lnTo>
                  <a:pt x="46" y="64"/>
                </a:lnTo>
                <a:lnTo>
                  <a:pt x="46" y="67"/>
                </a:lnTo>
                <a:lnTo>
                  <a:pt x="46" y="69"/>
                </a:lnTo>
                <a:lnTo>
                  <a:pt x="48" y="73"/>
                </a:lnTo>
                <a:lnTo>
                  <a:pt x="48" y="75"/>
                </a:lnTo>
                <a:lnTo>
                  <a:pt x="48" y="78"/>
                </a:lnTo>
                <a:lnTo>
                  <a:pt x="48" y="80"/>
                </a:lnTo>
                <a:lnTo>
                  <a:pt x="50" y="83"/>
                </a:lnTo>
                <a:lnTo>
                  <a:pt x="50" y="85"/>
                </a:lnTo>
                <a:lnTo>
                  <a:pt x="35" y="85"/>
                </a:lnTo>
                <a:lnTo>
                  <a:pt x="35" y="82"/>
                </a:lnTo>
                <a:lnTo>
                  <a:pt x="35" y="78"/>
                </a:lnTo>
                <a:lnTo>
                  <a:pt x="35" y="76"/>
                </a:lnTo>
                <a:lnTo>
                  <a:pt x="33" y="73"/>
                </a:lnTo>
                <a:lnTo>
                  <a:pt x="33" y="71"/>
                </a:lnTo>
                <a:lnTo>
                  <a:pt x="33" y="67"/>
                </a:lnTo>
                <a:lnTo>
                  <a:pt x="33" y="64"/>
                </a:lnTo>
                <a:lnTo>
                  <a:pt x="33" y="62"/>
                </a:lnTo>
                <a:lnTo>
                  <a:pt x="33" y="60"/>
                </a:lnTo>
                <a:lnTo>
                  <a:pt x="33" y="59"/>
                </a:lnTo>
                <a:lnTo>
                  <a:pt x="31" y="57"/>
                </a:lnTo>
                <a:lnTo>
                  <a:pt x="31" y="55"/>
                </a:lnTo>
                <a:lnTo>
                  <a:pt x="31" y="53"/>
                </a:lnTo>
                <a:lnTo>
                  <a:pt x="29" y="51"/>
                </a:lnTo>
                <a:lnTo>
                  <a:pt x="29" y="51"/>
                </a:lnTo>
                <a:lnTo>
                  <a:pt x="28" y="51"/>
                </a:lnTo>
                <a:lnTo>
                  <a:pt x="13" y="51"/>
                </a:lnTo>
                <a:lnTo>
                  <a:pt x="13" y="85"/>
                </a:lnTo>
                <a:close/>
                <a:moveTo>
                  <a:pt x="13" y="37"/>
                </a:moveTo>
                <a:lnTo>
                  <a:pt x="24" y="37"/>
                </a:lnTo>
                <a:lnTo>
                  <a:pt x="26" y="37"/>
                </a:lnTo>
                <a:lnTo>
                  <a:pt x="28" y="35"/>
                </a:lnTo>
                <a:lnTo>
                  <a:pt x="29" y="35"/>
                </a:lnTo>
                <a:lnTo>
                  <a:pt x="31" y="34"/>
                </a:lnTo>
                <a:lnTo>
                  <a:pt x="33" y="32"/>
                </a:lnTo>
                <a:lnTo>
                  <a:pt x="33" y="30"/>
                </a:lnTo>
                <a:lnTo>
                  <a:pt x="33" y="28"/>
                </a:lnTo>
                <a:lnTo>
                  <a:pt x="33" y="25"/>
                </a:lnTo>
                <a:lnTo>
                  <a:pt x="33" y="23"/>
                </a:lnTo>
                <a:lnTo>
                  <a:pt x="33" y="19"/>
                </a:lnTo>
                <a:lnTo>
                  <a:pt x="33" y="18"/>
                </a:lnTo>
                <a:lnTo>
                  <a:pt x="31" y="18"/>
                </a:lnTo>
                <a:lnTo>
                  <a:pt x="29" y="16"/>
                </a:lnTo>
                <a:lnTo>
                  <a:pt x="28" y="14"/>
                </a:lnTo>
                <a:lnTo>
                  <a:pt x="26" y="14"/>
                </a:lnTo>
                <a:lnTo>
                  <a:pt x="24" y="14"/>
                </a:lnTo>
                <a:lnTo>
                  <a:pt x="13" y="14"/>
                </a:lnTo>
                <a:lnTo>
                  <a:pt x="13" y="3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 name=""/>
          <p:cNvSpPr/>
          <p:nvPr/>
        </p:nvSpPr>
        <p:spPr>
          <a:xfrm>
            <a:off x="3693960" y="6556320"/>
            <a:ext cx="32040" cy="185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 name=""/>
          <p:cNvSpPr/>
          <p:nvPr/>
        </p:nvSpPr>
        <p:spPr>
          <a:xfrm>
            <a:off x="3855960" y="6607080"/>
            <a:ext cx="88920" cy="135000"/>
          </a:xfrm>
          <a:custGeom>
            <a:avLst/>
            <a:gdLst/>
            <a:ahLst/>
            <a:rect l="l" t="t" r="r" b="b"/>
            <a:pathLst>
              <a:path w="56" h="85">
                <a:moveTo>
                  <a:pt x="37" y="85"/>
                </a:moveTo>
                <a:lnTo>
                  <a:pt x="13" y="14"/>
                </a:lnTo>
                <a:lnTo>
                  <a:pt x="13" y="14"/>
                </a:lnTo>
                <a:lnTo>
                  <a:pt x="13" y="85"/>
                </a:lnTo>
                <a:lnTo>
                  <a:pt x="0" y="85"/>
                </a:lnTo>
                <a:lnTo>
                  <a:pt x="0" y="0"/>
                </a:lnTo>
                <a:lnTo>
                  <a:pt x="19" y="0"/>
                </a:lnTo>
                <a:lnTo>
                  <a:pt x="43" y="67"/>
                </a:lnTo>
                <a:lnTo>
                  <a:pt x="43" y="66"/>
                </a:lnTo>
                <a:lnTo>
                  <a:pt x="43" y="0"/>
                </a:lnTo>
                <a:lnTo>
                  <a:pt x="56" y="0"/>
                </a:lnTo>
                <a:lnTo>
                  <a:pt x="56" y="85"/>
                </a:lnTo>
                <a:lnTo>
                  <a:pt x="37"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 name=""/>
          <p:cNvSpPr/>
          <p:nvPr/>
        </p:nvSpPr>
        <p:spPr>
          <a:xfrm>
            <a:off x="4211640" y="6556320"/>
            <a:ext cx="111240" cy="185760"/>
          </a:xfrm>
          <a:custGeom>
            <a:avLst/>
            <a:gdLst/>
            <a:ahLst/>
            <a:rect l="l" t="t" r="r" b="b"/>
            <a:pathLst>
              <a:path w="70" h="117">
                <a:moveTo>
                  <a:pt x="0" y="0"/>
                </a:moveTo>
                <a:lnTo>
                  <a:pt x="28" y="0"/>
                </a:lnTo>
                <a:lnTo>
                  <a:pt x="37" y="2"/>
                </a:lnTo>
                <a:lnTo>
                  <a:pt x="46" y="3"/>
                </a:lnTo>
                <a:lnTo>
                  <a:pt x="54" y="9"/>
                </a:lnTo>
                <a:lnTo>
                  <a:pt x="59" y="14"/>
                </a:lnTo>
                <a:lnTo>
                  <a:pt x="65" y="23"/>
                </a:lnTo>
                <a:lnTo>
                  <a:pt x="69" y="32"/>
                </a:lnTo>
                <a:lnTo>
                  <a:pt x="70" y="44"/>
                </a:lnTo>
                <a:lnTo>
                  <a:pt x="70" y="59"/>
                </a:lnTo>
                <a:lnTo>
                  <a:pt x="70" y="73"/>
                </a:lnTo>
                <a:lnTo>
                  <a:pt x="69" y="85"/>
                </a:lnTo>
                <a:lnTo>
                  <a:pt x="65" y="94"/>
                </a:lnTo>
                <a:lnTo>
                  <a:pt x="59" y="103"/>
                </a:lnTo>
                <a:lnTo>
                  <a:pt x="54" y="108"/>
                </a:lnTo>
                <a:lnTo>
                  <a:pt x="46" y="114"/>
                </a:lnTo>
                <a:lnTo>
                  <a:pt x="37" y="115"/>
                </a:lnTo>
                <a:lnTo>
                  <a:pt x="28" y="117"/>
                </a:lnTo>
                <a:lnTo>
                  <a:pt x="0" y="117"/>
                </a:lnTo>
                <a:lnTo>
                  <a:pt x="0" y="0"/>
                </a:lnTo>
                <a:close/>
                <a:moveTo>
                  <a:pt x="17" y="98"/>
                </a:moveTo>
                <a:lnTo>
                  <a:pt x="28" y="98"/>
                </a:lnTo>
                <a:lnTo>
                  <a:pt x="33" y="96"/>
                </a:lnTo>
                <a:lnTo>
                  <a:pt x="41" y="94"/>
                </a:lnTo>
                <a:lnTo>
                  <a:pt x="45" y="91"/>
                </a:lnTo>
                <a:lnTo>
                  <a:pt x="48" y="85"/>
                </a:lnTo>
                <a:lnTo>
                  <a:pt x="50" y="80"/>
                </a:lnTo>
                <a:lnTo>
                  <a:pt x="52" y="73"/>
                </a:lnTo>
                <a:lnTo>
                  <a:pt x="52" y="66"/>
                </a:lnTo>
                <a:lnTo>
                  <a:pt x="52" y="59"/>
                </a:lnTo>
                <a:lnTo>
                  <a:pt x="52" y="51"/>
                </a:lnTo>
                <a:lnTo>
                  <a:pt x="52" y="44"/>
                </a:lnTo>
                <a:lnTo>
                  <a:pt x="50" y="37"/>
                </a:lnTo>
                <a:lnTo>
                  <a:pt x="48" y="32"/>
                </a:lnTo>
                <a:lnTo>
                  <a:pt x="45" y="26"/>
                </a:lnTo>
                <a:lnTo>
                  <a:pt x="41" y="23"/>
                </a:lnTo>
                <a:lnTo>
                  <a:pt x="33" y="21"/>
                </a:lnTo>
                <a:lnTo>
                  <a:pt x="28" y="19"/>
                </a:lnTo>
                <a:lnTo>
                  <a:pt x="17" y="19"/>
                </a:lnTo>
                <a:lnTo>
                  <a:pt x="17" y="9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 name=""/>
          <p:cNvSpPr/>
          <p:nvPr/>
        </p:nvSpPr>
        <p:spPr>
          <a:xfrm>
            <a:off x="4452840" y="6553080"/>
            <a:ext cx="108000" cy="192240"/>
          </a:xfrm>
          <a:custGeom>
            <a:avLst/>
            <a:gdLst/>
            <a:ahLst/>
            <a:rect l="l" t="t" r="r" b="b"/>
            <a:pathLst>
              <a:path w="68" h="121">
                <a:moveTo>
                  <a:pt x="48" y="36"/>
                </a:moveTo>
                <a:lnTo>
                  <a:pt x="48" y="32"/>
                </a:lnTo>
                <a:lnTo>
                  <a:pt x="48" y="28"/>
                </a:lnTo>
                <a:lnTo>
                  <a:pt x="46" y="25"/>
                </a:lnTo>
                <a:lnTo>
                  <a:pt x="44" y="23"/>
                </a:lnTo>
                <a:lnTo>
                  <a:pt x="42" y="21"/>
                </a:lnTo>
                <a:lnTo>
                  <a:pt x="41" y="20"/>
                </a:lnTo>
                <a:lnTo>
                  <a:pt x="39" y="18"/>
                </a:lnTo>
                <a:lnTo>
                  <a:pt x="35" y="18"/>
                </a:lnTo>
                <a:lnTo>
                  <a:pt x="31" y="18"/>
                </a:lnTo>
                <a:lnTo>
                  <a:pt x="29" y="20"/>
                </a:lnTo>
                <a:lnTo>
                  <a:pt x="28" y="20"/>
                </a:lnTo>
                <a:lnTo>
                  <a:pt x="26" y="21"/>
                </a:lnTo>
                <a:lnTo>
                  <a:pt x="24" y="23"/>
                </a:lnTo>
                <a:lnTo>
                  <a:pt x="22" y="27"/>
                </a:lnTo>
                <a:lnTo>
                  <a:pt x="22" y="30"/>
                </a:lnTo>
                <a:lnTo>
                  <a:pt x="22" y="34"/>
                </a:lnTo>
                <a:lnTo>
                  <a:pt x="22" y="37"/>
                </a:lnTo>
                <a:lnTo>
                  <a:pt x="22" y="41"/>
                </a:lnTo>
                <a:lnTo>
                  <a:pt x="24" y="43"/>
                </a:lnTo>
                <a:lnTo>
                  <a:pt x="26" y="44"/>
                </a:lnTo>
                <a:lnTo>
                  <a:pt x="29" y="46"/>
                </a:lnTo>
                <a:lnTo>
                  <a:pt x="31" y="48"/>
                </a:lnTo>
                <a:lnTo>
                  <a:pt x="33" y="48"/>
                </a:lnTo>
                <a:lnTo>
                  <a:pt x="37" y="50"/>
                </a:lnTo>
                <a:lnTo>
                  <a:pt x="42" y="52"/>
                </a:lnTo>
                <a:lnTo>
                  <a:pt x="48" y="53"/>
                </a:lnTo>
                <a:lnTo>
                  <a:pt x="52" y="55"/>
                </a:lnTo>
                <a:lnTo>
                  <a:pt x="57" y="59"/>
                </a:lnTo>
                <a:lnTo>
                  <a:pt x="63" y="62"/>
                </a:lnTo>
                <a:lnTo>
                  <a:pt x="66" y="68"/>
                </a:lnTo>
                <a:lnTo>
                  <a:pt x="68" y="75"/>
                </a:lnTo>
                <a:lnTo>
                  <a:pt x="68" y="82"/>
                </a:lnTo>
                <a:lnTo>
                  <a:pt x="68" y="93"/>
                </a:lnTo>
                <a:lnTo>
                  <a:pt x="66" y="100"/>
                </a:lnTo>
                <a:lnTo>
                  <a:pt x="63" y="107"/>
                </a:lnTo>
                <a:lnTo>
                  <a:pt x="57" y="112"/>
                </a:lnTo>
                <a:lnTo>
                  <a:pt x="52" y="116"/>
                </a:lnTo>
                <a:lnTo>
                  <a:pt x="46" y="119"/>
                </a:lnTo>
                <a:lnTo>
                  <a:pt x="39" y="121"/>
                </a:lnTo>
                <a:lnTo>
                  <a:pt x="31" y="121"/>
                </a:lnTo>
                <a:lnTo>
                  <a:pt x="26" y="121"/>
                </a:lnTo>
                <a:lnTo>
                  <a:pt x="18" y="119"/>
                </a:lnTo>
                <a:lnTo>
                  <a:pt x="13" y="116"/>
                </a:lnTo>
                <a:lnTo>
                  <a:pt x="9" y="112"/>
                </a:lnTo>
                <a:lnTo>
                  <a:pt x="4" y="107"/>
                </a:lnTo>
                <a:lnTo>
                  <a:pt x="2" y="100"/>
                </a:lnTo>
                <a:lnTo>
                  <a:pt x="0" y="91"/>
                </a:lnTo>
                <a:lnTo>
                  <a:pt x="0" y="82"/>
                </a:lnTo>
                <a:lnTo>
                  <a:pt x="18" y="82"/>
                </a:lnTo>
                <a:lnTo>
                  <a:pt x="18" y="85"/>
                </a:lnTo>
                <a:lnTo>
                  <a:pt x="18" y="91"/>
                </a:lnTo>
                <a:lnTo>
                  <a:pt x="20" y="94"/>
                </a:lnTo>
                <a:lnTo>
                  <a:pt x="22" y="98"/>
                </a:lnTo>
                <a:lnTo>
                  <a:pt x="24" y="100"/>
                </a:lnTo>
                <a:lnTo>
                  <a:pt x="26" y="101"/>
                </a:lnTo>
                <a:lnTo>
                  <a:pt x="29" y="103"/>
                </a:lnTo>
                <a:lnTo>
                  <a:pt x="33" y="103"/>
                </a:lnTo>
                <a:lnTo>
                  <a:pt x="35" y="103"/>
                </a:lnTo>
                <a:lnTo>
                  <a:pt x="39" y="101"/>
                </a:lnTo>
                <a:lnTo>
                  <a:pt x="41" y="101"/>
                </a:lnTo>
                <a:lnTo>
                  <a:pt x="44" y="100"/>
                </a:lnTo>
                <a:lnTo>
                  <a:pt x="46" y="98"/>
                </a:lnTo>
                <a:lnTo>
                  <a:pt x="48" y="94"/>
                </a:lnTo>
                <a:lnTo>
                  <a:pt x="50" y="93"/>
                </a:lnTo>
                <a:lnTo>
                  <a:pt x="50" y="87"/>
                </a:lnTo>
                <a:lnTo>
                  <a:pt x="48" y="84"/>
                </a:lnTo>
                <a:lnTo>
                  <a:pt x="48" y="80"/>
                </a:lnTo>
                <a:lnTo>
                  <a:pt x="44" y="77"/>
                </a:lnTo>
                <a:lnTo>
                  <a:pt x="42" y="75"/>
                </a:lnTo>
                <a:lnTo>
                  <a:pt x="39" y="73"/>
                </a:lnTo>
                <a:lnTo>
                  <a:pt x="37" y="73"/>
                </a:lnTo>
                <a:lnTo>
                  <a:pt x="33" y="71"/>
                </a:lnTo>
                <a:lnTo>
                  <a:pt x="29" y="71"/>
                </a:lnTo>
                <a:lnTo>
                  <a:pt x="26" y="69"/>
                </a:lnTo>
                <a:lnTo>
                  <a:pt x="20" y="66"/>
                </a:lnTo>
                <a:lnTo>
                  <a:pt x="16" y="64"/>
                </a:lnTo>
                <a:lnTo>
                  <a:pt x="11" y="61"/>
                </a:lnTo>
                <a:lnTo>
                  <a:pt x="7" y="57"/>
                </a:lnTo>
                <a:lnTo>
                  <a:pt x="4" y="52"/>
                </a:lnTo>
                <a:lnTo>
                  <a:pt x="2" y="46"/>
                </a:lnTo>
                <a:lnTo>
                  <a:pt x="2" y="39"/>
                </a:lnTo>
                <a:lnTo>
                  <a:pt x="2" y="28"/>
                </a:lnTo>
                <a:lnTo>
                  <a:pt x="5" y="21"/>
                </a:lnTo>
                <a:lnTo>
                  <a:pt x="9" y="14"/>
                </a:lnTo>
                <a:lnTo>
                  <a:pt x="13" y="9"/>
                </a:lnTo>
                <a:lnTo>
                  <a:pt x="18" y="5"/>
                </a:lnTo>
                <a:lnTo>
                  <a:pt x="24" y="2"/>
                </a:lnTo>
                <a:lnTo>
                  <a:pt x="31" y="0"/>
                </a:lnTo>
                <a:lnTo>
                  <a:pt x="37" y="0"/>
                </a:lnTo>
                <a:lnTo>
                  <a:pt x="42" y="0"/>
                </a:lnTo>
                <a:lnTo>
                  <a:pt x="48" y="2"/>
                </a:lnTo>
                <a:lnTo>
                  <a:pt x="53" y="5"/>
                </a:lnTo>
                <a:lnTo>
                  <a:pt x="57" y="9"/>
                </a:lnTo>
                <a:lnTo>
                  <a:pt x="61" y="14"/>
                </a:lnTo>
                <a:lnTo>
                  <a:pt x="65" y="20"/>
                </a:lnTo>
                <a:lnTo>
                  <a:pt x="66" y="27"/>
                </a:lnTo>
                <a:lnTo>
                  <a:pt x="66" y="36"/>
                </a:lnTo>
                <a:lnTo>
                  <a:pt x="48"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 name=""/>
          <p:cNvSpPr/>
          <p:nvPr/>
        </p:nvSpPr>
        <p:spPr>
          <a:xfrm>
            <a:off x="4694400" y="6556320"/>
            <a:ext cx="98280" cy="185760"/>
          </a:xfrm>
          <a:custGeom>
            <a:avLst/>
            <a:gdLst/>
            <a:ahLst/>
            <a:rect l="l" t="t" r="r" b="b"/>
            <a:pathLst>
              <a:path w="61" h="117">
                <a:moveTo>
                  <a:pt x="0" y="117"/>
                </a:moveTo>
                <a:lnTo>
                  <a:pt x="0" y="0"/>
                </a:lnTo>
                <a:lnTo>
                  <a:pt x="27" y="0"/>
                </a:lnTo>
                <a:lnTo>
                  <a:pt x="33" y="2"/>
                </a:lnTo>
                <a:lnTo>
                  <a:pt x="40" y="2"/>
                </a:lnTo>
                <a:lnTo>
                  <a:pt x="46" y="3"/>
                </a:lnTo>
                <a:lnTo>
                  <a:pt x="51" y="7"/>
                </a:lnTo>
                <a:lnTo>
                  <a:pt x="55" y="12"/>
                </a:lnTo>
                <a:lnTo>
                  <a:pt x="59" y="18"/>
                </a:lnTo>
                <a:lnTo>
                  <a:pt x="61" y="26"/>
                </a:lnTo>
                <a:lnTo>
                  <a:pt x="61" y="35"/>
                </a:lnTo>
                <a:lnTo>
                  <a:pt x="61" y="44"/>
                </a:lnTo>
                <a:lnTo>
                  <a:pt x="59" y="51"/>
                </a:lnTo>
                <a:lnTo>
                  <a:pt x="57" y="57"/>
                </a:lnTo>
                <a:lnTo>
                  <a:pt x="53" y="62"/>
                </a:lnTo>
                <a:lnTo>
                  <a:pt x="49" y="66"/>
                </a:lnTo>
                <a:lnTo>
                  <a:pt x="44" y="69"/>
                </a:lnTo>
                <a:lnTo>
                  <a:pt x="38" y="71"/>
                </a:lnTo>
                <a:lnTo>
                  <a:pt x="31" y="73"/>
                </a:lnTo>
                <a:lnTo>
                  <a:pt x="18" y="73"/>
                </a:lnTo>
                <a:lnTo>
                  <a:pt x="18" y="117"/>
                </a:lnTo>
                <a:lnTo>
                  <a:pt x="0" y="117"/>
                </a:lnTo>
                <a:close/>
                <a:moveTo>
                  <a:pt x="18" y="53"/>
                </a:moveTo>
                <a:lnTo>
                  <a:pt x="22" y="53"/>
                </a:lnTo>
                <a:lnTo>
                  <a:pt x="27" y="53"/>
                </a:lnTo>
                <a:lnTo>
                  <a:pt x="31" y="53"/>
                </a:lnTo>
                <a:lnTo>
                  <a:pt x="35" y="51"/>
                </a:lnTo>
                <a:lnTo>
                  <a:pt x="37" y="50"/>
                </a:lnTo>
                <a:lnTo>
                  <a:pt x="40" y="48"/>
                </a:lnTo>
                <a:lnTo>
                  <a:pt x="42" y="42"/>
                </a:lnTo>
                <a:lnTo>
                  <a:pt x="42" y="35"/>
                </a:lnTo>
                <a:lnTo>
                  <a:pt x="42" y="30"/>
                </a:lnTo>
                <a:lnTo>
                  <a:pt x="40" y="25"/>
                </a:lnTo>
                <a:lnTo>
                  <a:pt x="37" y="23"/>
                </a:lnTo>
                <a:lnTo>
                  <a:pt x="35" y="21"/>
                </a:lnTo>
                <a:lnTo>
                  <a:pt x="31" y="19"/>
                </a:lnTo>
                <a:lnTo>
                  <a:pt x="27" y="19"/>
                </a:lnTo>
                <a:lnTo>
                  <a:pt x="22" y="19"/>
                </a:lnTo>
                <a:lnTo>
                  <a:pt x="18" y="19"/>
                </a:lnTo>
                <a:lnTo>
                  <a:pt x="18"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 name=""/>
          <p:cNvSpPr/>
          <p:nvPr/>
        </p:nvSpPr>
        <p:spPr>
          <a:xfrm>
            <a:off x="5078520" y="6553080"/>
            <a:ext cx="110880" cy="192240"/>
          </a:xfrm>
          <a:custGeom>
            <a:avLst/>
            <a:gdLst/>
            <a:ahLst/>
            <a:rect l="l" t="t" r="r" b="b"/>
            <a:pathLst>
              <a:path w="70" h="121">
                <a:moveTo>
                  <a:pt x="50" y="36"/>
                </a:moveTo>
                <a:lnTo>
                  <a:pt x="50" y="32"/>
                </a:lnTo>
                <a:lnTo>
                  <a:pt x="48" y="28"/>
                </a:lnTo>
                <a:lnTo>
                  <a:pt x="48" y="25"/>
                </a:lnTo>
                <a:lnTo>
                  <a:pt x="46" y="23"/>
                </a:lnTo>
                <a:lnTo>
                  <a:pt x="44" y="21"/>
                </a:lnTo>
                <a:lnTo>
                  <a:pt x="42" y="20"/>
                </a:lnTo>
                <a:lnTo>
                  <a:pt x="39" y="18"/>
                </a:lnTo>
                <a:lnTo>
                  <a:pt x="35" y="18"/>
                </a:lnTo>
                <a:lnTo>
                  <a:pt x="33" y="18"/>
                </a:lnTo>
                <a:lnTo>
                  <a:pt x="31" y="20"/>
                </a:lnTo>
                <a:lnTo>
                  <a:pt x="29" y="20"/>
                </a:lnTo>
                <a:lnTo>
                  <a:pt x="26" y="21"/>
                </a:lnTo>
                <a:lnTo>
                  <a:pt x="24" y="23"/>
                </a:lnTo>
                <a:lnTo>
                  <a:pt x="24" y="27"/>
                </a:lnTo>
                <a:lnTo>
                  <a:pt x="22" y="30"/>
                </a:lnTo>
                <a:lnTo>
                  <a:pt x="22" y="34"/>
                </a:lnTo>
                <a:lnTo>
                  <a:pt x="22" y="37"/>
                </a:lnTo>
                <a:lnTo>
                  <a:pt x="24" y="41"/>
                </a:lnTo>
                <a:lnTo>
                  <a:pt x="26" y="43"/>
                </a:lnTo>
                <a:lnTo>
                  <a:pt x="28" y="44"/>
                </a:lnTo>
                <a:lnTo>
                  <a:pt x="29" y="46"/>
                </a:lnTo>
                <a:lnTo>
                  <a:pt x="33" y="48"/>
                </a:lnTo>
                <a:lnTo>
                  <a:pt x="35" y="48"/>
                </a:lnTo>
                <a:lnTo>
                  <a:pt x="39" y="50"/>
                </a:lnTo>
                <a:lnTo>
                  <a:pt x="42" y="52"/>
                </a:lnTo>
                <a:lnTo>
                  <a:pt x="48" y="53"/>
                </a:lnTo>
                <a:lnTo>
                  <a:pt x="54" y="55"/>
                </a:lnTo>
                <a:lnTo>
                  <a:pt x="59" y="59"/>
                </a:lnTo>
                <a:lnTo>
                  <a:pt x="63" y="62"/>
                </a:lnTo>
                <a:lnTo>
                  <a:pt x="66" y="68"/>
                </a:lnTo>
                <a:lnTo>
                  <a:pt x="68" y="75"/>
                </a:lnTo>
                <a:lnTo>
                  <a:pt x="70" y="82"/>
                </a:lnTo>
                <a:lnTo>
                  <a:pt x="68" y="93"/>
                </a:lnTo>
                <a:lnTo>
                  <a:pt x="66" y="100"/>
                </a:lnTo>
                <a:lnTo>
                  <a:pt x="63" y="107"/>
                </a:lnTo>
                <a:lnTo>
                  <a:pt x="59" y="112"/>
                </a:lnTo>
                <a:lnTo>
                  <a:pt x="54" y="116"/>
                </a:lnTo>
                <a:lnTo>
                  <a:pt x="46" y="119"/>
                </a:lnTo>
                <a:lnTo>
                  <a:pt x="41" y="121"/>
                </a:lnTo>
                <a:lnTo>
                  <a:pt x="33" y="121"/>
                </a:lnTo>
                <a:lnTo>
                  <a:pt x="26" y="121"/>
                </a:lnTo>
                <a:lnTo>
                  <a:pt x="20" y="119"/>
                </a:lnTo>
                <a:lnTo>
                  <a:pt x="15" y="116"/>
                </a:lnTo>
                <a:lnTo>
                  <a:pt x="9" y="112"/>
                </a:lnTo>
                <a:lnTo>
                  <a:pt x="5" y="107"/>
                </a:lnTo>
                <a:lnTo>
                  <a:pt x="4" y="100"/>
                </a:lnTo>
                <a:lnTo>
                  <a:pt x="2" y="91"/>
                </a:lnTo>
                <a:lnTo>
                  <a:pt x="0" y="82"/>
                </a:lnTo>
                <a:lnTo>
                  <a:pt x="18" y="82"/>
                </a:lnTo>
                <a:lnTo>
                  <a:pt x="18" y="85"/>
                </a:lnTo>
                <a:lnTo>
                  <a:pt x="20" y="91"/>
                </a:lnTo>
                <a:lnTo>
                  <a:pt x="20" y="94"/>
                </a:lnTo>
                <a:lnTo>
                  <a:pt x="22" y="98"/>
                </a:lnTo>
                <a:lnTo>
                  <a:pt x="24" y="100"/>
                </a:lnTo>
                <a:lnTo>
                  <a:pt x="28" y="101"/>
                </a:lnTo>
                <a:lnTo>
                  <a:pt x="29" y="103"/>
                </a:lnTo>
                <a:lnTo>
                  <a:pt x="33" y="103"/>
                </a:lnTo>
                <a:lnTo>
                  <a:pt x="37" y="103"/>
                </a:lnTo>
                <a:lnTo>
                  <a:pt x="39" y="101"/>
                </a:lnTo>
                <a:lnTo>
                  <a:pt x="42" y="101"/>
                </a:lnTo>
                <a:lnTo>
                  <a:pt x="44" y="100"/>
                </a:lnTo>
                <a:lnTo>
                  <a:pt x="46" y="98"/>
                </a:lnTo>
                <a:lnTo>
                  <a:pt x="48" y="94"/>
                </a:lnTo>
                <a:lnTo>
                  <a:pt x="50" y="93"/>
                </a:lnTo>
                <a:lnTo>
                  <a:pt x="50" y="87"/>
                </a:lnTo>
                <a:lnTo>
                  <a:pt x="50" y="84"/>
                </a:lnTo>
                <a:lnTo>
                  <a:pt x="48" y="80"/>
                </a:lnTo>
                <a:lnTo>
                  <a:pt x="46" y="77"/>
                </a:lnTo>
                <a:lnTo>
                  <a:pt x="44" y="75"/>
                </a:lnTo>
                <a:lnTo>
                  <a:pt x="41" y="73"/>
                </a:lnTo>
                <a:lnTo>
                  <a:pt x="37" y="73"/>
                </a:lnTo>
                <a:lnTo>
                  <a:pt x="33" y="71"/>
                </a:lnTo>
                <a:lnTo>
                  <a:pt x="31" y="71"/>
                </a:lnTo>
                <a:lnTo>
                  <a:pt x="26" y="69"/>
                </a:lnTo>
                <a:lnTo>
                  <a:pt x="22" y="66"/>
                </a:lnTo>
                <a:lnTo>
                  <a:pt x="17" y="64"/>
                </a:lnTo>
                <a:lnTo>
                  <a:pt x="13" y="61"/>
                </a:lnTo>
                <a:lnTo>
                  <a:pt x="9" y="57"/>
                </a:lnTo>
                <a:lnTo>
                  <a:pt x="5" y="52"/>
                </a:lnTo>
                <a:lnTo>
                  <a:pt x="4" y="46"/>
                </a:lnTo>
                <a:lnTo>
                  <a:pt x="4" y="39"/>
                </a:lnTo>
                <a:lnTo>
                  <a:pt x="4" y="28"/>
                </a:lnTo>
                <a:lnTo>
                  <a:pt x="5" y="21"/>
                </a:lnTo>
                <a:lnTo>
                  <a:pt x="9" y="14"/>
                </a:lnTo>
                <a:lnTo>
                  <a:pt x="15" y="9"/>
                </a:lnTo>
                <a:lnTo>
                  <a:pt x="20" y="5"/>
                </a:lnTo>
                <a:lnTo>
                  <a:pt x="26" y="2"/>
                </a:lnTo>
                <a:lnTo>
                  <a:pt x="31" y="0"/>
                </a:lnTo>
                <a:lnTo>
                  <a:pt x="39" y="0"/>
                </a:lnTo>
                <a:lnTo>
                  <a:pt x="44" y="0"/>
                </a:lnTo>
                <a:lnTo>
                  <a:pt x="50" y="2"/>
                </a:lnTo>
                <a:lnTo>
                  <a:pt x="55" y="5"/>
                </a:lnTo>
                <a:lnTo>
                  <a:pt x="59" y="9"/>
                </a:lnTo>
                <a:lnTo>
                  <a:pt x="63" y="14"/>
                </a:lnTo>
                <a:lnTo>
                  <a:pt x="65" y="20"/>
                </a:lnTo>
                <a:lnTo>
                  <a:pt x="66" y="27"/>
                </a:lnTo>
                <a:lnTo>
                  <a:pt x="68" y="36"/>
                </a:lnTo>
                <a:lnTo>
                  <a:pt x="50"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 name=""/>
          <p:cNvSpPr/>
          <p:nvPr/>
        </p:nvSpPr>
        <p:spPr>
          <a:xfrm>
            <a:off x="5316480" y="6603840"/>
            <a:ext cx="93600" cy="141480"/>
          </a:xfrm>
          <a:custGeom>
            <a:avLst/>
            <a:gdLst/>
            <a:ahLst/>
            <a:rect l="l" t="t" r="r" b="b"/>
            <a:pathLst>
              <a:path w="59" h="89">
                <a:moveTo>
                  <a:pt x="0" y="45"/>
                </a:moveTo>
                <a:lnTo>
                  <a:pt x="0" y="36"/>
                </a:lnTo>
                <a:lnTo>
                  <a:pt x="2" y="27"/>
                </a:lnTo>
                <a:lnTo>
                  <a:pt x="3" y="20"/>
                </a:lnTo>
                <a:lnTo>
                  <a:pt x="7" y="12"/>
                </a:lnTo>
                <a:lnTo>
                  <a:pt x="11" y="7"/>
                </a:lnTo>
                <a:lnTo>
                  <a:pt x="16" y="4"/>
                </a:lnTo>
                <a:lnTo>
                  <a:pt x="22" y="2"/>
                </a:lnTo>
                <a:lnTo>
                  <a:pt x="29" y="0"/>
                </a:lnTo>
                <a:lnTo>
                  <a:pt x="37" y="2"/>
                </a:lnTo>
                <a:lnTo>
                  <a:pt x="42" y="4"/>
                </a:lnTo>
                <a:lnTo>
                  <a:pt x="48" y="7"/>
                </a:lnTo>
                <a:lnTo>
                  <a:pt x="52" y="12"/>
                </a:lnTo>
                <a:lnTo>
                  <a:pt x="55" y="20"/>
                </a:lnTo>
                <a:lnTo>
                  <a:pt x="57" y="27"/>
                </a:lnTo>
                <a:lnTo>
                  <a:pt x="59" y="36"/>
                </a:lnTo>
                <a:lnTo>
                  <a:pt x="59" y="45"/>
                </a:lnTo>
                <a:lnTo>
                  <a:pt x="59" y="53"/>
                </a:lnTo>
                <a:lnTo>
                  <a:pt x="57" y="62"/>
                </a:lnTo>
                <a:lnTo>
                  <a:pt x="55" y="69"/>
                </a:lnTo>
                <a:lnTo>
                  <a:pt x="52" y="77"/>
                </a:lnTo>
                <a:lnTo>
                  <a:pt x="48" y="82"/>
                </a:lnTo>
                <a:lnTo>
                  <a:pt x="42" y="85"/>
                </a:lnTo>
                <a:lnTo>
                  <a:pt x="37" y="87"/>
                </a:lnTo>
                <a:lnTo>
                  <a:pt x="29" y="89"/>
                </a:lnTo>
                <a:lnTo>
                  <a:pt x="22" y="87"/>
                </a:lnTo>
                <a:lnTo>
                  <a:pt x="16" y="85"/>
                </a:lnTo>
                <a:lnTo>
                  <a:pt x="11" y="82"/>
                </a:lnTo>
                <a:lnTo>
                  <a:pt x="7" y="77"/>
                </a:lnTo>
                <a:lnTo>
                  <a:pt x="3" y="69"/>
                </a:lnTo>
                <a:lnTo>
                  <a:pt x="2" y="62"/>
                </a:lnTo>
                <a:lnTo>
                  <a:pt x="0" y="53"/>
                </a:lnTo>
                <a:lnTo>
                  <a:pt x="0" y="45"/>
                </a:lnTo>
                <a:close/>
                <a:moveTo>
                  <a:pt x="13" y="45"/>
                </a:moveTo>
                <a:lnTo>
                  <a:pt x="13" y="50"/>
                </a:lnTo>
                <a:lnTo>
                  <a:pt x="15" y="55"/>
                </a:lnTo>
                <a:lnTo>
                  <a:pt x="15" y="61"/>
                </a:lnTo>
                <a:lnTo>
                  <a:pt x="16" y="66"/>
                </a:lnTo>
                <a:lnTo>
                  <a:pt x="18" y="69"/>
                </a:lnTo>
                <a:lnTo>
                  <a:pt x="22" y="73"/>
                </a:lnTo>
                <a:lnTo>
                  <a:pt x="24" y="75"/>
                </a:lnTo>
                <a:lnTo>
                  <a:pt x="29" y="75"/>
                </a:lnTo>
                <a:lnTo>
                  <a:pt x="33" y="75"/>
                </a:lnTo>
                <a:lnTo>
                  <a:pt x="37" y="73"/>
                </a:lnTo>
                <a:lnTo>
                  <a:pt x="40" y="69"/>
                </a:lnTo>
                <a:lnTo>
                  <a:pt x="42" y="66"/>
                </a:lnTo>
                <a:lnTo>
                  <a:pt x="42" y="61"/>
                </a:lnTo>
                <a:lnTo>
                  <a:pt x="44" y="55"/>
                </a:lnTo>
                <a:lnTo>
                  <a:pt x="44" y="50"/>
                </a:lnTo>
                <a:lnTo>
                  <a:pt x="44" y="45"/>
                </a:lnTo>
                <a:lnTo>
                  <a:pt x="44" y="39"/>
                </a:lnTo>
                <a:lnTo>
                  <a:pt x="44" y="34"/>
                </a:lnTo>
                <a:lnTo>
                  <a:pt x="42" y="29"/>
                </a:lnTo>
                <a:lnTo>
                  <a:pt x="42" y="23"/>
                </a:lnTo>
                <a:lnTo>
                  <a:pt x="40" y="20"/>
                </a:lnTo>
                <a:lnTo>
                  <a:pt x="37" y="16"/>
                </a:lnTo>
                <a:lnTo>
                  <a:pt x="33" y="14"/>
                </a:lnTo>
                <a:lnTo>
                  <a:pt x="29" y="14"/>
                </a:lnTo>
                <a:lnTo>
                  <a:pt x="24" y="14"/>
                </a:lnTo>
                <a:lnTo>
                  <a:pt x="22" y="16"/>
                </a:lnTo>
                <a:lnTo>
                  <a:pt x="18" y="20"/>
                </a:lnTo>
                <a:lnTo>
                  <a:pt x="16" y="23"/>
                </a:lnTo>
                <a:lnTo>
                  <a:pt x="15" y="29"/>
                </a:lnTo>
                <a:lnTo>
                  <a:pt x="15" y="34"/>
                </a:lnTo>
                <a:lnTo>
                  <a:pt x="13" y="39"/>
                </a:lnTo>
                <a:lnTo>
                  <a:pt x="13"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 name=""/>
          <p:cNvSpPr/>
          <p:nvPr/>
        </p:nvSpPr>
        <p:spPr>
          <a:xfrm>
            <a:off x="5506920" y="6607080"/>
            <a:ext cx="61920" cy="135000"/>
          </a:xfrm>
          <a:custGeom>
            <a:avLst/>
            <a:gdLst/>
            <a:ahLst/>
            <a:rect l="l" t="t" r="r" b="b"/>
            <a:pathLst>
              <a:path w="39" h="85">
                <a:moveTo>
                  <a:pt x="0" y="85"/>
                </a:moveTo>
                <a:lnTo>
                  <a:pt x="0" y="0"/>
                </a:lnTo>
                <a:lnTo>
                  <a:pt x="13" y="0"/>
                </a:lnTo>
                <a:lnTo>
                  <a:pt x="13" y="71"/>
                </a:lnTo>
                <a:lnTo>
                  <a:pt x="39" y="71"/>
                </a:lnTo>
                <a:lnTo>
                  <a:pt x="39"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 name=""/>
          <p:cNvSpPr/>
          <p:nvPr/>
        </p:nvSpPr>
        <p:spPr>
          <a:xfrm>
            <a:off x="5665680" y="6607080"/>
            <a:ext cx="85680" cy="138240"/>
          </a:xfrm>
          <a:custGeom>
            <a:avLst/>
            <a:gdLst/>
            <a:ahLst/>
            <a:rect l="l" t="t" r="r" b="b"/>
            <a:pathLst>
              <a:path w="54" h="87">
                <a:moveTo>
                  <a:pt x="54" y="0"/>
                </a:moveTo>
                <a:lnTo>
                  <a:pt x="54" y="53"/>
                </a:lnTo>
                <a:lnTo>
                  <a:pt x="52" y="60"/>
                </a:lnTo>
                <a:lnTo>
                  <a:pt x="50" y="67"/>
                </a:lnTo>
                <a:lnTo>
                  <a:pt x="48" y="73"/>
                </a:lnTo>
                <a:lnTo>
                  <a:pt x="44" y="78"/>
                </a:lnTo>
                <a:lnTo>
                  <a:pt x="41" y="82"/>
                </a:lnTo>
                <a:lnTo>
                  <a:pt x="37" y="83"/>
                </a:lnTo>
                <a:lnTo>
                  <a:pt x="31" y="85"/>
                </a:lnTo>
                <a:lnTo>
                  <a:pt x="26" y="87"/>
                </a:lnTo>
                <a:lnTo>
                  <a:pt x="20" y="85"/>
                </a:lnTo>
                <a:lnTo>
                  <a:pt x="15" y="83"/>
                </a:lnTo>
                <a:lnTo>
                  <a:pt x="11" y="82"/>
                </a:lnTo>
                <a:lnTo>
                  <a:pt x="7" y="78"/>
                </a:lnTo>
                <a:lnTo>
                  <a:pt x="4" y="73"/>
                </a:lnTo>
                <a:lnTo>
                  <a:pt x="2" y="67"/>
                </a:lnTo>
                <a:lnTo>
                  <a:pt x="0" y="60"/>
                </a:lnTo>
                <a:lnTo>
                  <a:pt x="0" y="53"/>
                </a:lnTo>
                <a:lnTo>
                  <a:pt x="0" y="0"/>
                </a:lnTo>
                <a:lnTo>
                  <a:pt x="13" y="0"/>
                </a:lnTo>
                <a:lnTo>
                  <a:pt x="13" y="46"/>
                </a:lnTo>
                <a:lnTo>
                  <a:pt x="13" y="51"/>
                </a:lnTo>
                <a:lnTo>
                  <a:pt x="13" y="57"/>
                </a:lnTo>
                <a:lnTo>
                  <a:pt x="13" y="60"/>
                </a:lnTo>
                <a:lnTo>
                  <a:pt x="15" y="66"/>
                </a:lnTo>
                <a:lnTo>
                  <a:pt x="17" y="69"/>
                </a:lnTo>
                <a:lnTo>
                  <a:pt x="18" y="71"/>
                </a:lnTo>
                <a:lnTo>
                  <a:pt x="22" y="73"/>
                </a:lnTo>
                <a:lnTo>
                  <a:pt x="26" y="73"/>
                </a:lnTo>
                <a:lnTo>
                  <a:pt x="30" y="73"/>
                </a:lnTo>
                <a:lnTo>
                  <a:pt x="33" y="71"/>
                </a:lnTo>
                <a:lnTo>
                  <a:pt x="37" y="69"/>
                </a:lnTo>
                <a:lnTo>
                  <a:pt x="37" y="66"/>
                </a:lnTo>
                <a:lnTo>
                  <a:pt x="39" y="60"/>
                </a:lnTo>
                <a:lnTo>
                  <a:pt x="39" y="57"/>
                </a:lnTo>
                <a:lnTo>
                  <a:pt x="39" y="51"/>
                </a:lnTo>
                <a:lnTo>
                  <a:pt x="39" y="46"/>
                </a:lnTo>
                <a:lnTo>
                  <a:pt x="39" y="0"/>
                </a:lnTo>
                <a:lnTo>
                  <a:pt x="5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 name=""/>
          <p:cNvSpPr/>
          <p:nvPr/>
        </p:nvSpPr>
        <p:spPr>
          <a:xfrm>
            <a:off x="5842080" y="6607080"/>
            <a:ext cx="82440" cy="135000"/>
          </a:xfrm>
          <a:custGeom>
            <a:avLst/>
            <a:gdLst/>
            <a:ahLst/>
            <a:rect l="l" t="t" r="r" b="b"/>
            <a:pathLst>
              <a:path w="52" h="85">
                <a:moveTo>
                  <a:pt x="0" y="0"/>
                </a:moveTo>
                <a:lnTo>
                  <a:pt x="52" y="0"/>
                </a:lnTo>
                <a:lnTo>
                  <a:pt x="52" y="14"/>
                </a:lnTo>
                <a:lnTo>
                  <a:pt x="33" y="14"/>
                </a:lnTo>
                <a:lnTo>
                  <a:pt x="33" y="85"/>
                </a:lnTo>
                <a:lnTo>
                  <a:pt x="18" y="85"/>
                </a:lnTo>
                <a:lnTo>
                  <a:pt x="18" y="14"/>
                </a:lnTo>
                <a:lnTo>
                  <a:pt x="0" y="14"/>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 name=""/>
          <p:cNvSpPr/>
          <p:nvPr/>
        </p:nvSpPr>
        <p:spPr>
          <a:xfrm>
            <a:off x="6014880" y="6607080"/>
            <a:ext cx="22320" cy="135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 name=""/>
          <p:cNvSpPr/>
          <p:nvPr/>
        </p:nvSpPr>
        <p:spPr>
          <a:xfrm>
            <a:off x="6132600" y="6603840"/>
            <a:ext cx="95040" cy="141480"/>
          </a:xfrm>
          <a:custGeom>
            <a:avLst/>
            <a:gdLst/>
            <a:ahLst/>
            <a:rect l="l" t="t" r="r" b="b"/>
            <a:pathLst>
              <a:path w="59" h="89">
                <a:moveTo>
                  <a:pt x="0" y="45"/>
                </a:moveTo>
                <a:lnTo>
                  <a:pt x="0" y="36"/>
                </a:lnTo>
                <a:lnTo>
                  <a:pt x="0" y="27"/>
                </a:lnTo>
                <a:lnTo>
                  <a:pt x="4" y="20"/>
                </a:lnTo>
                <a:lnTo>
                  <a:pt x="6" y="12"/>
                </a:lnTo>
                <a:lnTo>
                  <a:pt x="11" y="7"/>
                </a:lnTo>
                <a:lnTo>
                  <a:pt x="15" y="4"/>
                </a:lnTo>
                <a:lnTo>
                  <a:pt x="22" y="2"/>
                </a:lnTo>
                <a:lnTo>
                  <a:pt x="30" y="0"/>
                </a:lnTo>
                <a:lnTo>
                  <a:pt x="35" y="2"/>
                </a:lnTo>
                <a:lnTo>
                  <a:pt x="43" y="4"/>
                </a:lnTo>
                <a:lnTo>
                  <a:pt x="48" y="7"/>
                </a:lnTo>
                <a:lnTo>
                  <a:pt x="52" y="12"/>
                </a:lnTo>
                <a:lnTo>
                  <a:pt x="54" y="20"/>
                </a:lnTo>
                <a:lnTo>
                  <a:pt x="57" y="27"/>
                </a:lnTo>
                <a:lnTo>
                  <a:pt x="57" y="36"/>
                </a:lnTo>
                <a:lnTo>
                  <a:pt x="59" y="45"/>
                </a:lnTo>
                <a:lnTo>
                  <a:pt x="57" y="53"/>
                </a:lnTo>
                <a:lnTo>
                  <a:pt x="57" y="62"/>
                </a:lnTo>
                <a:lnTo>
                  <a:pt x="54" y="69"/>
                </a:lnTo>
                <a:lnTo>
                  <a:pt x="52" y="77"/>
                </a:lnTo>
                <a:lnTo>
                  <a:pt x="48" y="82"/>
                </a:lnTo>
                <a:lnTo>
                  <a:pt x="43" y="85"/>
                </a:lnTo>
                <a:lnTo>
                  <a:pt x="35" y="87"/>
                </a:lnTo>
                <a:lnTo>
                  <a:pt x="30" y="89"/>
                </a:lnTo>
                <a:lnTo>
                  <a:pt x="22" y="87"/>
                </a:lnTo>
                <a:lnTo>
                  <a:pt x="15" y="85"/>
                </a:lnTo>
                <a:lnTo>
                  <a:pt x="11" y="82"/>
                </a:lnTo>
                <a:lnTo>
                  <a:pt x="6" y="77"/>
                </a:lnTo>
                <a:lnTo>
                  <a:pt x="4" y="69"/>
                </a:lnTo>
                <a:lnTo>
                  <a:pt x="0" y="62"/>
                </a:lnTo>
                <a:lnTo>
                  <a:pt x="0" y="53"/>
                </a:lnTo>
                <a:lnTo>
                  <a:pt x="0" y="45"/>
                </a:lnTo>
                <a:close/>
                <a:moveTo>
                  <a:pt x="13" y="45"/>
                </a:moveTo>
                <a:lnTo>
                  <a:pt x="13" y="50"/>
                </a:lnTo>
                <a:lnTo>
                  <a:pt x="13" y="55"/>
                </a:lnTo>
                <a:lnTo>
                  <a:pt x="15" y="61"/>
                </a:lnTo>
                <a:lnTo>
                  <a:pt x="17" y="66"/>
                </a:lnTo>
                <a:lnTo>
                  <a:pt x="19" y="69"/>
                </a:lnTo>
                <a:lnTo>
                  <a:pt x="20" y="73"/>
                </a:lnTo>
                <a:lnTo>
                  <a:pt x="24" y="75"/>
                </a:lnTo>
                <a:lnTo>
                  <a:pt x="30" y="75"/>
                </a:lnTo>
                <a:lnTo>
                  <a:pt x="33" y="75"/>
                </a:lnTo>
                <a:lnTo>
                  <a:pt x="37" y="73"/>
                </a:lnTo>
                <a:lnTo>
                  <a:pt x="39" y="69"/>
                </a:lnTo>
                <a:lnTo>
                  <a:pt x="41" y="66"/>
                </a:lnTo>
                <a:lnTo>
                  <a:pt x="43" y="61"/>
                </a:lnTo>
                <a:lnTo>
                  <a:pt x="44" y="55"/>
                </a:lnTo>
                <a:lnTo>
                  <a:pt x="44" y="50"/>
                </a:lnTo>
                <a:lnTo>
                  <a:pt x="44" y="45"/>
                </a:lnTo>
                <a:lnTo>
                  <a:pt x="44" y="39"/>
                </a:lnTo>
                <a:lnTo>
                  <a:pt x="44" y="34"/>
                </a:lnTo>
                <a:lnTo>
                  <a:pt x="43" y="29"/>
                </a:lnTo>
                <a:lnTo>
                  <a:pt x="41" y="23"/>
                </a:lnTo>
                <a:lnTo>
                  <a:pt x="39" y="20"/>
                </a:lnTo>
                <a:lnTo>
                  <a:pt x="37" y="16"/>
                </a:lnTo>
                <a:lnTo>
                  <a:pt x="33" y="14"/>
                </a:lnTo>
                <a:lnTo>
                  <a:pt x="30" y="14"/>
                </a:lnTo>
                <a:lnTo>
                  <a:pt x="24" y="14"/>
                </a:lnTo>
                <a:lnTo>
                  <a:pt x="20" y="16"/>
                </a:lnTo>
                <a:lnTo>
                  <a:pt x="19" y="20"/>
                </a:lnTo>
                <a:lnTo>
                  <a:pt x="17" y="23"/>
                </a:lnTo>
                <a:lnTo>
                  <a:pt x="15" y="29"/>
                </a:lnTo>
                <a:lnTo>
                  <a:pt x="13" y="34"/>
                </a:lnTo>
                <a:lnTo>
                  <a:pt x="13" y="39"/>
                </a:lnTo>
                <a:lnTo>
                  <a:pt x="13"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 name=""/>
          <p:cNvSpPr/>
          <p:nvPr/>
        </p:nvSpPr>
        <p:spPr>
          <a:xfrm>
            <a:off x="6319800" y="6607080"/>
            <a:ext cx="92160" cy="135000"/>
          </a:xfrm>
          <a:custGeom>
            <a:avLst/>
            <a:gdLst/>
            <a:ahLst/>
            <a:rect l="l" t="t" r="r" b="b"/>
            <a:pathLst>
              <a:path w="58" h="85">
                <a:moveTo>
                  <a:pt x="37" y="85"/>
                </a:moveTo>
                <a:lnTo>
                  <a:pt x="13" y="14"/>
                </a:lnTo>
                <a:lnTo>
                  <a:pt x="13" y="14"/>
                </a:lnTo>
                <a:lnTo>
                  <a:pt x="13" y="85"/>
                </a:lnTo>
                <a:lnTo>
                  <a:pt x="0" y="85"/>
                </a:lnTo>
                <a:lnTo>
                  <a:pt x="0" y="0"/>
                </a:lnTo>
                <a:lnTo>
                  <a:pt x="21" y="0"/>
                </a:lnTo>
                <a:lnTo>
                  <a:pt x="45" y="67"/>
                </a:lnTo>
                <a:lnTo>
                  <a:pt x="45" y="66"/>
                </a:lnTo>
                <a:lnTo>
                  <a:pt x="45" y="0"/>
                </a:lnTo>
                <a:lnTo>
                  <a:pt x="58" y="0"/>
                </a:lnTo>
                <a:lnTo>
                  <a:pt x="58" y="85"/>
                </a:lnTo>
                <a:lnTo>
                  <a:pt x="37"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 name=""/>
          <p:cNvSpPr/>
          <p:nvPr/>
        </p:nvSpPr>
        <p:spPr>
          <a:xfrm>
            <a:off x="6507000" y="6603840"/>
            <a:ext cx="78120" cy="141480"/>
          </a:xfrm>
          <a:custGeom>
            <a:avLst/>
            <a:gdLst/>
            <a:ahLst/>
            <a:rect l="l" t="t" r="r" b="b"/>
            <a:pathLst>
              <a:path w="50" h="89">
                <a:moveTo>
                  <a:pt x="35" y="27"/>
                </a:moveTo>
                <a:lnTo>
                  <a:pt x="35" y="23"/>
                </a:lnTo>
                <a:lnTo>
                  <a:pt x="35" y="21"/>
                </a:lnTo>
                <a:lnTo>
                  <a:pt x="33" y="18"/>
                </a:lnTo>
                <a:lnTo>
                  <a:pt x="33" y="16"/>
                </a:lnTo>
                <a:lnTo>
                  <a:pt x="31" y="16"/>
                </a:lnTo>
                <a:lnTo>
                  <a:pt x="30" y="14"/>
                </a:lnTo>
                <a:lnTo>
                  <a:pt x="28" y="14"/>
                </a:lnTo>
                <a:lnTo>
                  <a:pt x="26" y="14"/>
                </a:lnTo>
                <a:lnTo>
                  <a:pt x="24" y="14"/>
                </a:lnTo>
                <a:lnTo>
                  <a:pt x="22" y="14"/>
                </a:lnTo>
                <a:lnTo>
                  <a:pt x="20" y="14"/>
                </a:lnTo>
                <a:lnTo>
                  <a:pt x="19" y="16"/>
                </a:lnTo>
                <a:lnTo>
                  <a:pt x="17" y="18"/>
                </a:lnTo>
                <a:lnTo>
                  <a:pt x="17" y="20"/>
                </a:lnTo>
                <a:lnTo>
                  <a:pt x="15" y="21"/>
                </a:lnTo>
                <a:lnTo>
                  <a:pt x="15" y="25"/>
                </a:lnTo>
                <a:lnTo>
                  <a:pt x="15" y="27"/>
                </a:lnTo>
                <a:lnTo>
                  <a:pt x="17" y="30"/>
                </a:lnTo>
                <a:lnTo>
                  <a:pt x="17" y="32"/>
                </a:lnTo>
                <a:lnTo>
                  <a:pt x="19" y="34"/>
                </a:lnTo>
                <a:lnTo>
                  <a:pt x="20" y="34"/>
                </a:lnTo>
                <a:lnTo>
                  <a:pt x="22" y="36"/>
                </a:lnTo>
                <a:lnTo>
                  <a:pt x="24" y="36"/>
                </a:lnTo>
                <a:lnTo>
                  <a:pt x="26" y="36"/>
                </a:lnTo>
                <a:lnTo>
                  <a:pt x="30" y="37"/>
                </a:lnTo>
                <a:lnTo>
                  <a:pt x="35" y="39"/>
                </a:lnTo>
                <a:lnTo>
                  <a:pt x="39" y="41"/>
                </a:lnTo>
                <a:lnTo>
                  <a:pt x="43" y="43"/>
                </a:lnTo>
                <a:lnTo>
                  <a:pt x="44" y="46"/>
                </a:lnTo>
                <a:lnTo>
                  <a:pt x="48" y="50"/>
                </a:lnTo>
                <a:lnTo>
                  <a:pt x="50" y="55"/>
                </a:lnTo>
                <a:lnTo>
                  <a:pt x="50" y="61"/>
                </a:lnTo>
                <a:lnTo>
                  <a:pt x="50" y="68"/>
                </a:lnTo>
                <a:lnTo>
                  <a:pt x="48" y="73"/>
                </a:lnTo>
                <a:lnTo>
                  <a:pt x="44" y="78"/>
                </a:lnTo>
                <a:lnTo>
                  <a:pt x="41" y="82"/>
                </a:lnTo>
                <a:lnTo>
                  <a:pt x="37" y="85"/>
                </a:lnTo>
                <a:lnTo>
                  <a:pt x="33" y="87"/>
                </a:lnTo>
                <a:lnTo>
                  <a:pt x="28" y="87"/>
                </a:lnTo>
                <a:lnTo>
                  <a:pt x="24" y="89"/>
                </a:lnTo>
                <a:lnTo>
                  <a:pt x="19" y="87"/>
                </a:lnTo>
                <a:lnTo>
                  <a:pt x="13" y="87"/>
                </a:lnTo>
                <a:lnTo>
                  <a:pt x="9" y="85"/>
                </a:lnTo>
                <a:lnTo>
                  <a:pt x="6" y="82"/>
                </a:lnTo>
                <a:lnTo>
                  <a:pt x="4" y="78"/>
                </a:lnTo>
                <a:lnTo>
                  <a:pt x="2" y="73"/>
                </a:lnTo>
                <a:lnTo>
                  <a:pt x="0" y="68"/>
                </a:lnTo>
                <a:lnTo>
                  <a:pt x="0" y="59"/>
                </a:lnTo>
                <a:lnTo>
                  <a:pt x="13" y="59"/>
                </a:lnTo>
                <a:lnTo>
                  <a:pt x="13" y="62"/>
                </a:lnTo>
                <a:lnTo>
                  <a:pt x="13" y="66"/>
                </a:lnTo>
                <a:lnTo>
                  <a:pt x="15" y="69"/>
                </a:lnTo>
                <a:lnTo>
                  <a:pt x="15" y="71"/>
                </a:lnTo>
                <a:lnTo>
                  <a:pt x="17" y="73"/>
                </a:lnTo>
                <a:lnTo>
                  <a:pt x="19" y="75"/>
                </a:lnTo>
                <a:lnTo>
                  <a:pt x="20" y="75"/>
                </a:lnTo>
                <a:lnTo>
                  <a:pt x="24" y="75"/>
                </a:lnTo>
                <a:lnTo>
                  <a:pt x="26" y="75"/>
                </a:lnTo>
                <a:lnTo>
                  <a:pt x="28" y="75"/>
                </a:lnTo>
                <a:lnTo>
                  <a:pt x="30" y="75"/>
                </a:lnTo>
                <a:lnTo>
                  <a:pt x="31" y="73"/>
                </a:lnTo>
                <a:lnTo>
                  <a:pt x="33" y="71"/>
                </a:lnTo>
                <a:lnTo>
                  <a:pt x="35" y="69"/>
                </a:lnTo>
                <a:lnTo>
                  <a:pt x="35" y="68"/>
                </a:lnTo>
                <a:lnTo>
                  <a:pt x="35" y="64"/>
                </a:lnTo>
                <a:lnTo>
                  <a:pt x="35" y="61"/>
                </a:lnTo>
                <a:lnTo>
                  <a:pt x="35" y="59"/>
                </a:lnTo>
                <a:lnTo>
                  <a:pt x="33" y="57"/>
                </a:lnTo>
                <a:lnTo>
                  <a:pt x="31" y="55"/>
                </a:lnTo>
                <a:lnTo>
                  <a:pt x="28" y="53"/>
                </a:lnTo>
                <a:lnTo>
                  <a:pt x="26" y="53"/>
                </a:lnTo>
                <a:lnTo>
                  <a:pt x="24" y="52"/>
                </a:lnTo>
                <a:lnTo>
                  <a:pt x="22" y="52"/>
                </a:lnTo>
                <a:lnTo>
                  <a:pt x="19" y="50"/>
                </a:lnTo>
                <a:lnTo>
                  <a:pt x="15" y="48"/>
                </a:lnTo>
                <a:lnTo>
                  <a:pt x="11" y="46"/>
                </a:lnTo>
                <a:lnTo>
                  <a:pt x="7" y="45"/>
                </a:lnTo>
                <a:lnTo>
                  <a:pt x="6" y="41"/>
                </a:lnTo>
                <a:lnTo>
                  <a:pt x="4" y="37"/>
                </a:lnTo>
                <a:lnTo>
                  <a:pt x="2" y="34"/>
                </a:lnTo>
                <a:lnTo>
                  <a:pt x="2" y="29"/>
                </a:lnTo>
                <a:lnTo>
                  <a:pt x="2" y="21"/>
                </a:lnTo>
                <a:lnTo>
                  <a:pt x="4" y="16"/>
                </a:lnTo>
                <a:lnTo>
                  <a:pt x="6" y="11"/>
                </a:lnTo>
                <a:lnTo>
                  <a:pt x="9" y="7"/>
                </a:lnTo>
                <a:lnTo>
                  <a:pt x="13" y="4"/>
                </a:lnTo>
                <a:lnTo>
                  <a:pt x="17" y="2"/>
                </a:lnTo>
                <a:lnTo>
                  <a:pt x="22" y="0"/>
                </a:lnTo>
                <a:lnTo>
                  <a:pt x="28" y="0"/>
                </a:lnTo>
                <a:lnTo>
                  <a:pt x="31" y="0"/>
                </a:lnTo>
                <a:lnTo>
                  <a:pt x="35" y="2"/>
                </a:lnTo>
                <a:lnTo>
                  <a:pt x="39" y="4"/>
                </a:lnTo>
                <a:lnTo>
                  <a:pt x="43" y="7"/>
                </a:lnTo>
                <a:lnTo>
                  <a:pt x="44" y="11"/>
                </a:lnTo>
                <a:lnTo>
                  <a:pt x="46" y="14"/>
                </a:lnTo>
                <a:lnTo>
                  <a:pt x="48" y="20"/>
                </a:lnTo>
                <a:lnTo>
                  <a:pt x="48" y="27"/>
                </a:lnTo>
                <a:lnTo>
                  <a:pt x="35" y="2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 name="PlaceHolder 2"/>
          <p:cNvSpPr>
            <a:spLocks noGrp="1"/>
          </p:cNvSpPr>
          <p:nvPr>
            <p:ph type="dt" idx="1"/>
          </p:nvPr>
        </p:nvSpPr>
        <p:spPr>
          <a:xfrm>
            <a:off x="533160" y="6095880"/>
            <a:ext cx="190476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31" name="PlaceHolder 3"/>
          <p:cNvSpPr>
            <a:spLocks noGrp="1"/>
          </p:cNvSpPr>
          <p:nvPr>
            <p:ph type="sldNum" idx="2"/>
          </p:nvPr>
        </p:nvSpPr>
        <p:spPr>
          <a:xfrm>
            <a:off x="6781680" y="609588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085F13-9DB2-4266-9B48-2503D7D4CB42}"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pic>
        <p:nvPicPr>
          <p:cNvPr id="32" name="" descr=""/>
          <p:cNvPicPr/>
          <p:nvPr/>
        </p:nvPicPr>
        <p:blipFill>
          <a:blip r:embed="rId2"/>
          <a:stretch/>
        </p:blipFill>
        <p:spPr>
          <a:xfrm>
            <a:off x="0" y="6321600"/>
            <a:ext cx="9144000" cy="536400"/>
          </a:xfrm>
          <a:prstGeom prst="rect">
            <a:avLst/>
          </a:prstGeom>
          <a:ln w="0">
            <a:noFill/>
          </a:ln>
        </p:spPr>
      </p:pic>
      <p:pic>
        <p:nvPicPr>
          <p:cNvPr id="33" name="" descr=""/>
          <p:cNvPicPr/>
          <p:nvPr/>
        </p:nvPicPr>
        <p:blipFill>
          <a:blip r:embed="rId3"/>
          <a:srcRect l="12000" t="22000" r="12000" b="16000"/>
          <a:stretch/>
        </p:blipFill>
        <p:spPr>
          <a:xfrm>
            <a:off x="0" y="0"/>
            <a:ext cx="1676520" cy="1352520"/>
          </a:xfrm>
          <a:prstGeom prst="rect">
            <a:avLst/>
          </a:prstGeom>
          <a:ln w="0">
            <a:noFill/>
          </a:ln>
        </p:spPr>
      </p:pic>
      <p:sp>
        <p:nvSpPr>
          <p:cNvPr id="34"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wmf"/><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wmf"/><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838080" y="1066680"/>
            <a:ext cx="7772400" cy="1470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EDVs calculation using MathCad </a:t>
            </a:r>
            <a:endParaRPr b="1" lang="en-US" sz="2800" spc="-1" strike="noStrike">
              <a:solidFill>
                <a:srgbClr val="000000"/>
              </a:solidFill>
              <a:latin typeface="Arial"/>
            </a:endParaRPr>
          </a:p>
        </p:txBody>
      </p:sp>
      <p:sp>
        <p:nvSpPr>
          <p:cNvPr id="72" name="PlaceHolder 2"/>
          <p:cNvSpPr>
            <a:spLocks noGrp="1"/>
          </p:cNvSpPr>
          <p:nvPr>
            <p:ph type="subTitle"/>
          </p:nvPr>
        </p:nvSpPr>
        <p:spPr>
          <a:xfrm>
            <a:off x="2303640" y="3033360"/>
            <a:ext cx="3132000" cy="297180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utline</a:t>
            </a:r>
            <a:endParaRPr b="0" lang="en-US" sz="2800" spc="-1" strike="noStrike">
              <a:solidFill>
                <a:srgbClr val="000000"/>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 concept</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ired data</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 structure</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p-by-step guide</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anced settings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2FD32CAA-4D7E-41E1-B185-05D8ACD9B24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gram structure</a:t>
            </a:r>
            <a:endParaRPr b="1" lang="en-US" sz="2800" spc="-1" strike="noStrike">
              <a:solidFill>
                <a:srgbClr val="000000"/>
              </a:solidFill>
              <a:latin typeface="Arial"/>
            </a:endParaRPr>
          </a:p>
        </p:txBody>
      </p:sp>
      <p:sp>
        <p:nvSpPr>
          <p:cNvPr id="199" name="PlaceHolder 2"/>
          <p:cNvSpPr>
            <a:spLocks noGrp="1"/>
          </p:cNvSpPr>
          <p:nvPr>
            <p:ph/>
          </p:nvPr>
        </p:nvSpPr>
        <p:spPr>
          <a:xfrm>
            <a:off x="837720" y="990360"/>
            <a:ext cx="7696440" cy="52578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r parameters inpu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erimental data reading and pre-processing to produce standardized SOC,V,T,I matrixe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ear fit of the data to produce initial guess for CEDV parameter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linear fit of the data to produce final parameters achieving best fit of all loads and temperature dat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y EDV TC to achieve best fit of low-temperature dat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iewing of fit quality and resulting parameters</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010153B4-6496-4315-8E4C-8FE9E63638F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er parameter input</a:t>
            </a:r>
            <a:endParaRPr b="1" lang="en-US" sz="2400" spc="-1" strike="noStrike">
              <a:solidFill>
                <a:srgbClr val="000000"/>
              </a:solidFill>
              <a:latin typeface="Arial"/>
            </a:endParaRPr>
          </a:p>
        </p:txBody>
      </p:sp>
      <p:sp>
        <p:nvSpPr>
          <p:cNvPr id="201" name="PlaceHolder 2"/>
          <p:cNvSpPr>
            <a:spLocks noGrp="1"/>
          </p:cNvSpPr>
          <p:nvPr>
            <p:ph/>
          </p:nvPr>
        </p:nvSpPr>
        <p:spPr>
          <a:xfrm>
            <a:off x="304560" y="4190760"/>
            <a:ext cx="8458200" cy="1981080"/>
          </a:xfrm>
          <a:prstGeom prst="rect">
            <a:avLst/>
          </a:prstGeom>
          <a:noFill/>
          <a:ln w="0">
            <a:noFill/>
          </a:ln>
        </p:spPr>
        <p:txBody>
          <a:bodyPr lIns="90000" rIns="90000" tIns="46800" bIns="46800" anchor="t">
            <a:normAutofit/>
          </a:bodyPr>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Usage related parameters:</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eserve capacity </a:t>
            </a:r>
            <a:r>
              <a:rPr b="0" lang="en-US" sz="900" spc="-1" strike="noStrike">
                <a:solidFill>
                  <a:srgbClr val="3333cc"/>
                </a:solidFill>
                <a:latin typeface="Arial"/>
              </a:rPr>
              <a:t>Q_reserve</a:t>
            </a:r>
            <a:r>
              <a:rPr b="0" lang="en-US" sz="900" spc="-1" strike="noStrike">
                <a:solidFill>
                  <a:srgbClr val="000000"/>
                </a:solidFill>
                <a:latin typeface="Arial"/>
              </a:rPr>
              <a:t> defines how much capacity will be left when EDV0 is detected by GG</a:t>
            </a:r>
            <a:endParaRPr b="0" lang="en-US" sz="900" spc="-1" strike="noStrike">
              <a:solidFill>
                <a:srgbClr val="000000"/>
              </a:solidFill>
              <a:latin typeface="Arial"/>
            </a:endParaRPr>
          </a:p>
          <a:p>
            <a:pPr marL="343080" indent="-343080">
              <a:lnSpc>
                <a:spcPct val="80000"/>
              </a:lnSpc>
              <a:spcBef>
                <a:spcPts val="224"/>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cc"/>
                </a:solidFill>
                <a:latin typeface="Arial"/>
              </a:rPr>
              <a:t>EDV</a:t>
            </a:r>
            <a:r>
              <a:rPr b="0" lang="en-US" sz="900" spc="-1" strike="noStrike">
                <a:solidFill>
                  <a:srgbClr val="000000"/>
                </a:solidFill>
                <a:latin typeface="Arial"/>
              </a:rPr>
              <a:t> is the termination voltage for single cell</a:t>
            </a: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N is number of serial cells</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ata columns assignment</a:t>
            </a: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o be changed if new data format is used. Uses zero-origin, so the first column of the file will have index 0</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dditional parameters (usually no need to change):</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nly part of voltage profile is modeled by CEDV parameters. </a:t>
            </a:r>
            <a:r>
              <a:rPr b="0" lang="en-US" sz="900" spc="-1" strike="noStrike">
                <a:solidFill>
                  <a:srgbClr val="3333cc"/>
                </a:solidFill>
                <a:latin typeface="Arial"/>
              </a:rPr>
              <a:t>SOClim</a:t>
            </a:r>
            <a:r>
              <a:rPr b="0" lang="en-US" sz="900" spc="-1" strike="noStrike">
                <a:solidFill>
                  <a:srgbClr val="000000"/>
                </a:solidFill>
                <a:latin typeface="Arial"/>
              </a:rPr>
              <a:t> defines how much percent of SOC from the end will be covered.</a:t>
            </a: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Voltage profile very near the end of charge is distorted. </a:t>
            </a:r>
            <a:r>
              <a:rPr b="0" lang="en-US" sz="900" spc="-1" strike="noStrike">
                <a:solidFill>
                  <a:srgbClr val="3333cc"/>
                </a:solidFill>
                <a:latin typeface="Arial"/>
              </a:rPr>
              <a:t>SOCmin</a:t>
            </a:r>
            <a:r>
              <a:rPr b="0" lang="en-US" sz="900" spc="-1" strike="noStrike">
                <a:solidFill>
                  <a:srgbClr val="000000"/>
                </a:solidFill>
                <a:latin typeface="Arial"/>
              </a:rPr>
              <a:t> defines how much (% of SOC) from the end has to be dropped</a:t>
            </a:r>
            <a:endParaRPr b="0" lang="en-US" sz="900" spc="-1" strike="noStrike">
              <a:solidFill>
                <a:srgbClr val="000000"/>
              </a:solidFill>
              <a:latin typeface="Arial"/>
            </a:endParaRPr>
          </a:p>
        </p:txBody>
      </p:sp>
      <p:pic>
        <p:nvPicPr>
          <p:cNvPr id="202" name="" descr=""/>
          <p:cNvPicPr/>
          <p:nvPr/>
        </p:nvPicPr>
        <p:blipFill>
          <a:blip r:embed="rId1"/>
          <a:stretch/>
        </p:blipFill>
        <p:spPr>
          <a:xfrm>
            <a:off x="152280" y="1295280"/>
            <a:ext cx="7220160" cy="2600280"/>
          </a:xfrm>
          <a:prstGeom prst="rect">
            <a:avLst/>
          </a:prstGeom>
          <a:ln w="0">
            <a:noFill/>
          </a:ln>
        </p:spPr>
      </p:pic>
      <p:sp>
        <p:nvSpPr>
          <p:cNvPr id="4" name="PlaceHolder 3"/>
          <p:cNvSpPr>
            <a:spLocks noGrp="1"/>
          </p:cNvSpPr>
          <p:nvPr>
            <p:ph type="sldNum" idx="2"/>
          </p:nvPr>
        </p:nvSpPr>
        <p:spPr/>
        <p:txBody>
          <a:bodyPr/>
          <a:p>
            <a:fld id="{CD2A00D8-B30A-466F-BD59-E629A958C87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perimental data reading and pre-processing to produce standardized SOC,V,T,I matrixes</a:t>
            </a:r>
            <a:endParaRPr b="1" lang="en-US" sz="2000" spc="-1" strike="noStrike">
              <a:solidFill>
                <a:srgbClr val="000000"/>
              </a:solidFill>
              <a:latin typeface="Arial"/>
            </a:endParaRPr>
          </a:p>
        </p:txBody>
      </p:sp>
      <p:sp>
        <p:nvSpPr>
          <p:cNvPr id="204" name="PlaceHolder 2"/>
          <p:cNvSpPr>
            <a:spLocks noGrp="1"/>
          </p:cNvSpPr>
          <p:nvPr>
            <p:ph/>
          </p:nvPr>
        </p:nvSpPr>
        <p:spPr>
          <a:xfrm>
            <a:off x="3887280" y="1015920"/>
            <a:ext cx="4977000" cy="504216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ing and processing </a:t>
            </a:r>
            <a:r>
              <a:rPr b="0" lang="en-US" sz="2000" spc="-1" strike="noStrike">
                <a:solidFill>
                  <a:srgbClr val="3333cc"/>
                </a:solidFill>
                <a:latin typeface="Arial"/>
              </a:rPr>
              <a:t>normal temperature</a:t>
            </a:r>
            <a:r>
              <a:rPr b="0" lang="en-US" sz="2000" spc="-1" strike="noStrike">
                <a:solidFill>
                  <a:srgbClr val="000000"/>
                </a:solidFill>
                <a:latin typeface="Arial"/>
              </a:rPr>
              <a:t> fil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ign matrixes A to low-load data, B2 to middle-load and B to high load dat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ing and processing </a:t>
            </a:r>
            <a:r>
              <a:rPr b="0" lang="en-US" sz="2000" spc="-1" strike="noStrike">
                <a:solidFill>
                  <a:srgbClr val="3333cc"/>
                </a:solidFill>
                <a:latin typeface="Arial"/>
              </a:rPr>
              <a:t>high temperature</a:t>
            </a:r>
            <a:r>
              <a:rPr b="0" lang="en-US" sz="2000" spc="-1" strike="noStrike">
                <a:solidFill>
                  <a:srgbClr val="000000"/>
                </a:solidFill>
                <a:latin typeface="Arial"/>
              </a:rPr>
              <a:t> fil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ign matrixes C2 to middle-load and C to high load dat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ing and processing </a:t>
            </a:r>
            <a:r>
              <a:rPr b="0" lang="en-US" sz="2000" spc="-1" strike="noStrike">
                <a:solidFill>
                  <a:srgbClr val="3333cc"/>
                </a:solidFill>
                <a:latin typeface="Arial"/>
              </a:rPr>
              <a:t>low temperature</a:t>
            </a:r>
            <a:r>
              <a:rPr b="0" lang="en-US" sz="2000" spc="-1" strike="noStrike">
                <a:solidFill>
                  <a:srgbClr val="000000"/>
                </a:solidFill>
                <a:latin typeface="Arial"/>
              </a:rPr>
              <a:t> fil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ign matrixes D2 to middle-load and D to high load data</a:t>
            </a:r>
            <a:endParaRPr b="0" lang="en-US" sz="2000" spc="-1" strike="noStrike">
              <a:solidFill>
                <a:srgbClr val="000000"/>
              </a:solidFill>
              <a:latin typeface="Arial"/>
            </a:endParaRPr>
          </a:p>
        </p:txBody>
      </p:sp>
      <p:pic>
        <p:nvPicPr>
          <p:cNvPr id="205" name="" descr=""/>
          <p:cNvPicPr/>
          <p:nvPr/>
        </p:nvPicPr>
        <p:blipFill>
          <a:blip r:embed="rId1"/>
          <a:stretch/>
        </p:blipFill>
        <p:spPr>
          <a:xfrm>
            <a:off x="304920" y="1752480"/>
            <a:ext cx="3352680" cy="542880"/>
          </a:xfrm>
          <a:prstGeom prst="rect">
            <a:avLst/>
          </a:prstGeom>
          <a:ln w="0">
            <a:noFill/>
          </a:ln>
        </p:spPr>
      </p:pic>
      <p:pic>
        <p:nvPicPr>
          <p:cNvPr id="206" name="" descr=""/>
          <p:cNvPicPr/>
          <p:nvPr/>
        </p:nvPicPr>
        <p:blipFill>
          <a:blip r:embed="rId2"/>
          <a:stretch/>
        </p:blipFill>
        <p:spPr>
          <a:xfrm>
            <a:off x="380880" y="2666880"/>
            <a:ext cx="3400560" cy="571680"/>
          </a:xfrm>
          <a:prstGeom prst="rect">
            <a:avLst/>
          </a:prstGeom>
          <a:ln w="0">
            <a:noFill/>
          </a:ln>
        </p:spPr>
      </p:pic>
      <p:pic>
        <p:nvPicPr>
          <p:cNvPr id="207" name="" descr=""/>
          <p:cNvPicPr/>
          <p:nvPr/>
        </p:nvPicPr>
        <p:blipFill>
          <a:blip r:embed="rId3"/>
          <a:stretch/>
        </p:blipFill>
        <p:spPr>
          <a:xfrm>
            <a:off x="304920" y="3657600"/>
            <a:ext cx="3628800" cy="571680"/>
          </a:xfrm>
          <a:prstGeom prst="rect">
            <a:avLst/>
          </a:prstGeom>
          <a:ln w="0">
            <a:noFill/>
          </a:ln>
        </p:spPr>
      </p:pic>
      <p:sp>
        <p:nvSpPr>
          <p:cNvPr id="4" name="PlaceHolder 3"/>
          <p:cNvSpPr>
            <a:spLocks noGrp="1"/>
          </p:cNvSpPr>
          <p:nvPr>
            <p:ph type="sldNum" idx="2"/>
          </p:nvPr>
        </p:nvSpPr>
        <p:spPr/>
        <p:txBody>
          <a:bodyPr/>
          <a:p>
            <a:fld id="{000F0D63-867C-4B2B-B8F1-04B719B3BA2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1905120" y="151920"/>
            <a:ext cx="5943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signment of arrays: which current level to use</a:t>
            </a:r>
            <a:endParaRPr b="1" lang="en-US" sz="2400" spc="-1" strike="noStrike">
              <a:solidFill>
                <a:srgbClr val="000000"/>
              </a:solidFill>
              <a:latin typeface="Arial"/>
            </a:endParaRPr>
          </a:p>
        </p:txBody>
      </p:sp>
      <p:sp>
        <p:nvSpPr>
          <p:cNvPr id="209" name="PlaceHolder 2"/>
          <p:cNvSpPr>
            <a:spLocks noGrp="1"/>
          </p:cNvSpPr>
          <p:nvPr>
            <p:ph/>
          </p:nvPr>
        </p:nvSpPr>
        <p:spPr>
          <a:xfrm>
            <a:off x="468360" y="1520640"/>
            <a:ext cx="8331120" cy="442908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choice which current level (middle/second or maximal/third) to use for linear fit determining of R(SOC,T) defining parameters</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ually the maximal gives best results and gives more conservative estimat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bsequent non-linear fit will use both current data</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parsing routine places the voltages at the end of each level in arrays OUT1 (low), OUT2 (middle) and OUT3 (max).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use middle current, assign second array to arrays B, C and D as B:=OUT2, C:=OUT2 and D:=OUT2, And B2=OUT3, C2=OUT3, D2:=OUT3</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use maximal current (default), assign third array to arrays B,C and D as B:=OUT3, C:=OUT3, D:=OUT3, And B2=OUT2, C2:=OUT2,D2:=OUT2</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t I=curr[2]*1000 (located after file loading section) to use maximal current, or I=curr[1]*1000 for middle current level.</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BFCE8494-4C90-4197-BFE5-AD91296D51E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ading and processing data-file: section structure</a:t>
            </a:r>
            <a:endParaRPr b="1" lang="en-US" sz="2000" spc="-1" strike="noStrike">
              <a:solidFill>
                <a:srgbClr val="000000"/>
              </a:solidFill>
              <a:latin typeface="Arial"/>
            </a:endParaRPr>
          </a:p>
        </p:txBody>
      </p:sp>
      <p:sp>
        <p:nvSpPr>
          <p:cNvPr id="211" name="PlaceHolder 2"/>
          <p:cNvSpPr>
            <a:spLocks noGrp="1"/>
          </p:cNvSpPr>
          <p:nvPr>
            <p:ph/>
          </p:nvPr>
        </p:nvSpPr>
        <p:spPr>
          <a:xfrm>
            <a:off x="971640" y="980640"/>
            <a:ext cx="7858080" cy="47163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t,V,I,T data from assigned columns of data-fil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the end of charge, and remove charging part of dat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tect currents of each current level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indexes of data-points at the end of each pul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culate charge passed until EDV is reached, Qmax</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culate SOC for all data-points based on Qmax</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first and last indexes which are in the SOC region of inter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ign values of data-points at the end of each pulse in region of interest to output array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5ED47C33-5683-4E2C-B0FE-1C6EF398818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near fit of the data to produce initial guess for CEDV parameters</a:t>
            </a:r>
            <a:endParaRPr b="1" lang="en-US" sz="2400" spc="-1" strike="noStrike">
              <a:solidFill>
                <a:srgbClr val="000000"/>
              </a:solidFill>
              <a:latin typeface="Arial"/>
            </a:endParaRPr>
          </a:p>
        </p:txBody>
      </p:sp>
      <p:sp>
        <p:nvSpPr>
          <p:cNvPr id="213" name="PlaceHolder 2"/>
          <p:cNvSpPr>
            <a:spLocks noGrp="1"/>
          </p:cNvSpPr>
          <p:nvPr>
            <p:ph/>
          </p:nvPr>
        </p:nvSpPr>
        <p:spPr>
          <a:xfrm>
            <a:off x="934920" y="1449360"/>
            <a:ext cx="7858080" cy="3276720"/>
          </a:xfrm>
          <a:prstGeom prst="rect">
            <a:avLst/>
          </a:prstGeom>
          <a:noFill/>
          <a:ln w="0">
            <a:noFill/>
          </a:ln>
        </p:spPr>
        <p:txBody>
          <a:bodyPr lIns="90000" rIns="90000" tIns="46800" bIns="46800" anchor="t">
            <a:normAutofit fontScale="98000"/>
          </a:bodyPr>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ing EMF and C0 parameters</a:t>
            </a:r>
            <a:endParaRPr b="0" lang="en-US" sz="3200" spc="-1" strike="noStrike">
              <a:solidFill>
                <a:srgbClr val="000000"/>
              </a:solidFill>
              <a:latin typeface="Arial"/>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ing R1 parameter</a:t>
            </a:r>
            <a:endParaRPr b="0" lang="en-US" sz="3200" spc="-1" strike="noStrike">
              <a:solidFill>
                <a:srgbClr val="000000"/>
              </a:solidFill>
              <a:latin typeface="Arial"/>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ing R0 and T0 parameter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CE4971D-CD10-4324-90F6-8FD4D1E06A1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ding EMF and C0 parameters</a:t>
            </a:r>
            <a:endParaRPr b="1" lang="en-US" sz="2400" spc="-1" strike="noStrike">
              <a:solidFill>
                <a:srgbClr val="000000"/>
              </a:solidFill>
              <a:latin typeface="Arial"/>
            </a:endParaRPr>
          </a:p>
        </p:txBody>
      </p:sp>
      <p:sp>
        <p:nvSpPr>
          <p:cNvPr id="215" name="PlaceHolder 2"/>
          <p:cNvSpPr>
            <a:spLocks noGrp="1"/>
          </p:cNvSpPr>
          <p:nvPr>
            <p:ph/>
          </p:nvPr>
        </p:nvSpPr>
        <p:spPr>
          <a:xfrm>
            <a:off x="5040360" y="980640"/>
            <a:ext cx="3789360" cy="471636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form low-rate data for normal temperature (matrix A) into form with makes OCV(SOC,T) equation linear in terms of EMF and C0 parameter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ear fit the transformed data to obtain EMF and C0</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ternatively: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se generic EMF and C0 parameters obtained from true open-circuit voltage measurements.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16" name="" descr=""/>
          <p:cNvPicPr/>
          <p:nvPr/>
        </p:nvPicPr>
        <p:blipFill>
          <a:blip r:embed="rId1"/>
          <a:stretch/>
        </p:blipFill>
        <p:spPr>
          <a:xfrm>
            <a:off x="647640" y="1557360"/>
            <a:ext cx="3781440" cy="3857760"/>
          </a:xfrm>
          <a:prstGeom prst="rect">
            <a:avLst/>
          </a:prstGeom>
          <a:ln w="0">
            <a:noFill/>
          </a:ln>
        </p:spPr>
      </p:pic>
      <p:sp>
        <p:nvSpPr>
          <p:cNvPr id="4" name="PlaceHolder 3"/>
          <p:cNvSpPr>
            <a:spLocks noGrp="1"/>
          </p:cNvSpPr>
          <p:nvPr>
            <p:ph type="sldNum" idx="2"/>
          </p:nvPr>
        </p:nvSpPr>
        <p:spPr/>
        <p:txBody>
          <a:bodyPr/>
          <a:p>
            <a:fld id="{C239F58B-75B2-4F9A-9DD4-419FA61A29D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ding R1 parameter</a:t>
            </a:r>
            <a:endParaRPr b="1" lang="en-US" sz="2400" spc="-1" strike="noStrike">
              <a:solidFill>
                <a:srgbClr val="000000"/>
              </a:solidFill>
              <a:latin typeface="Arial"/>
            </a:endParaRPr>
          </a:p>
        </p:txBody>
      </p:sp>
      <p:sp>
        <p:nvSpPr>
          <p:cNvPr id="218" name="PlaceHolder 2"/>
          <p:cNvSpPr>
            <a:spLocks noGrp="1"/>
          </p:cNvSpPr>
          <p:nvPr>
            <p:ph/>
          </p:nvPr>
        </p:nvSpPr>
        <p:spPr>
          <a:xfrm>
            <a:off x="5687640" y="1052640"/>
            <a:ext cx="2987640" cy="40687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culate deviation of measured voltage at high rate (matrix C) from calculation based on no-load assumption, err1 array</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uming that err1 is equal to I*R drop, linear fit the R(SOC) equation to this data find R1 (slope of R(SOC) dependence</a:t>
            </a:r>
            <a:endParaRPr b="0" lang="en-US" sz="2000" spc="-1" strike="noStrike">
              <a:solidFill>
                <a:srgbClr val="000000"/>
              </a:solidFill>
              <a:latin typeface="Arial"/>
            </a:endParaRPr>
          </a:p>
        </p:txBody>
      </p:sp>
      <p:pic>
        <p:nvPicPr>
          <p:cNvPr id="219" name="" descr=""/>
          <p:cNvPicPr/>
          <p:nvPr/>
        </p:nvPicPr>
        <p:blipFill>
          <a:blip r:embed="rId1"/>
          <a:stretch/>
        </p:blipFill>
        <p:spPr>
          <a:xfrm>
            <a:off x="216000" y="1449360"/>
            <a:ext cx="5508360" cy="2681280"/>
          </a:xfrm>
          <a:prstGeom prst="rect">
            <a:avLst/>
          </a:prstGeom>
          <a:ln w="0">
            <a:noFill/>
          </a:ln>
        </p:spPr>
      </p:pic>
      <p:sp>
        <p:nvSpPr>
          <p:cNvPr id="4" name="PlaceHolder 3"/>
          <p:cNvSpPr>
            <a:spLocks noGrp="1"/>
          </p:cNvSpPr>
          <p:nvPr>
            <p:ph type="sldNum" idx="2"/>
          </p:nvPr>
        </p:nvSpPr>
        <p:spPr/>
        <p:txBody>
          <a:bodyPr/>
          <a:p>
            <a:fld id="{6FE2CCA8-7DDA-4E7A-971F-AD6316656B6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ding R0 and T0 parameters</a:t>
            </a:r>
            <a:endParaRPr b="1" lang="en-US" sz="2400" spc="-1" strike="noStrike">
              <a:solidFill>
                <a:srgbClr val="000000"/>
              </a:solidFill>
              <a:latin typeface="Arial"/>
            </a:endParaRPr>
          </a:p>
        </p:txBody>
      </p:sp>
      <p:sp>
        <p:nvSpPr>
          <p:cNvPr id="221" name="PlaceHolder 2"/>
          <p:cNvSpPr>
            <a:spLocks noGrp="1"/>
          </p:cNvSpPr>
          <p:nvPr>
            <p:ph/>
          </p:nvPr>
        </p:nvSpPr>
        <p:spPr>
          <a:xfrm>
            <a:off x="4896000" y="1052640"/>
            <a:ext cx="3348000" cy="45720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ify the err1 data (high rate) so that R(SOC,T) equation becomes linear 2-dimensional equation in terms of R0 and T0</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2-dimensional linear regression of modified data to find R0 and T0.</a:t>
            </a:r>
            <a:endParaRPr b="0" lang="en-US" sz="2400" spc="-1" strike="noStrike">
              <a:solidFill>
                <a:srgbClr val="000000"/>
              </a:solidFill>
              <a:latin typeface="Arial"/>
            </a:endParaRPr>
          </a:p>
        </p:txBody>
      </p:sp>
      <p:pic>
        <p:nvPicPr>
          <p:cNvPr id="222" name="" descr=""/>
          <p:cNvPicPr/>
          <p:nvPr/>
        </p:nvPicPr>
        <p:blipFill>
          <a:blip r:embed="rId1"/>
          <a:stretch/>
        </p:blipFill>
        <p:spPr>
          <a:xfrm>
            <a:off x="684360" y="1521000"/>
            <a:ext cx="3887640" cy="3730320"/>
          </a:xfrm>
          <a:prstGeom prst="rect">
            <a:avLst/>
          </a:prstGeom>
          <a:ln w="0">
            <a:noFill/>
          </a:ln>
        </p:spPr>
      </p:pic>
      <p:sp>
        <p:nvSpPr>
          <p:cNvPr id="4" name="PlaceHolder 3"/>
          <p:cNvSpPr>
            <a:spLocks noGrp="1"/>
          </p:cNvSpPr>
          <p:nvPr>
            <p:ph type="sldNum" idx="2"/>
          </p:nvPr>
        </p:nvSpPr>
        <p:spPr/>
        <p:txBody>
          <a:bodyPr/>
          <a:p>
            <a:fld id="{97E32DCD-4C48-4EA3-89AE-98614856C36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n-linear fit of the data to produce final parameters achieving best fit of all loads and temperature data</a:t>
            </a:r>
            <a:endParaRPr b="1" lang="en-US" sz="1600" spc="-1" strike="noStrike">
              <a:solidFill>
                <a:srgbClr val="000000"/>
              </a:solidFill>
              <a:latin typeface="Arial"/>
            </a:endParaRPr>
          </a:p>
        </p:txBody>
      </p:sp>
      <p:sp>
        <p:nvSpPr>
          <p:cNvPr id="224" name="PlaceHolder 2"/>
          <p:cNvSpPr>
            <a:spLocks noGrp="1"/>
          </p:cNvSpPr>
          <p:nvPr>
            <p:ph/>
          </p:nvPr>
        </p:nvSpPr>
        <p:spPr>
          <a:xfrm>
            <a:off x="1763640" y="944640"/>
            <a:ext cx="6337440" cy="50054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ice: to fit all temperatures or exclude low temperature. Later usually works better because low-temperature case can be additionally corrected by TC</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n linear fit:</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equations are combined into one V(EMF, C0,R0,R1,T0)</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rst derivatives of vs each parameters are defined</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ll-Newton non-linear fit is used for find optimal parameter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30683A4E-00DA-466B-9DF2-7350A8A9EF5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urrent integration based fuel-gauging</a:t>
            </a:r>
            <a:endParaRPr b="1" lang="en-US" sz="2800" spc="-1" strike="noStrike">
              <a:solidFill>
                <a:srgbClr val="000000"/>
              </a:solidFill>
              <a:latin typeface="Arial"/>
            </a:endParaRPr>
          </a:p>
        </p:txBody>
      </p:sp>
      <p:sp>
        <p:nvSpPr>
          <p:cNvPr id="74" name="PlaceHolder 2"/>
          <p:cNvSpPr>
            <a:spLocks noGrp="1"/>
          </p:cNvSpPr>
          <p:nvPr>
            <p:ph/>
          </p:nvPr>
        </p:nvSpPr>
        <p:spPr>
          <a:xfrm>
            <a:off x="5943240" y="1600200"/>
            <a:ext cx="304812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tery is fully charg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ring discharge capacity is integrat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e of charge (SOC) at each moment is Q/Q</a:t>
            </a:r>
            <a:r>
              <a:rPr b="0" lang="en-US" sz="2400" spc="-1" strike="noStrike" baseline="-25000">
                <a:solidFill>
                  <a:srgbClr val="000000"/>
                </a:solidFill>
                <a:latin typeface="Arial"/>
              </a:rPr>
              <a:t>max</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a:t>
            </a:r>
            <a:r>
              <a:rPr b="0" lang="en-US" sz="2400" spc="-1" strike="noStrike" baseline="-25000">
                <a:solidFill>
                  <a:srgbClr val="000000"/>
                </a:solidFill>
                <a:latin typeface="Arial"/>
              </a:rPr>
              <a:t>max</a:t>
            </a:r>
            <a:r>
              <a:rPr b="0" lang="en-US" sz="2400" spc="-1" strike="noStrike">
                <a:solidFill>
                  <a:srgbClr val="000000"/>
                </a:solidFill>
                <a:latin typeface="Arial"/>
              </a:rPr>
              <a:t> is updated every time full discharge occurs</a:t>
            </a:r>
            <a:endParaRPr b="0" lang="en-US" sz="2400" spc="-1" strike="noStrike">
              <a:solidFill>
                <a:srgbClr val="000000"/>
              </a:solidFill>
              <a:latin typeface="Arial"/>
            </a:endParaRPr>
          </a:p>
        </p:txBody>
      </p:sp>
      <p:pic>
        <p:nvPicPr>
          <p:cNvPr id="75" name="" descr=""/>
          <p:cNvPicPr/>
          <p:nvPr/>
        </p:nvPicPr>
        <p:blipFill>
          <a:blip r:embed="rId1"/>
          <a:stretch/>
        </p:blipFill>
        <p:spPr>
          <a:xfrm>
            <a:off x="228600" y="1676520"/>
            <a:ext cx="5562720" cy="3222360"/>
          </a:xfrm>
          <a:prstGeom prst="rect">
            <a:avLst/>
          </a:prstGeom>
          <a:ln w="0">
            <a:noFill/>
          </a:ln>
        </p:spPr>
      </p:pic>
      <p:sp>
        <p:nvSpPr>
          <p:cNvPr id="76" name=""/>
          <p:cNvSpPr/>
          <p:nvPr/>
        </p:nvSpPr>
        <p:spPr>
          <a:xfrm>
            <a:off x="2057400" y="2895480"/>
            <a:ext cx="0" cy="1371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2135880" y="2438280"/>
            <a:ext cx="4003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78" name=""/>
          <p:cNvSpPr/>
          <p:nvPr/>
        </p:nvSpPr>
        <p:spPr>
          <a:xfrm>
            <a:off x="1093680" y="4419720"/>
            <a:ext cx="1771560" cy="510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C=Q/Q</a:t>
            </a:r>
            <a:r>
              <a:rPr b="0" lang="en-US" sz="2400" spc="-1" strike="noStrike" baseline="-25000">
                <a:solidFill>
                  <a:srgbClr val="000000"/>
                </a:solidFill>
                <a:latin typeface="Times New Roman"/>
              </a:rPr>
              <a:t>max</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3D1AEBEF-CB3A-4E88-A611-9761D49DBB6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n-linear fit of the data to produce final parameters achieving best fit of all loads and temperature data</a:t>
            </a:r>
            <a:endParaRPr b="1" lang="en-US" sz="1600" spc="-1" strike="noStrike">
              <a:solidFill>
                <a:srgbClr val="000000"/>
              </a:solidFill>
              <a:latin typeface="Arial"/>
            </a:endParaRPr>
          </a:p>
        </p:txBody>
      </p:sp>
      <p:pic>
        <p:nvPicPr>
          <p:cNvPr id="226" name="" descr=""/>
          <p:cNvPicPr/>
          <p:nvPr/>
        </p:nvPicPr>
        <p:blipFill>
          <a:blip r:embed="rId1"/>
          <a:stretch/>
        </p:blipFill>
        <p:spPr>
          <a:xfrm>
            <a:off x="900000" y="1125360"/>
            <a:ext cx="6877080" cy="5027760"/>
          </a:xfrm>
          <a:prstGeom prst="rect">
            <a:avLst/>
          </a:prstGeom>
          <a:ln w="0">
            <a:noFill/>
          </a:ln>
        </p:spPr>
      </p:pic>
      <p:sp>
        <p:nvSpPr>
          <p:cNvPr id="3" name="PlaceHolder 2"/>
          <p:cNvSpPr>
            <a:spLocks noGrp="1"/>
          </p:cNvSpPr>
          <p:nvPr>
            <p:ph type="sldNum" idx="2"/>
          </p:nvPr>
        </p:nvSpPr>
        <p:spPr/>
        <p:txBody>
          <a:bodyPr/>
          <a:p>
            <a:fld id="{CE43AD84-1D9F-495C-AF8A-FEBC0EFDB1C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ading the results</a:t>
            </a:r>
            <a:endParaRPr b="1" lang="en-US" sz="2800" spc="-1" strike="noStrike">
              <a:solidFill>
                <a:srgbClr val="000000"/>
              </a:solidFill>
              <a:latin typeface="Arial"/>
            </a:endParaRPr>
          </a:p>
        </p:txBody>
      </p:sp>
      <p:sp>
        <p:nvSpPr>
          <p:cNvPr id="228" name="PlaceHolder 2"/>
          <p:cNvSpPr>
            <a:spLocks noGrp="1"/>
          </p:cNvSpPr>
          <p:nvPr>
            <p:ph/>
          </p:nvPr>
        </p:nvSpPr>
        <p:spPr>
          <a:xfrm>
            <a:off x="5111280" y="1088640"/>
            <a:ext cx="3767400" cy="459900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 execute calculation, place the cursor end of work-sheet, and press F-9. Or, from Math menu execute “calculate worksheet” command.</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ad CEDV parameters at the last page</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that EMF and EDVR0 parameters have to be divided by number of serial cells before writing to the flash if EDVV parameter in pack configuration is set to 0.</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raph shows the fit of the program voltage</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EDV parameters can be saved into a data-file. Change the file name in WRITEPRN statement. File is readable by validation program LOGVER</a:t>
            </a:r>
            <a:endParaRPr b="0" lang="en-US" sz="1400" spc="-1" strike="noStrike">
              <a:solidFill>
                <a:srgbClr val="000000"/>
              </a:solidFill>
              <a:latin typeface="Arial"/>
            </a:endParaRPr>
          </a:p>
        </p:txBody>
      </p:sp>
      <p:pic>
        <p:nvPicPr>
          <p:cNvPr id="229" name="" descr=""/>
          <p:cNvPicPr/>
          <p:nvPr/>
        </p:nvPicPr>
        <p:blipFill>
          <a:blip r:embed="rId1"/>
          <a:stretch/>
        </p:blipFill>
        <p:spPr>
          <a:xfrm>
            <a:off x="216000" y="1449360"/>
            <a:ext cx="5149800" cy="3890880"/>
          </a:xfrm>
          <a:prstGeom prst="rect">
            <a:avLst/>
          </a:prstGeom>
          <a:ln w="0">
            <a:noFill/>
          </a:ln>
        </p:spPr>
      </p:pic>
      <p:sp>
        <p:nvSpPr>
          <p:cNvPr id="4" name="PlaceHolder 3"/>
          <p:cNvSpPr>
            <a:spLocks noGrp="1"/>
          </p:cNvSpPr>
          <p:nvPr>
            <p:ph type="sldNum" idx="2"/>
          </p:nvPr>
        </p:nvSpPr>
        <p:spPr/>
        <p:txBody>
          <a:bodyPr/>
          <a:p>
            <a:fld id="{086CD4A3-9FD4-4151-8803-0DCB431280A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can go wrong? Fit not close enough</a:t>
            </a:r>
            <a:endParaRPr b="1" lang="en-US" sz="1800" spc="-1" strike="noStrike">
              <a:solidFill>
                <a:srgbClr val="000000"/>
              </a:solidFill>
              <a:latin typeface="Arial"/>
            </a:endParaRPr>
          </a:p>
        </p:txBody>
      </p:sp>
      <p:sp>
        <p:nvSpPr>
          <p:cNvPr id="231" name=""/>
          <p:cNvSpPr/>
          <p:nvPr/>
        </p:nvSpPr>
        <p:spPr>
          <a:xfrm>
            <a:off x="216000" y="1197000"/>
            <a:ext cx="8208720" cy="1160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it is considered good if voltage at 7% fit is not more then 2% far along X axes from same voltage on experimental curve. If not satisfactory try following:</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crease EDVTC value here (but not higher then 11):</a:t>
            </a:r>
            <a:endParaRPr b="0" lang="en-US" sz="1600" spc="-1" strike="noStrike">
              <a:solidFill>
                <a:srgbClr val="000000"/>
              </a:solidFill>
              <a:latin typeface="Times New Roman"/>
            </a:endParaRPr>
          </a:p>
        </p:txBody>
      </p:sp>
      <p:pic>
        <p:nvPicPr>
          <p:cNvPr id="232" name="" descr=""/>
          <p:cNvPicPr/>
          <p:nvPr/>
        </p:nvPicPr>
        <p:blipFill>
          <a:blip r:embed="rId1"/>
          <a:stretch/>
        </p:blipFill>
        <p:spPr>
          <a:xfrm>
            <a:off x="287280" y="2384280"/>
            <a:ext cx="6147000" cy="722520"/>
          </a:xfrm>
          <a:prstGeom prst="rect">
            <a:avLst/>
          </a:prstGeom>
          <a:ln w="0">
            <a:noFill/>
          </a:ln>
        </p:spPr>
      </p:pic>
      <p:sp>
        <p:nvSpPr>
          <p:cNvPr id="233" name=""/>
          <p:cNvSpPr/>
          <p:nvPr/>
        </p:nvSpPr>
        <p:spPr>
          <a:xfrm>
            <a:off x="179280" y="3465360"/>
            <a:ext cx="8137800" cy="22885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eck that data format is correct, e.g. column assignment is correct, units of resulting B,C,D arrays are %,Volt, degree K, Ampere) </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eck that current sign is correct (last column in B,C,D arrays is positive)</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crease, change fitting range by modifying SOCmin and SOCmax</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f EDVC1 fitting is disabled (as shown in two subsequent slides), try enabling it.</a:t>
            </a: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14FCE98E-FF96-4819-B287-C9C0B1BF3A1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p:nvPr>
        </p:nvSpPr>
        <p:spPr>
          <a:xfrm>
            <a:off x="358560" y="1160280"/>
            <a:ext cx="7056360" cy="205236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 linear fit might produce negative values for some parameters. In this case: </a:t>
            </a:r>
            <a:endParaRPr b="0" lang="en-US" sz="16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eck that data format is correct, e.g. column assignent is correct, units of resulting B,C,D arrays are %,Volt, degree K, Ampere) </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eck that current sign is correct (last column in B,C,D arrays is positive)</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crease, change fitting range by modifying SOCmin and SOCmax</a:t>
            </a:r>
            <a:endParaRPr b="0" lang="en-US" sz="14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bove did not help, disable fitting of EDVC1. To do this, click on the right side of this line:</a:t>
            </a:r>
            <a:endParaRPr b="0" lang="en-US" sz="1600" spc="-1" strike="noStrike">
              <a:solidFill>
                <a:srgbClr val="000000"/>
              </a:solidFill>
              <a:latin typeface="Arial"/>
            </a:endParaRPr>
          </a:p>
        </p:txBody>
      </p:sp>
      <p:sp>
        <p:nvSpPr>
          <p:cNvPr id="235" name="PlaceHolder 2"/>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can go wrong? Negative parameter values.</a:t>
            </a:r>
            <a:endParaRPr b="1" lang="en-US" sz="1800" spc="-1" strike="noStrike">
              <a:solidFill>
                <a:srgbClr val="000000"/>
              </a:solidFill>
              <a:latin typeface="Arial"/>
            </a:endParaRPr>
          </a:p>
        </p:txBody>
      </p:sp>
      <p:pic>
        <p:nvPicPr>
          <p:cNvPr id="236" name="" descr=""/>
          <p:cNvPicPr/>
          <p:nvPr/>
        </p:nvPicPr>
        <p:blipFill>
          <a:blip r:embed="rId1"/>
          <a:stretch/>
        </p:blipFill>
        <p:spPr>
          <a:xfrm>
            <a:off x="576360" y="3141720"/>
            <a:ext cx="4927680" cy="430200"/>
          </a:xfrm>
          <a:prstGeom prst="rect">
            <a:avLst/>
          </a:prstGeom>
          <a:ln w="0">
            <a:noFill/>
          </a:ln>
        </p:spPr>
      </p:pic>
      <p:sp>
        <p:nvSpPr>
          <p:cNvPr id="237" name=""/>
          <p:cNvSpPr/>
          <p:nvPr/>
        </p:nvSpPr>
        <p:spPr>
          <a:xfrm>
            <a:off x="431640" y="3608280"/>
            <a:ext cx="75250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o to the line “selection of fit options”. Right-click on both statement, select “disable evaluati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lack square will appear in upper right corner</a:t>
            </a:r>
            <a:endParaRPr b="0" lang="en-US" sz="1400" spc="-1" strike="noStrike">
              <a:solidFill>
                <a:srgbClr val="000000"/>
              </a:solidFill>
              <a:latin typeface="Times New Roman"/>
            </a:endParaRPr>
          </a:p>
        </p:txBody>
      </p:sp>
      <p:pic>
        <p:nvPicPr>
          <p:cNvPr id="238" name="" descr=""/>
          <p:cNvPicPr/>
          <p:nvPr/>
        </p:nvPicPr>
        <p:blipFill>
          <a:blip r:embed="rId2"/>
          <a:stretch/>
        </p:blipFill>
        <p:spPr>
          <a:xfrm>
            <a:off x="395280" y="4149720"/>
            <a:ext cx="8458200" cy="2076480"/>
          </a:xfrm>
          <a:prstGeom prst="rect">
            <a:avLst/>
          </a:prstGeom>
          <a:ln w="0">
            <a:noFill/>
          </a:ln>
        </p:spPr>
      </p:pic>
      <p:sp>
        <p:nvSpPr>
          <p:cNvPr id="4" name="PlaceHolder 3"/>
          <p:cNvSpPr>
            <a:spLocks noGrp="1"/>
          </p:cNvSpPr>
          <p:nvPr>
            <p:ph type="sldNum" idx="2"/>
          </p:nvPr>
        </p:nvSpPr>
        <p:spPr/>
        <p:txBody>
          <a:bodyPr/>
          <a:p>
            <a:fld id="{46602349-D5A3-4307-98B4-329194A73A5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can go wrong? Negative parameter values (cont.)</a:t>
            </a:r>
            <a:endParaRPr b="1" lang="en-US" sz="1800" spc="-1" strike="noStrike">
              <a:solidFill>
                <a:srgbClr val="000000"/>
              </a:solidFill>
              <a:latin typeface="Arial"/>
            </a:endParaRPr>
          </a:p>
        </p:txBody>
      </p:sp>
      <p:sp>
        <p:nvSpPr>
          <p:cNvPr id="240" name=""/>
          <p:cNvSpPr/>
          <p:nvPr/>
        </p:nvSpPr>
        <p:spPr>
          <a:xfrm>
            <a:off x="250920" y="1305000"/>
            <a:ext cx="7524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roll down and right click on statements below. Select “enable evaluation”. Black square will disappear in upper right corner</a:t>
            </a:r>
            <a:endParaRPr b="0" lang="en-US" sz="1400" spc="-1" strike="noStrike">
              <a:solidFill>
                <a:srgbClr val="000000"/>
              </a:solidFill>
              <a:latin typeface="Times New Roman"/>
            </a:endParaRPr>
          </a:p>
        </p:txBody>
      </p:sp>
      <p:pic>
        <p:nvPicPr>
          <p:cNvPr id="241" name="" descr=""/>
          <p:cNvPicPr/>
          <p:nvPr/>
        </p:nvPicPr>
        <p:blipFill>
          <a:blip r:embed="rId1"/>
          <a:stretch/>
        </p:blipFill>
        <p:spPr>
          <a:xfrm>
            <a:off x="0" y="1916280"/>
            <a:ext cx="8801280" cy="1447560"/>
          </a:xfrm>
          <a:prstGeom prst="rect">
            <a:avLst/>
          </a:prstGeom>
          <a:ln w="0">
            <a:noFill/>
          </a:ln>
        </p:spPr>
      </p:pic>
      <p:sp>
        <p:nvSpPr>
          <p:cNvPr id="242" name=""/>
          <p:cNvSpPr/>
          <p:nvPr/>
        </p:nvSpPr>
        <p:spPr>
          <a:xfrm>
            <a:off x="179280" y="3500280"/>
            <a:ext cx="7524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ditionally, scroll down and right click on statements below. Select “disable evaluation”. Black square will appear in upper right corner</a:t>
            </a:r>
            <a:endParaRPr b="0" lang="en-US" sz="1400" spc="-1" strike="noStrike">
              <a:solidFill>
                <a:srgbClr val="000000"/>
              </a:solidFill>
              <a:latin typeface="Times New Roman"/>
            </a:endParaRPr>
          </a:p>
        </p:txBody>
      </p:sp>
      <p:pic>
        <p:nvPicPr>
          <p:cNvPr id="243" name="" descr=""/>
          <p:cNvPicPr/>
          <p:nvPr/>
        </p:nvPicPr>
        <p:blipFill>
          <a:blip r:embed="rId2"/>
          <a:stretch/>
        </p:blipFill>
        <p:spPr>
          <a:xfrm>
            <a:off x="216000" y="4473720"/>
            <a:ext cx="5905440" cy="1276200"/>
          </a:xfrm>
          <a:prstGeom prst="rect">
            <a:avLst/>
          </a:prstGeom>
          <a:ln w="0">
            <a:noFill/>
          </a:ln>
        </p:spPr>
      </p:pic>
      <p:sp>
        <p:nvSpPr>
          <p:cNvPr id="3" name="PlaceHolder 2"/>
          <p:cNvSpPr>
            <a:spLocks noGrp="1"/>
          </p:cNvSpPr>
          <p:nvPr>
            <p:ph type="sldNum" idx="2"/>
          </p:nvPr>
        </p:nvSpPr>
        <p:spPr/>
        <p:txBody>
          <a:bodyPr/>
          <a:p>
            <a:fld id="{97D4FEA1-564D-4CEE-914D-8C9838571D81}" type="slidenum">
              <a:t>24</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905120" y="151920"/>
            <a:ext cx="662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earning before fully discharged</a:t>
            </a:r>
            <a:endParaRPr b="1" lang="en-US" sz="2800" spc="-1" strike="noStrike">
              <a:solidFill>
                <a:srgbClr val="000000"/>
              </a:solidFill>
              <a:latin typeface="Arial"/>
            </a:endParaRPr>
          </a:p>
        </p:txBody>
      </p:sp>
      <p:sp>
        <p:nvSpPr>
          <p:cNvPr id="80" name="PlaceHolder 2"/>
          <p:cNvSpPr>
            <a:spLocks noGrp="1"/>
          </p:cNvSpPr>
          <p:nvPr>
            <p:ph/>
          </p:nvPr>
        </p:nvSpPr>
        <p:spPr>
          <a:xfrm>
            <a:off x="5651640" y="1592280"/>
            <a:ext cx="313344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too late to learn when 0% capacity is reached</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can set voltage threshold that correspond to given percentage of remaining capacity</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ever, true voltage corresponding to 7% depends on current and temperatur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
          <p:cNvSpPr/>
          <p:nvPr/>
        </p:nvSpPr>
        <p:spPr>
          <a:xfrm>
            <a:off x="75240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2" name=""/>
          <p:cNvSpPr/>
          <p:nvPr/>
        </p:nvSpPr>
        <p:spPr>
          <a:xfrm>
            <a:off x="75240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3" name=""/>
          <p:cNvSpPr/>
          <p:nvPr/>
        </p:nvSpPr>
        <p:spPr>
          <a:xfrm>
            <a:off x="149544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4" name=""/>
          <p:cNvSpPr/>
          <p:nvPr/>
        </p:nvSpPr>
        <p:spPr>
          <a:xfrm>
            <a:off x="149544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5" name=""/>
          <p:cNvSpPr/>
          <p:nvPr/>
        </p:nvSpPr>
        <p:spPr>
          <a:xfrm>
            <a:off x="223668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6" name=""/>
          <p:cNvSpPr/>
          <p:nvPr/>
        </p:nvSpPr>
        <p:spPr>
          <a:xfrm>
            <a:off x="223668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7" name=""/>
          <p:cNvSpPr/>
          <p:nvPr/>
        </p:nvSpPr>
        <p:spPr>
          <a:xfrm>
            <a:off x="297972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8" name=""/>
          <p:cNvSpPr/>
          <p:nvPr/>
        </p:nvSpPr>
        <p:spPr>
          <a:xfrm>
            <a:off x="297972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9" name=""/>
          <p:cNvSpPr/>
          <p:nvPr/>
        </p:nvSpPr>
        <p:spPr>
          <a:xfrm>
            <a:off x="372096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0" name=""/>
          <p:cNvSpPr/>
          <p:nvPr/>
        </p:nvSpPr>
        <p:spPr>
          <a:xfrm>
            <a:off x="372096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1" name=""/>
          <p:cNvSpPr/>
          <p:nvPr/>
        </p:nvSpPr>
        <p:spPr>
          <a:xfrm>
            <a:off x="446256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2" name=""/>
          <p:cNvSpPr/>
          <p:nvPr/>
        </p:nvSpPr>
        <p:spPr>
          <a:xfrm>
            <a:off x="446256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3" name=""/>
          <p:cNvSpPr/>
          <p:nvPr/>
        </p:nvSpPr>
        <p:spPr>
          <a:xfrm>
            <a:off x="521352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4" name=""/>
          <p:cNvSpPr/>
          <p:nvPr/>
        </p:nvSpPr>
        <p:spPr>
          <a:xfrm>
            <a:off x="521352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5" name=""/>
          <p:cNvSpPr/>
          <p:nvPr/>
        </p:nvSpPr>
        <p:spPr>
          <a:xfrm>
            <a:off x="752400" y="394344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6" name=""/>
          <p:cNvSpPr/>
          <p:nvPr/>
        </p:nvSpPr>
        <p:spPr>
          <a:xfrm>
            <a:off x="752400" y="325764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 name=""/>
          <p:cNvSpPr/>
          <p:nvPr/>
        </p:nvSpPr>
        <p:spPr>
          <a:xfrm>
            <a:off x="752400" y="2570040"/>
            <a:ext cx="4461120" cy="1800"/>
          </a:xfrm>
          <a:prstGeom prst="line">
            <a:avLst/>
          </a:prstGeom>
          <a:ln w="0">
            <a:solidFill>
              <a:srgbClr val="00ff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8" name=""/>
          <p:cNvSpPr/>
          <p:nvPr/>
        </p:nvSpPr>
        <p:spPr>
          <a:xfrm>
            <a:off x="752400" y="188280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9" name=""/>
          <p:cNvSpPr/>
          <p:nvPr/>
        </p:nvSpPr>
        <p:spPr>
          <a:xfrm>
            <a:off x="76608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0</a:t>
            </a:r>
            <a:endParaRPr b="0" lang="en-US" sz="900" spc="-1" strike="noStrike">
              <a:solidFill>
                <a:srgbClr val="000000"/>
              </a:solidFill>
              <a:latin typeface="Times New Roman"/>
            </a:endParaRPr>
          </a:p>
        </p:txBody>
      </p:sp>
      <p:sp>
        <p:nvSpPr>
          <p:cNvPr id="100" name=""/>
          <p:cNvSpPr/>
          <p:nvPr/>
        </p:nvSpPr>
        <p:spPr>
          <a:xfrm>
            <a:off x="150732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a:t>
            </a:r>
            <a:endParaRPr b="0" lang="en-US" sz="900" spc="-1" strike="noStrike">
              <a:solidFill>
                <a:srgbClr val="000000"/>
              </a:solidFill>
              <a:latin typeface="Times New Roman"/>
            </a:endParaRPr>
          </a:p>
        </p:txBody>
      </p:sp>
      <p:sp>
        <p:nvSpPr>
          <p:cNvPr id="101" name=""/>
          <p:cNvSpPr/>
          <p:nvPr/>
        </p:nvSpPr>
        <p:spPr>
          <a:xfrm>
            <a:off x="224892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a:t>
            </a:r>
            <a:endParaRPr b="0" lang="en-US" sz="900" spc="-1" strike="noStrike">
              <a:solidFill>
                <a:srgbClr val="000000"/>
              </a:solidFill>
              <a:latin typeface="Times New Roman"/>
            </a:endParaRPr>
          </a:p>
        </p:txBody>
      </p:sp>
      <p:sp>
        <p:nvSpPr>
          <p:cNvPr id="102" name=""/>
          <p:cNvSpPr/>
          <p:nvPr/>
        </p:nvSpPr>
        <p:spPr>
          <a:xfrm>
            <a:off x="299016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Times New Roman"/>
            </a:endParaRPr>
          </a:p>
        </p:txBody>
      </p:sp>
      <p:sp>
        <p:nvSpPr>
          <p:cNvPr id="103" name=""/>
          <p:cNvSpPr/>
          <p:nvPr/>
        </p:nvSpPr>
        <p:spPr>
          <a:xfrm>
            <a:off x="373320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Times New Roman"/>
            </a:endParaRPr>
          </a:p>
        </p:txBody>
      </p:sp>
      <p:sp>
        <p:nvSpPr>
          <p:cNvPr id="104" name=""/>
          <p:cNvSpPr/>
          <p:nvPr/>
        </p:nvSpPr>
        <p:spPr>
          <a:xfrm>
            <a:off x="447444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5</a:t>
            </a:r>
            <a:endParaRPr b="0" lang="en-US" sz="900" spc="-1" strike="noStrike">
              <a:solidFill>
                <a:srgbClr val="000000"/>
              </a:solidFill>
              <a:latin typeface="Times New Roman"/>
            </a:endParaRPr>
          </a:p>
        </p:txBody>
      </p:sp>
      <p:sp>
        <p:nvSpPr>
          <p:cNvPr id="105" name=""/>
          <p:cNvSpPr/>
          <p:nvPr/>
        </p:nvSpPr>
        <p:spPr>
          <a:xfrm>
            <a:off x="522540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6</a:t>
            </a:r>
            <a:endParaRPr b="0" lang="en-US" sz="900" spc="-1" strike="noStrike">
              <a:solidFill>
                <a:srgbClr val="000000"/>
              </a:solidFill>
              <a:latin typeface="Times New Roman"/>
            </a:endParaRPr>
          </a:p>
        </p:txBody>
      </p:sp>
      <p:sp>
        <p:nvSpPr>
          <p:cNvPr id="106" name=""/>
          <p:cNvSpPr/>
          <p:nvPr/>
        </p:nvSpPr>
        <p:spPr>
          <a:xfrm>
            <a:off x="673920" y="390060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Times New Roman"/>
            </a:endParaRPr>
          </a:p>
        </p:txBody>
      </p:sp>
      <p:sp>
        <p:nvSpPr>
          <p:cNvPr id="107" name=""/>
          <p:cNvSpPr/>
          <p:nvPr/>
        </p:nvSpPr>
        <p:spPr>
          <a:xfrm>
            <a:off x="591120" y="3213000"/>
            <a:ext cx="1454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5</a:t>
            </a:r>
            <a:endParaRPr b="0" lang="en-US" sz="900" spc="-1" strike="noStrike">
              <a:solidFill>
                <a:srgbClr val="000000"/>
              </a:solidFill>
              <a:latin typeface="Times New Roman"/>
            </a:endParaRPr>
          </a:p>
        </p:txBody>
      </p:sp>
      <p:sp>
        <p:nvSpPr>
          <p:cNvPr id="108" name=""/>
          <p:cNvSpPr/>
          <p:nvPr/>
        </p:nvSpPr>
        <p:spPr>
          <a:xfrm>
            <a:off x="673920" y="252720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Times New Roman"/>
            </a:endParaRPr>
          </a:p>
        </p:txBody>
      </p:sp>
      <p:sp>
        <p:nvSpPr>
          <p:cNvPr id="109" name=""/>
          <p:cNvSpPr/>
          <p:nvPr/>
        </p:nvSpPr>
        <p:spPr>
          <a:xfrm>
            <a:off x="591120" y="1839960"/>
            <a:ext cx="1454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5</a:t>
            </a:r>
            <a:endParaRPr b="0" lang="en-US" sz="900" spc="-1" strike="noStrike">
              <a:solidFill>
                <a:srgbClr val="000000"/>
              </a:solidFill>
              <a:latin typeface="Times New Roman"/>
            </a:endParaRPr>
          </a:p>
        </p:txBody>
      </p:sp>
      <p:sp>
        <p:nvSpPr>
          <p:cNvPr id="110" name=""/>
          <p:cNvSpPr/>
          <p:nvPr/>
        </p:nvSpPr>
        <p:spPr>
          <a:xfrm>
            <a:off x="752400" y="1882800"/>
            <a:ext cx="4461120" cy="23446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762120" y="2441520"/>
            <a:ext cx="4378320" cy="1824120"/>
          </a:xfrm>
          <a:custGeom>
            <a:avLst/>
            <a:gdLst/>
            <a:ahLst/>
            <a:rect l="l" t="t" r="r" b="b"/>
            <a:pathLst>
              <a:path w="2988" h="1244">
                <a:moveTo>
                  <a:pt x="0" y="0"/>
                </a:moveTo>
                <a:lnTo>
                  <a:pt x="6" y="119"/>
                </a:lnTo>
                <a:lnTo>
                  <a:pt x="6" y="125"/>
                </a:lnTo>
                <a:lnTo>
                  <a:pt x="13" y="125"/>
                </a:lnTo>
                <a:lnTo>
                  <a:pt x="13" y="138"/>
                </a:lnTo>
                <a:lnTo>
                  <a:pt x="19" y="138"/>
                </a:lnTo>
                <a:lnTo>
                  <a:pt x="25" y="138"/>
                </a:lnTo>
                <a:lnTo>
                  <a:pt x="31" y="150"/>
                </a:lnTo>
                <a:lnTo>
                  <a:pt x="38" y="150"/>
                </a:lnTo>
                <a:lnTo>
                  <a:pt x="44" y="157"/>
                </a:lnTo>
                <a:lnTo>
                  <a:pt x="50" y="157"/>
                </a:lnTo>
                <a:lnTo>
                  <a:pt x="56" y="157"/>
                </a:lnTo>
                <a:lnTo>
                  <a:pt x="63" y="163"/>
                </a:lnTo>
                <a:lnTo>
                  <a:pt x="69" y="163"/>
                </a:lnTo>
                <a:lnTo>
                  <a:pt x="75" y="163"/>
                </a:lnTo>
                <a:lnTo>
                  <a:pt x="75" y="169"/>
                </a:lnTo>
                <a:lnTo>
                  <a:pt x="81" y="169"/>
                </a:lnTo>
                <a:lnTo>
                  <a:pt x="88" y="169"/>
                </a:lnTo>
                <a:lnTo>
                  <a:pt x="94" y="182"/>
                </a:lnTo>
                <a:lnTo>
                  <a:pt x="100" y="182"/>
                </a:lnTo>
                <a:lnTo>
                  <a:pt x="100" y="175"/>
                </a:lnTo>
                <a:lnTo>
                  <a:pt x="106" y="182"/>
                </a:lnTo>
                <a:lnTo>
                  <a:pt x="113" y="182"/>
                </a:lnTo>
                <a:lnTo>
                  <a:pt x="113" y="188"/>
                </a:lnTo>
                <a:lnTo>
                  <a:pt x="119" y="188"/>
                </a:lnTo>
                <a:lnTo>
                  <a:pt x="125" y="194"/>
                </a:lnTo>
                <a:lnTo>
                  <a:pt x="125" y="188"/>
                </a:lnTo>
                <a:lnTo>
                  <a:pt x="131" y="188"/>
                </a:lnTo>
                <a:lnTo>
                  <a:pt x="131" y="200"/>
                </a:lnTo>
                <a:lnTo>
                  <a:pt x="138" y="194"/>
                </a:lnTo>
                <a:lnTo>
                  <a:pt x="144" y="194"/>
                </a:lnTo>
                <a:lnTo>
                  <a:pt x="144" y="200"/>
                </a:lnTo>
                <a:lnTo>
                  <a:pt x="150" y="207"/>
                </a:lnTo>
                <a:lnTo>
                  <a:pt x="156" y="200"/>
                </a:lnTo>
                <a:lnTo>
                  <a:pt x="163" y="200"/>
                </a:lnTo>
                <a:lnTo>
                  <a:pt x="163" y="213"/>
                </a:lnTo>
                <a:lnTo>
                  <a:pt x="169" y="213"/>
                </a:lnTo>
                <a:lnTo>
                  <a:pt x="175" y="207"/>
                </a:lnTo>
                <a:lnTo>
                  <a:pt x="175" y="213"/>
                </a:lnTo>
                <a:lnTo>
                  <a:pt x="181" y="219"/>
                </a:lnTo>
                <a:lnTo>
                  <a:pt x="188" y="219"/>
                </a:lnTo>
                <a:lnTo>
                  <a:pt x="194" y="213"/>
                </a:lnTo>
                <a:lnTo>
                  <a:pt x="194" y="219"/>
                </a:lnTo>
                <a:lnTo>
                  <a:pt x="200" y="219"/>
                </a:lnTo>
                <a:lnTo>
                  <a:pt x="206" y="225"/>
                </a:lnTo>
                <a:lnTo>
                  <a:pt x="206" y="219"/>
                </a:lnTo>
                <a:lnTo>
                  <a:pt x="213" y="219"/>
                </a:lnTo>
                <a:lnTo>
                  <a:pt x="213" y="225"/>
                </a:lnTo>
                <a:lnTo>
                  <a:pt x="219" y="225"/>
                </a:lnTo>
                <a:lnTo>
                  <a:pt x="225" y="225"/>
                </a:lnTo>
                <a:lnTo>
                  <a:pt x="231" y="232"/>
                </a:lnTo>
                <a:lnTo>
                  <a:pt x="238" y="232"/>
                </a:lnTo>
                <a:lnTo>
                  <a:pt x="244" y="232"/>
                </a:lnTo>
                <a:lnTo>
                  <a:pt x="244" y="238"/>
                </a:lnTo>
                <a:lnTo>
                  <a:pt x="250" y="238"/>
                </a:lnTo>
                <a:lnTo>
                  <a:pt x="256" y="232"/>
                </a:lnTo>
                <a:lnTo>
                  <a:pt x="263" y="238"/>
                </a:lnTo>
                <a:lnTo>
                  <a:pt x="269" y="238"/>
                </a:lnTo>
                <a:lnTo>
                  <a:pt x="275" y="238"/>
                </a:lnTo>
                <a:lnTo>
                  <a:pt x="275" y="244"/>
                </a:lnTo>
                <a:lnTo>
                  <a:pt x="281" y="244"/>
                </a:lnTo>
                <a:lnTo>
                  <a:pt x="288" y="238"/>
                </a:lnTo>
                <a:lnTo>
                  <a:pt x="294" y="244"/>
                </a:lnTo>
                <a:lnTo>
                  <a:pt x="294" y="250"/>
                </a:lnTo>
                <a:lnTo>
                  <a:pt x="300" y="244"/>
                </a:lnTo>
                <a:lnTo>
                  <a:pt x="306" y="244"/>
                </a:lnTo>
                <a:lnTo>
                  <a:pt x="306" y="250"/>
                </a:lnTo>
                <a:lnTo>
                  <a:pt x="313" y="250"/>
                </a:lnTo>
                <a:lnTo>
                  <a:pt x="319" y="244"/>
                </a:lnTo>
                <a:lnTo>
                  <a:pt x="319" y="250"/>
                </a:lnTo>
                <a:lnTo>
                  <a:pt x="325" y="250"/>
                </a:lnTo>
                <a:lnTo>
                  <a:pt x="325" y="257"/>
                </a:lnTo>
                <a:lnTo>
                  <a:pt x="331" y="257"/>
                </a:lnTo>
                <a:lnTo>
                  <a:pt x="331" y="250"/>
                </a:lnTo>
                <a:lnTo>
                  <a:pt x="338" y="250"/>
                </a:lnTo>
                <a:lnTo>
                  <a:pt x="338" y="257"/>
                </a:lnTo>
                <a:lnTo>
                  <a:pt x="344" y="257"/>
                </a:lnTo>
                <a:lnTo>
                  <a:pt x="350" y="257"/>
                </a:lnTo>
                <a:lnTo>
                  <a:pt x="356" y="257"/>
                </a:lnTo>
                <a:lnTo>
                  <a:pt x="356" y="263"/>
                </a:lnTo>
                <a:lnTo>
                  <a:pt x="363" y="263"/>
                </a:lnTo>
                <a:lnTo>
                  <a:pt x="363" y="257"/>
                </a:lnTo>
                <a:lnTo>
                  <a:pt x="369" y="257"/>
                </a:lnTo>
                <a:lnTo>
                  <a:pt x="369" y="263"/>
                </a:lnTo>
                <a:lnTo>
                  <a:pt x="375" y="263"/>
                </a:lnTo>
                <a:lnTo>
                  <a:pt x="381" y="263"/>
                </a:lnTo>
                <a:lnTo>
                  <a:pt x="381" y="269"/>
                </a:lnTo>
                <a:lnTo>
                  <a:pt x="388" y="269"/>
                </a:lnTo>
                <a:lnTo>
                  <a:pt x="394" y="263"/>
                </a:lnTo>
                <a:lnTo>
                  <a:pt x="400" y="269"/>
                </a:lnTo>
                <a:lnTo>
                  <a:pt x="406" y="269"/>
                </a:lnTo>
                <a:lnTo>
                  <a:pt x="413" y="269"/>
                </a:lnTo>
                <a:lnTo>
                  <a:pt x="419" y="275"/>
                </a:lnTo>
                <a:lnTo>
                  <a:pt x="425" y="269"/>
                </a:lnTo>
                <a:lnTo>
                  <a:pt x="431" y="275"/>
                </a:lnTo>
                <a:lnTo>
                  <a:pt x="438" y="275"/>
                </a:lnTo>
                <a:lnTo>
                  <a:pt x="444" y="275"/>
                </a:lnTo>
                <a:lnTo>
                  <a:pt x="450" y="282"/>
                </a:lnTo>
                <a:lnTo>
                  <a:pt x="456" y="275"/>
                </a:lnTo>
                <a:lnTo>
                  <a:pt x="463" y="275"/>
                </a:lnTo>
                <a:lnTo>
                  <a:pt x="463" y="282"/>
                </a:lnTo>
                <a:lnTo>
                  <a:pt x="469" y="282"/>
                </a:lnTo>
                <a:lnTo>
                  <a:pt x="475" y="282"/>
                </a:lnTo>
                <a:lnTo>
                  <a:pt x="481" y="288"/>
                </a:lnTo>
                <a:lnTo>
                  <a:pt x="488" y="282"/>
                </a:lnTo>
                <a:lnTo>
                  <a:pt x="494" y="282"/>
                </a:lnTo>
                <a:lnTo>
                  <a:pt x="494" y="288"/>
                </a:lnTo>
                <a:lnTo>
                  <a:pt x="500" y="288"/>
                </a:lnTo>
                <a:lnTo>
                  <a:pt x="506" y="288"/>
                </a:lnTo>
                <a:lnTo>
                  <a:pt x="513" y="288"/>
                </a:lnTo>
                <a:lnTo>
                  <a:pt x="513" y="294"/>
                </a:lnTo>
                <a:lnTo>
                  <a:pt x="519" y="294"/>
                </a:lnTo>
                <a:lnTo>
                  <a:pt x="519" y="288"/>
                </a:lnTo>
                <a:lnTo>
                  <a:pt x="525" y="288"/>
                </a:lnTo>
                <a:lnTo>
                  <a:pt x="531" y="300"/>
                </a:lnTo>
                <a:lnTo>
                  <a:pt x="538" y="294"/>
                </a:lnTo>
                <a:lnTo>
                  <a:pt x="544" y="294"/>
                </a:lnTo>
                <a:lnTo>
                  <a:pt x="550" y="300"/>
                </a:lnTo>
                <a:lnTo>
                  <a:pt x="556" y="294"/>
                </a:lnTo>
                <a:lnTo>
                  <a:pt x="556" y="300"/>
                </a:lnTo>
                <a:lnTo>
                  <a:pt x="563" y="307"/>
                </a:lnTo>
                <a:lnTo>
                  <a:pt x="563" y="300"/>
                </a:lnTo>
                <a:lnTo>
                  <a:pt x="569" y="300"/>
                </a:lnTo>
                <a:lnTo>
                  <a:pt x="575" y="300"/>
                </a:lnTo>
                <a:lnTo>
                  <a:pt x="581" y="307"/>
                </a:lnTo>
                <a:lnTo>
                  <a:pt x="588" y="307"/>
                </a:lnTo>
                <a:lnTo>
                  <a:pt x="588" y="300"/>
                </a:lnTo>
                <a:lnTo>
                  <a:pt x="594" y="307"/>
                </a:lnTo>
                <a:lnTo>
                  <a:pt x="600" y="307"/>
                </a:lnTo>
                <a:lnTo>
                  <a:pt x="606" y="307"/>
                </a:lnTo>
                <a:lnTo>
                  <a:pt x="613" y="307"/>
                </a:lnTo>
                <a:lnTo>
                  <a:pt x="613" y="313"/>
                </a:lnTo>
                <a:lnTo>
                  <a:pt x="619" y="313"/>
                </a:lnTo>
                <a:lnTo>
                  <a:pt x="619" y="307"/>
                </a:lnTo>
                <a:lnTo>
                  <a:pt x="625" y="307"/>
                </a:lnTo>
                <a:lnTo>
                  <a:pt x="625" y="319"/>
                </a:lnTo>
                <a:lnTo>
                  <a:pt x="631" y="313"/>
                </a:lnTo>
                <a:lnTo>
                  <a:pt x="638" y="313"/>
                </a:lnTo>
                <a:lnTo>
                  <a:pt x="644" y="313"/>
                </a:lnTo>
                <a:lnTo>
                  <a:pt x="644" y="319"/>
                </a:lnTo>
                <a:lnTo>
                  <a:pt x="650" y="319"/>
                </a:lnTo>
                <a:lnTo>
                  <a:pt x="650" y="313"/>
                </a:lnTo>
                <a:lnTo>
                  <a:pt x="656" y="313"/>
                </a:lnTo>
                <a:lnTo>
                  <a:pt x="656" y="319"/>
                </a:lnTo>
                <a:lnTo>
                  <a:pt x="663" y="319"/>
                </a:lnTo>
                <a:lnTo>
                  <a:pt x="669" y="319"/>
                </a:lnTo>
                <a:lnTo>
                  <a:pt x="675" y="319"/>
                </a:lnTo>
                <a:lnTo>
                  <a:pt x="675" y="325"/>
                </a:lnTo>
                <a:lnTo>
                  <a:pt x="681" y="325"/>
                </a:lnTo>
                <a:lnTo>
                  <a:pt x="681" y="319"/>
                </a:lnTo>
                <a:lnTo>
                  <a:pt x="688" y="319"/>
                </a:lnTo>
                <a:lnTo>
                  <a:pt x="694" y="325"/>
                </a:lnTo>
                <a:lnTo>
                  <a:pt x="700" y="325"/>
                </a:lnTo>
                <a:lnTo>
                  <a:pt x="706" y="325"/>
                </a:lnTo>
                <a:lnTo>
                  <a:pt x="706" y="332"/>
                </a:lnTo>
                <a:lnTo>
                  <a:pt x="713" y="332"/>
                </a:lnTo>
                <a:lnTo>
                  <a:pt x="719" y="325"/>
                </a:lnTo>
                <a:lnTo>
                  <a:pt x="725" y="332"/>
                </a:lnTo>
                <a:lnTo>
                  <a:pt x="731" y="332"/>
                </a:lnTo>
                <a:lnTo>
                  <a:pt x="738" y="332"/>
                </a:lnTo>
                <a:lnTo>
                  <a:pt x="744" y="338"/>
                </a:lnTo>
                <a:lnTo>
                  <a:pt x="750" y="332"/>
                </a:lnTo>
                <a:lnTo>
                  <a:pt x="756" y="338"/>
                </a:lnTo>
                <a:lnTo>
                  <a:pt x="763" y="338"/>
                </a:lnTo>
                <a:lnTo>
                  <a:pt x="769" y="338"/>
                </a:lnTo>
                <a:lnTo>
                  <a:pt x="775" y="344"/>
                </a:lnTo>
                <a:lnTo>
                  <a:pt x="775" y="338"/>
                </a:lnTo>
                <a:lnTo>
                  <a:pt x="781" y="338"/>
                </a:lnTo>
                <a:lnTo>
                  <a:pt x="788" y="338"/>
                </a:lnTo>
                <a:lnTo>
                  <a:pt x="788" y="344"/>
                </a:lnTo>
                <a:lnTo>
                  <a:pt x="794" y="344"/>
                </a:lnTo>
                <a:lnTo>
                  <a:pt x="800" y="338"/>
                </a:lnTo>
                <a:lnTo>
                  <a:pt x="806" y="338"/>
                </a:lnTo>
                <a:lnTo>
                  <a:pt x="806" y="344"/>
                </a:lnTo>
                <a:lnTo>
                  <a:pt x="813" y="344"/>
                </a:lnTo>
                <a:lnTo>
                  <a:pt x="819" y="344"/>
                </a:lnTo>
                <a:lnTo>
                  <a:pt x="819" y="350"/>
                </a:lnTo>
                <a:lnTo>
                  <a:pt x="825" y="350"/>
                </a:lnTo>
                <a:lnTo>
                  <a:pt x="831" y="350"/>
                </a:lnTo>
                <a:lnTo>
                  <a:pt x="831" y="344"/>
                </a:lnTo>
                <a:lnTo>
                  <a:pt x="838" y="344"/>
                </a:lnTo>
                <a:lnTo>
                  <a:pt x="838" y="350"/>
                </a:lnTo>
                <a:lnTo>
                  <a:pt x="844" y="350"/>
                </a:lnTo>
                <a:lnTo>
                  <a:pt x="850" y="350"/>
                </a:lnTo>
                <a:lnTo>
                  <a:pt x="856" y="357"/>
                </a:lnTo>
                <a:lnTo>
                  <a:pt x="856" y="350"/>
                </a:lnTo>
                <a:lnTo>
                  <a:pt x="863" y="357"/>
                </a:lnTo>
                <a:lnTo>
                  <a:pt x="869" y="350"/>
                </a:lnTo>
                <a:lnTo>
                  <a:pt x="875" y="357"/>
                </a:lnTo>
                <a:lnTo>
                  <a:pt x="881" y="357"/>
                </a:lnTo>
                <a:lnTo>
                  <a:pt x="881" y="350"/>
                </a:lnTo>
                <a:lnTo>
                  <a:pt x="888" y="350"/>
                </a:lnTo>
                <a:lnTo>
                  <a:pt x="894" y="357"/>
                </a:lnTo>
                <a:lnTo>
                  <a:pt x="900" y="357"/>
                </a:lnTo>
                <a:lnTo>
                  <a:pt x="906" y="363"/>
                </a:lnTo>
                <a:lnTo>
                  <a:pt x="913" y="357"/>
                </a:lnTo>
                <a:lnTo>
                  <a:pt x="919" y="357"/>
                </a:lnTo>
                <a:lnTo>
                  <a:pt x="925" y="363"/>
                </a:lnTo>
                <a:lnTo>
                  <a:pt x="931" y="357"/>
                </a:lnTo>
                <a:lnTo>
                  <a:pt x="938" y="363"/>
                </a:lnTo>
                <a:lnTo>
                  <a:pt x="938" y="369"/>
                </a:lnTo>
                <a:lnTo>
                  <a:pt x="944" y="363"/>
                </a:lnTo>
                <a:lnTo>
                  <a:pt x="950" y="363"/>
                </a:lnTo>
                <a:lnTo>
                  <a:pt x="950" y="369"/>
                </a:lnTo>
                <a:lnTo>
                  <a:pt x="956" y="369"/>
                </a:lnTo>
                <a:lnTo>
                  <a:pt x="963" y="369"/>
                </a:lnTo>
                <a:lnTo>
                  <a:pt x="963" y="363"/>
                </a:lnTo>
                <a:lnTo>
                  <a:pt x="969" y="369"/>
                </a:lnTo>
                <a:lnTo>
                  <a:pt x="975" y="369"/>
                </a:lnTo>
                <a:lnTo>
                  <a:pt x="975" y="363"/>
                </a:lnTo>
                <a:lnTo>
                  <a:pt x="981" y="369"/>
                </a:lnTo>
                <a:lnTo>
                  <a:pt x="981" y="375"/>
                </a:lnTo>
                <a:lnTo>
                  <a:pt x="988" y="369"/>
                </a:lnTo>
                <a:lnTo>
                  <a:pt x="994" y="369"/>
                </a:lnTo>
                <a:lnTo>
                  <a:pt x="1000" y="369"/>
                </a:lnTo>
                <a:lnTo>
                  <a:pt x="1000" y="375"/>
                </a:lnTo>
                <a:lnTo>
                  <a:pt x="1006" y="375"/>
                </a:lnTo>
                <a:lnTo>
                  <a:pt x="1006" y="369"/>
                </a:lnTo>
                <a:lnTo>
                  <a:pt x="1013" y="369"/>
                </a:lnTo>
                <a:lnTo>
                  <a:pt x="1013" y="375"/>
                </a:lnTo>
                <a:lnTo>
                  <a:pt x="1019" y="375"/>
                </a:lnTo>
                <a:lnTo>
                  <a:pt x="1025" y="375"/>
                </a:lnTo>
                <a:lnTo>
                  <a:pt x="1025" y="369"/>
                </a:lnTo>
                <a:lnTo>
                  <a:pt x="1031" y="375"/>
                </a:lnTo>
                <a:lnTo>
                  <a:pt x="1031" y="382"/>
                </a:lnTo>
                <a:lnTo>
                  <a:pt x="1038" y="375"/>
                </a:lnTo>
                <a:lnTo>
                  <a:pt x="1044" y="375"/>
                </a:lnTo>
                <a:lnTo>
                  <a:pt x="1050" y="375"/>
                </a:lnTo>
                <a:lnTo>
                  <a:pt x="1056" y="375"/>
                </a:lnTo>
                <a:lnTo>
                  <a:pt x="1063" y="375"/>
                </a:lnTo>
                <a:lnTo>
                  <a:pt x="1069" y="375"/>
                </a:lnTo>
                <a:lnTo>
                  <a:pt x="1069" y="382"/>
                </a:lnTo>
                <a:lnTo>
                  <a:pt x="1075" y="375"/>
                </a:lnTo>
                <a:lnTo>
                  <a:pt x="1075" y="382"/>
                </a:lnTo>
                <a:lnTo>
                  <a:pt x="1081" y="382"/>
                </a:lnTo>
                <a:lnTo>
                  <a:pt x="1088" y="382"/>
                </a:lnTo>
                <a:lnTo>
                  <a:pt x="1094" y="382"/>
                </a:lnTo>
                <a:lnTo>
                  <a:pt x="1100" y="382"/>
                </a:lnTo>
                <a:lnTo>
                  <a:pt x="1106" y="382"/>
                </a:lnTo>
                <a:lnTo>
                  <a:pt x="1113" y="382"/>
                </a:lnTo>
                <a:lnTo>
                  <a:pt x="1119" y="382"/>
                </a:lnTo>
                <a:lnTo>
                  <a:pt x="1125" y="382"/>
                </a:lnTo>
                <a:lnTo>
                  <a:pt x="1131" y="382"/>
                </a:lnTo>
                <a:lnTo>
                  <a:pt x="1138" y="388"/>
                </a:lnTo>
                <a:lnTo>
                  <a:pt x="1144" y="388"/>
                </a:lnTo>
                <a:lnTo>
                  <a:pt x="1150" y="394"/>
                </a:lnTo>
                <a:lnTo>
                  <a:pt x="1150" y="388"/>
                </a:lnTo>
                <a:lnTo>
                  <a:pt x="1156" y="388"/>
                </a:lnTo>
                <a:lnTo>
                  <a:pt x="1163" y="394"/>
                </a:lnTo>
                <a:lnTo>
                  <a:pt x="1169" y="394"/>
                </a:lnTo>
                <a:lnTo>
                  <a:pt x="1169" y="388"/>
                </a:lnTo>
                <a:lnTo>
                  <a:pt x="1175" y="394"/>
                </a:lnTo>
                <a:lnTo>
                  <a:pt x="1181" y="394"/>
                </a:lnTo>
                <a:lnTo>
                  <a:pt x="1188" y="388"/>
                </a:lnTo>
                <a:lnTo>
                  <a:pt x="1194" y="394"/>
                </a:lnTo>
                <a:lnTo>
                  <a:pt x="1200" y="394"/>
                </a:lnTo>
                <a:lnTo>
                  <a:pt x="1206" y="400"/>
                </a:lnTo>
                <a:lnTo>
                  <a:pt x="1213" y="394"/>
                </a:lnTo>
                <a:lnTo>
                  <a:pt x="1219" y="394"/>
                </a:lnTo>
                <a:lnTo>
                  <a:pt x="1225" y="394"/>
                </a:lnTo>
                <a:lnTo>
                  <a:pt x="1225" y="400"/>
                </a:lnTo>
                <a:lnTo>
                  <a:pt x="1231" y="400"/>
                </a:lnTo>
                <a:lnTo>
                  <a:pt x="1231" y="394"/>
                </a:lnTo>
                <a:lnTo>
                  <a:pt x="1238" y="394"/>
                </a:lnTo>
                <a:lnTo>
                  <a:pt x="1244" y="400"/>
                </a:lnTo>
                <a:lnTo>
                  <a:pt x="1250" y="400"/>
                </a:lnTo>
                <a:lnTo>
                  <a:pt x="1250" y="394"/>
                </a:lnTo>
                <a:lnTo>
                  <a:pt x="1256" y="394"/>
                </a:lnTo>
                <a:lnTo>
                  <a:pt x="1256" y="407"/>
                </a:lnTo>
                <a:lnTo>
                  <a:pt x="1263" y="400"/>
                </a:lnTo>
                <a:lnTo>
                  <a:pt x="1269" y="400"/>
                </a:lnTo>
                <a:lnTo>
                  <a:pt x="1275" y="407"/>
                </a:lnTo>
                <a:lnTo>
                  <a:pt x="1281" y="407"/>
                </a:lnTo>
                <a:lnTo>
                  <a:pt x="1281" y="400"/>
                </a:lnTo>
                <a:lnTo>
                  <a:pt x="1288" y="400"/>
                </a:lnTo>
                <a:lnTo>
                  <a:pt x="1288" y="407"/>
                </a:lnTo>
                <a:lnTo>
                  <a:pt x="1294" y="407"/>
                </a:lnTo>
                <a:lnTo>
                  <a:pt x="1294" y="400"/>
                </a:lnTo>
                <a:lnTo>
                  <a:pt x="1300" y="400"/>
                </a:lnTo>
                <a:lnTo>
                  <a:pt x="1306" y="407"/>
                </a:lnTo>
                <a:lnTo>
                  <a:pt x="1313" y="407"/>
                </a:lnTo>
                <a:lnTo>
                  <a:pt x="1313" y="400"/>
                </a:lnTo>
                <a:lnTo>
                  <a:pt x="1319" y="407"/>
                </a:lnTo>
                <a:lnTo>
                  <a:pt x="1325" y="407"/>
                </a:lnTo>
                <a:lnTo>
                  <a:pt x="1331" y="407"/>
                </a:lnTo>
                <a:lnTo>
                  <a:pt x="1338" y="413"/>
                </a:lnTo>
                <a:lnTo>
                  <a:pt x="1344" y="413"/>
                </a:lnTo>
                <a:lnTo>
                  <a:pt x="1344" y="407"/>
                </a:lnTo>
                <a:lnTo>
                  <a:pt x="1350" y="407"/>
                </a:lnTo>
                <a:lnTo>
                  <a:pt x="1356" y="413"/>
                </a:lnTo>
                <a:lnTo>
                  <a:pt x="1363" y="407"/>
                </a:lnTo>
                <a:lnTo>
                  <a:pt x="1369" y="407"/>
                </a:lnTo>
                <a:lnTo>
                  <a:pt x="1369" y="413"/>
                </a:lnTo>
                <a:lnTo>
                  <a:pt x="1375" y="413"/>
                </a:lnTo>
                <a:lnTo>
                  <a:pt x="1381" y="407"/>
                </a:lnTo>
                <a:lnTo>
                  <a:pt x="1388" y="413"/>
                </a:lnTo>
                <a:lnTo>
                  <a:pt x="1388" y="419"/>
                </a:lnTo>
                <a:lnTo>
                  <a:pt x="1394" y="413"/>
                </a:lnTo>
                <a:lnTo>
                  <a:pt x="1400" y="413"/>
                </a:lnTo>
                <a:lnTo>
                  <a:pt x="1400" y="419"/>
                </a:lnTo>
                <a:lnTo>
                  <a:pt x="1406" y="419"/>
                </a:lnTo>
                <a:lnTo>
                  <a:pt x="1413" y="413"/>
                </a:lnTo>
                <a:lnTo>
                  <a:pt x="1419" y="413"/>
                </a:lnTo>
                <a:lnTo>
                  <a:pt x="1419" y="419"/>
                </a:lnTo>
                <a:lnTo>
                  <a:pt x="1425" y="419"/>
                </a:lnTo>
                <a:lnTo>
                  <a:pt x="1431" y="413"/>
                </a:lnTo>
                <a:lnTo>
                  <a:pt x="1431" y="419"/>
                </a:lnTo>
                <a:lnTo>
                  <a:pt x="1438" y="419"/>
                </a:lnTo>
                <a:lnTo>
                  <a:pt x="1444" y="419"/>
                </a:lnTo>
                <a:lnTo>
                  <a:pt x="1444" y="413"/>
                </a:lnTo>
                <a:lnTo>
                  <a:pt x="1450" y="413"/>
                </a:lnTo>
                <a:lnTo>
                  <a:pt x="1450" y="419"/>
                </a:lnTo>
                <a:lnTo>
                  <a:pt x="1456" y="419"/>
                </a:lnTo>
                <a:lnTo>
                  <a:pt x="1463" y="419"/>
                </a:lnTo>
                <a:lnTo>
                  <a:pt x="1469" y="419"/>
                </a:lnTo>
                <a:lnTo>
                  <a:pt x="1475" y="419"/>
                </a:lnTo>
                <a:lnTo>
                  <a:pt x="1481" y="419"/>
                </a:lnTo>
                <a:lnTo>
                  <a:pt x="1488" y="425"/>
                </a:lnTo>
                <a:lnTo>
                  <a:pt x="1488" y="419"/>
                </a:lnTo>
                <a:lnTo>
                  <a:pt x="1494" y="419"/>
                </a:lnTo>
                <a:lnTo>
                  <a:pt x="1500" y="425"/>
                </a:lnTo>
                <a:lnTo>
                  <a:pt x="1506" y="425"/>
                </a:lnTo>
                <a:lnTo>
                  <a:pt x="1513" y="419"/>
                </a:lnTo>
                <a:lnTo>
                  <a:pt x="1519" y="425"/>
                </a:lnTo>
                <a:lnTo>
                  <a:pt x="1525" y="425"/>
                </a:lnTo>
                <a:lnTo>
                  <a:pt x="1525" y="419"/>
                </a:lnTo>
                <a:lnTo>
                  <a:pt x="1531" y="419"/>
                </a:lnTo>
                <a:lnTo>
                  <a:pt x="1531" y="425"/>
                </a:lnTo>
                <a:lnTo>
                  <a:pt x="1538" y="425"/>
                </a:lnTo>
                <a:lnTo>
                  <a:pt x="1544" y="419"/>
                </a:lnTo>
                <a:lnTo>
                  <a:pt x="1550" y="425"/>
                </a:lnTo>
                <a:lnTo>
                  <a:pt x="1556" y="425"/>
                </a:lnTo>
                <a:lnTo>
                  <a:pt x="1563" y="425"/>
                </a:lnTo>
                <a:lnTo>
                  <a:pt x="1569" y="425"/>
                </a:lnTo>
                <a:lnTo>
                  <a:pt x="1575" y="425"/>
                </a:lnTo>
                <a:lnTo>
                  <a:pt x="1581" y="432"/>
                </a:lnTo>
                <a:lnTo>
                  <a:pt x="1588" y="425"/>
                </a:lnTo>
                <a:lnTo>
                  <a:pt x="1594" y="425"/>
                </a:lnTo>
                <a:lnTo>
                  <a:pt x="1600" y="432"/>
                </a:lnTo>
                <a:lnTo>
                  <a:pt x="1606" y="432"/>
                </a:lnTo>
                <a:lnTo>
                  <a:pt x="1613" y="432"/>
                </a:lnTo>
                <a:lnTo>
                  <a:pt x="1613" y="425"/>
                </a:lnTo>
                <a:lnTo>
                  <a:pt x="1619" y="425"/>
                </a:lnTo>
                <a:lnTo>
                  <a:pt x="1625" y="425"/>
                </a:lnTo>
                <a:lnTo>
                  <a:pt x="1631" y="425"/>
                </a:lnTo>
                <a:lnTo>
                  <a:pt x="1638" y="425"/>
                </a:lnTo>
                <a:lnTo>
                  <a:pt x="1644" y="425"/>
                </a:lnTo>
                <a:lnTo>
                  <a:pt x="1650" y="425"/>
                </a:lnTo>
                <a:lnTo>
                  <a:pt x="1650" y="432"/>
                </a:lnTo>
                <a:lnTo>
                  <a:pt x="1656" y="432"/>
                </a:lnTo>
                <a:lnTo>
                  <a:pt x="1656" y="425"/>
                </a:lnTo>
                <a:lnTo>
                  <a:pt x="1663" y="432"/>
                </a:lnTo>
                <a:lnTo>
                  <a:pt x="1669" y="438"/>
                </a:lnTo>
                <a:lnTo>
                  <a:pt x="1675" y="432"/>
                </a:lnTo>
                <a:lnTo>
                  <a:pt x="1681" y="432"/>
                </a:lnTo>
                <a:lnTo>
                  <a:pt x="1681" y="438"/>
                </a:lnTo>
                <a:lnTo>
                  <a:pt x="1688" y="438"/>
                </a:lnTo>
                <a:lnTo>
                  <a:pt x="1694" y="432"/>
                </a:lnTo>
                <a:lnTo>
                  <a:pt x="1700" y="438"/>
                </a:lnTo>
                <a:lnTo>
                  <a:pt x="1706" y="438"/>
                </a:lnTo>
                <a:lnTo>
                  <a:pt x="1706" y="432"/>
                </a:lnTo>
                <a:lnTo>
                  <a:pt x="1713" y="432"/>
                </a:lnTo>
                <a:lnTo>
                  <a:pt x="1719" y="438"/>
                </a:lnTo>
                <a:lnTo>
                  <a:pt x="1725" y="432"/>
                </a:lnTo>
                <a:lnTo>
                  <a:pt x="1731" y="432"/>
                </a:lnTo>
                <a:lnTo>
                  <a:pt x="1738" y="438"/>
                </a:lnTo>
                <a:lnTo>
                  <a:pt x="1744" y="438"/>
                </a:lnTo>
                <a:lnTo>
                  <a:pt x="1750" y="438"/>
                </a:lnTo>
                <a:lnTo>
                  <a:pt x="1756" y="438"/>
                </a:lnTo>
                <a:lnTo>
                  <a:pt x="1763" y="438"/>
                </a:lnTo>
                <a:lnTo>
                  <a:pt x="1769" y="438"/>
                </a:lnTo>
                <a:lnTo>
                  <a:pt x="1769" y="444"/>
                </a:lnTo>
                <a:lnTo>
                  <a:pt x="1775" y="438"/>
                </a:lnTo>
                <a:lnTo>
                  <a:pt x="1781" y="438"/>
                </a:lnTo>
                <a:lnTo>
                  <a:pt x="1788" y="438"/>
                </a:lnTo>
                <a:lnTo>
                  <a:pt x="1794" y="438"/>
                </a:lnTo>
                <a:lnTo>
                  <a:pt x="1800" y="444"/>
                </a:lnTo>
                <a:lnTo>
                  <a:pt x="1800" y="438"/>
                </a:lnTo>
                <a:lnTo>
                  <a:pt x="1806" y="444"/>
                </a:lnTo>
                <a:lnTo>
                  <a:pt x="1813" y="444"/>
                </a:lnTo>
                <a:lnTo>
                  <a:pt x="1813" y="438"/>
                </a:lnTo>
                <a:lnTo>
                  <a:pt x="1819" y="438"/>
                </a:lnTo>
                <a:lnTo>
                  <a:pt x="1825" y="444"/>
                </a:lnTo>
                <a:lnTo>
                  <a:pt x="1831" y="444"/>
                </a:lnTo>
                <a:lnTo>
                  <a:pt x="1838" y="444"/>
                </a:lnTo>
                <a:lnTo>
                  <a:pt x="1844" y="444"/>
                </a:lnTo>
                <a:lnTo>
                  <a:pt x="1850" y="450"/>
                </a:lnTo>
                <a:lnTo>
                  <a:pt x="1850" y="444"/>
                </a:lnTo>
                <a:lnTo>
                  <a:pt x="1856" y="450"/>
                </a:lnTo>
                <a:lnTo>
                  <a:pt x="1856" y="444"/>
                </a:lnTo>
                <a:lnTo>
                  <a:pt x="1863" y="444"/>
                </a:lnTo>
                <a:lnTo>
                  <a:pt x="1869" y="450"/>
                </a:lnTo>
                <a:lnTo>
                  <a:pt x="1875" y="444"/>
                </a:lnTo>
                <a:lnTo>
                  <a:pt x="1881" y="444"/>
                </a:lnTo>
                <a:lnTo>
                  <a:pt x="1888" y="444"/>
                </a:lnTo>
                <a:lnTo>
                  <a:pt x="1894" y="444"/>
                </a:lnTo>
                <a:lnTo>
                  <a:pt x="1900" y="450"/>
                </a:lnTo>
                <a:lnTo>
                  <a:pt x="1906" y="450"/>
                </a:lnTo>
                <a:lnTo>
                  <a:pt x="1906" y="457"/>
                </a:lnTo>
                <a:lnTo>
                  <a:pt x="1913" y="450"/>
                </a:lnTo>
                <a:lnTo>
                  <a:pt x="1913" y="457"/>
                </a:lnTo>
                <a:lnTo>
                  <a:pt x="1919" y="450"/>
                </a:lnTo>
                <a:lnTo>
                  <a:pt x="1925" y="457"/>
                </a:lnTo>
                <a:lnTo>
                  <a:pt x="1931" y="457"/>
                </a:lnTo>
                <a:lnTo>
                  <a:pt x="1931" y="450"/>
                </a:lnTo>
                <a:lnTo>
                  <a:pt x="1938" y="450"/>
                </a:lnTo>
                <a:lnTo>
                  <a:pt x="1944" y="450"/>
                </a:lnTo>
                <a:lnTo>
                  <a:pt x="1950" y="457"/>
                </a:lnTo>
                <a:lnTo>
                  <a:pt x="1956" y="457"/>
                </a:lnTo>
                <a:lnTo>
                  <a:pt x="1963" y="457"/>
                </a:lnTo>
                <a:lnTo>
                  <a:pt x="1969" y="463"/>
                </a:lnTo>
                <a:lnTo>
                  <a:pt x="1969" y="457"/>
                </a:lnTo>
                <a:lnTo>
                  <a:pt x="1975" y="457"/>
                </a:lnTo>
                <a:lnTo>
                  <a:pt x="1981" y="463"/>
                </a:lnTo>
                <a:lnTo>
                  <a:pt x="1988" y="463"/>
                </a:lnTo>
                <a:lnTo>
                  <a:pt x="1988" y="457"/>
                </a:lnTo>
                <a:lnTo>
                  <a:pt x="1994" y="457"/>
                </a:lnTo>
                <a:lnTo>
                  <a:pt x="2000" y="463"/>
                </a:lnTo>
                <a:lnTo>
                  <a:pt x="2006" y="463"/>
                </a:lnTo>
                <a:lnTo>
                  <a:pt x="2013" y="463"/>
                </a:lnTo>
                <a:lnTo>
                  <a:pt x="2013" y="469"/>
                </a:lnTo>
                <a:lnTo>
                  <a:pt x="2019" y="463"/>
                </a:lnTo>
                <a:lnTo>
                  <a:pt x="2025" y="463"/>
                </a:lnTo>
                <a:lnTo>
                  <a:pt x="2031" y="463"/>
                </a:lnTo>
                <a:lnTo>
                  <a:pt x="2031" y="469"/>
                </a:lnTo>
                <a:lnTo>
                  <a:pt x="2038" y="469"/>
                </a:lnTo>
                <a:lnTo>
                  <a:pt x="2038" y="463"/>
                </a:lnTo>
                <a:lnTo>
                  <a:pt x="2044" y="463"/>
                </a:lnTo>
                <a:lnTo>
                  <a:pt x="2050" y="469"/>
                </a:lnTo>
                <a:lnTo>
                  <a:pt x="2056" y="469"/>
                </a:lnTo>
                <a:lnTo>
                  <a:pt x="2063" y="469"/>
                </a:lnTo>
                <a:lnTo>
                  <a:pt x="2063" y="475"/>
                </a:lnTo>
                <a:lnTo>
                  <a:pt x="2069" y="475"/>
                </a:lnTo>
                <a:lnTo>
                  <a:pt x="2069" y="469"/>
                </a:lnTo>
                <a:lnTo>
                  <a:pt x="2075" y="469"/>
                </a:lnTo>
                <a:lnTo>
                  <a:pt x="2081" y="475"/>
                </a:lnTo>
                <a:lnTo>
                  <a:pt x="2088" y="469"/>
                </a:lnTo>
                <a:lnTo>
                  <a:pt x="2088" y="475"/>
                </a:lnTo>
                <a:lnTo>
                  <a:pt x="2094" y="475"/>
                </a:lnTo>
                <a:lnTo>
                  <a:pt x="2100" y="482"/>
                </a:lnTo>
                <a:lnTo>
                  <a:pt x="2100" y="475"/>
                </a:lnTo>
                <a:lnTo>
                  <a:pt x="2106" y="475"/>
                </a:lnTo>
                <a:lnTo>
                  <a:pt x="2113" y="475"/>
                </a:lnTo>
                <a:lnTo>
                  <a:pt x="2113" y="482"/>
                </a:lnTo>
                <a:lnTo>
                  <a:pt x="2119" y="482"/>
                </a:lnTo>
                <a:lnTo>
                  <a:pt x="2125" y="475"/>
                </a:lnTo>
                <a:lnTo>
                  <a:pt x="2131" y="482"/>
                </a:lnTo>
                <a:lnTo>
                  <a:pt x="2138" y="482"/>
                </a:lnTo>
                <a:lnTo>
                  <a:pt x="2144" y="488"/>
                </a:lnTo>
                <a:lnTo>
                  <a:pt x="2150" y="482"/>
                </a:lnTo>
                <a:lnTo>
                  <a:pt x="2156" y="482"/>
                </a:lnTo>
                <a:lnTo>
                  <a:pt x="2163" y="488"/>
                </a:lnTo>
                <a:lnTo>
                  <a:pt x="2169" y="488"/>
                </a:lnTo>
                <a:lnTo>
                  <a:pt x="2169" y="482"/>
                </a:lnTo>
                <a:lnTo>
                  <a:pt x="2175" y="482"/>
                </a:lnTo>
                <a:lnTo>
                  <a:pt x="2175" y="488"/>
                </a:lnTo>
                <a:lnTo>
                  <a:pt x="2181" y="488"/>
                </a:lnTo>
                <a:lnTo>
                  <a:pt x="2188" y="488"/>
                </a:lnTo>
                <a:lnTo>
                  <a:pt x="2194" y="488"/>
                </a:lnTo>
                <a:lnTo>
                  <a:pt x="2194" y="494"/>
                </a:lnTo>
                <a:lnTo>
                  <a:pt x="2200" y="488"/>
                </a:lnTo>
                <a:lnTo>
                  <a:pt x="2206" y="494"/>
                </a:lnTo>
                <a:lnTo>
                  <a:pt x="2213" y="488"/>
                </a:lnTo>
                <a:lnTo>
                  <a:pt x="2213" y="494"/>
                </a:lnTo>
                <a:lnTo>
                  <a:pt x="2219" y="494"/>
                </a:lnTo>
                <a:lnTo>
                  <a:pt x="2225" y="500"/>
                </a:lnTo>
                <a:lnTo>
                  <a:pt x="2225" y="494"/>
                </a:lnTo>
                <a:lnTo>
                  <a:pt x="2231" y="494"/>
                </a:lnTo>
                <a:lnTo>
                  <a:pt x="2238" y="500"/>
                </a:lnTo>
                <a:lnTo>
                  <a:pt x="2244" y="494"/>
                </a:lnTo>
                <a:lnTo>
                  <a:pt x="2250" y="507"/>
                </a:lnTo>
                <a:lnTo>
                  <a:pt x="2256" y="500"/>
                </a:lnTo>
                <a:lnTo>
                  <a:pt x="2263" y="500"/>
                </a:lnTo>
                <a:lnTo>
                  <a:pt x="2269" y="507"/>
                </a:lnTo>
                <a:lnTo>
                  <a:pt x="2275" y="507"/>
                </a:lnTo>
                <a:lnTo>
                  <a:pt x="2281" y="513"/>
                </a:lnTo>
                <a:lnTo>
                  <a:pt x="2288" y="513"/>
                </a:lnTo>
                <a:lnTo>
                  <a:pt x="2288" y="507"/>
                </a:lnTo>
                <a:lnTo>
                  <a:pt x="2294" y="507"/>
                </a:lnTo>
                <a:lnTo>
                  <a:pt x="2300" y="513"/>
                </a:lnTo>
                <a:lnTo>
                  <a:pt x="2306" y="513"/>
                </a:lnTo>
                <a:lnTo>
                  <a:pt x="2313" y="513"/>
                </a:lnTo>
                <a:lnTo>
                  <a:pt x="2319" y="519"/>
                </a:lnTo>
                <a:lnTo>
                  <a:pt x="2325" y="513"/>
                </a:lnTo>
                <a:lnTo>
                  <a:pt x="2331" y="525"/>
                </a:lnTo>
                <a:lnTo>
                  <a:pt x="2338" y="525"/>
                </a:lnTo>
                <a:lnTo>
                  <a:pt x="2338" y="519"/>
                </a:lnTo>
                <a:lnTo>
                  <a:pt x="2344" y="525"/>
                </a:lnTo>
                <a:lnTo>
                  <a:pt x="2344" y="532"/>
                </a:lnTo>
                <a:lnTo>
                  <a:pt x="2350" y="532"/>
                </a:lnTo>
                <a:lnTo>
                  <a:pt x="2356" y="532"/>
                </a:lnTo>
                <a:lnTo>
                  <a:pt x="2356" y="525"/>
                </a:lnTo>
                <a:lnTo>
                  <a:pt x="2363" y="532"/>
                </a:lnTo>
                <a:lnTo>
                  <a:pt x="2363" y="538"/>
                </a:lnTo>
                <a:lnTo>
                  <a:pt x="2369" y="538"/>
                </a:lnTo>
                <a:lnTo>
                  <a:pt x="2369" y="532"/>
                </a:lnTo>
                <a:lnTo>
                  <a:pt x="2375" y="538"/>
                </a:lnTo>
                <a:lnTo>
                  <a:pt x="2381" y="544"/>
                </a:lnTo>
                <a:lnTo>
                  <a:pt x="2388" y="544"/>
                </a:lnTo>
                <a:lnTo>
                  <a:pt x="2394" y="544"/>
                </a:lnTo>
                <a:lnTo>
                  <a:pt x="2394" y="550"/>
                </a:lnTo>
                <a:lnTo>
                  <a:pt x="2400" y="557"/>
                </a:lnTo>
                <a:lnTo>
                  <a:pt x="2406" y="550"/>
                </a:lnTo>
                <a:lnTo>
                  <a:pt x="2406" y="557"/>
                </a:lnTo>
                <a:lnTo>
                  <a:pt x="2413" y="557"/>
                </a:lnTo>
                <a:lnTo>
                  <a:pt x="2419" y="569"/>
                </a:lnTo>
                <a:lnTo>
                  <a:pt x="2425" y="569"/>
                </a:lnTo>
                <a:lnTo>
                  <a:pt x="2431" y="569"/>
                </a:lnTo>
                <a:lnTo>
                  <a:pt x="2431" y="582"/>
                </a:lnTo>
                <a:lnTo>
                  <a:pt x="2438" y="582"/>
                </a:lnTo>
                <a:lnTo>
                  <a:pt x="2444" y="582"/>
                </a:lnTo>
                <a:lnTo>
                  <a:pt x="2450" y="594"/>
                </a:lnTo>
                <a:lnTo>
                  <a:pt x="2456" y="600"/>
                </a:lnTo>
                <a:lnTo>
                  <a:pt x="2463" y="600"/>
                </a:lnTo>
                <a:lnTo>
                  <a:pt x="2463" y="613"/>
                </a:lnTo>
                <a:lnTo>
                  <a:pt x="2469" y="613"/>
                </a:lnTo>
                <a:lnTo>
                  <a:pt x="2469" y="619"/>
                </a:lnTo>
                <a:lnTo>
                  <a:pt x="2475" y="619"/>
                </a:lnTo>
                <a:lnTo>
                  <a:pt x="2475" y="625"/>
                </a:lnTo>
                <a:lnTo>
                  <a:pt x="2481" y="632"/>
                </a:lnTo>
                <a:lnTo>
                  <a:pt x="2488" y="638"/>
                </a:lnTo>
                <a:lnTo>
                  <a:pt x="2488" y="644"/>
                </a:lnTo>
                <a:lnTo>
                  <a:pt x="2494" y="644"/>
                </a:lnTo>
                <a:lnTo>
                  <a:pt x="2494" y="650"/>
                </a:lnTo>
                <a:lnTo>
                  <a:pt x="2500" y="657"/>
                </a:lnTo>
                <a:lnTo>
                  <a:pt x="2500" y="663"/>
                </a:lnTo>
                <a:lnTo>
                  <a:pt x="2506" y="669"/>
                </a:lnTo>
                <a:lnTo>
                  <a:pt x="2506" y="675"/>
                </a:lnTo>
                <a:lnTo>
                  <a:pt x="2513" y="675"/>
                </a:lnTo>
                <a:lnTo>
                  <a:pt x="2519" y="682"/>
                </a:lnTo>
                <a:lnTo>
                  <a:pt x="2519" y="700"/>
                </a:lnTo>
                <a:lnTo>
                  <a:pt x="2525" y="700"/>
                </a:lnTo>
                <a:lnTo>
                  <a:pt x="2525" y="707"/>
                </a:lnTo>
                <a:lnTo>
                  <a:pt x="2531" y="713"/>
                </a:lnTo>
                <a:lnTo>
                  <a:pt x="2531" y="719"/>
                </a:lnTo>
                <a:lnTo>
                  <a:pt x="2538" y="732"/>
                </a:lnTo>
                <a:lnTo>
                  <a:pt x="2538" y="738"/>
                </a:lnTo>
                <a:lnTo>
                  <a:pt x="2544" y="750"/>
                </a:lnTo>
                <a:lnTo>
                  <a:pt x="2550" y="757"/>
                </a:lnTo>
                <a:lnTo>
                  <a:pt x="2550" y="763"/>
                </a:lnTo>
                <a:lnTo>
                  <a:pt x="2556" y="782"/>
                </a:lnTo>
                <a:lnTo>
                  <a:pt x="2556" y="788"/>
                </a:lnTo>
                <a:lnTo>
                  <a:pt x="2563" y="800"/>
                </a:lnTo>
                <a:lnTo>
                  <a:pt x="2563" y="807"/>
                </a:lnTo>
                <a:lnTo>
                  <a:pt x="2569" y="825"/>
                </a:lnTo>
                <a:lnTo>
                  <a:pt x="2569" y="838"/>
                </a:lnTo>
                <a:lnTo>
                  <a:pt x="2575" y="850"/>
                </a:lnTo>
                <a:lnTo>
                  <a:pt x="2581" y="863"/>
                </a:lnTo>
                <a:lnTo>
                  <a:pt x="2581" y="882"/>
                </a:lnTo>
                <a:lnTo>
                  <a:pt x="2588" y="900"/>
                </a:lnTo>
                <a:lnTo>
                  <a:pt x="2588" y="925"/>
                </a:lnTo>
                <a:lnTo>
                  <a:pt x="2594" y="950"/>
                </a:lnTo>
                <a:lnTo>
                  <a:pt x="2594" y="975"/>
                </a:lnTo>
                <a:lnTo>
                  <a:pt x="2600" y="1000"/>
                </a:lnTo>
                <a:lnTo>
                  <a:pt x="2600" y="1032"/>
                </a:lnTo>
                <a:lnTo>
                  <a:pt x="2606" y="1088"/>
                </a:lnTo>
                <a:lnTo>
                  <a:pt x="2613" y="1132"/>
                </a:lnTo>
                <a:lnTo>
                  <a:pt x="2613" y="1175"/>
                </a:lnTo>
                <a:lnTo>
                  <a:pt x="2619" y="1225"/>
                </a:lnTo>
                <a:lnTo>
                  <a:pt x="2619" y="1244"/>
                </a:lnTo>
                <a:lnTo>
                  <a:pt x="2625" y="1244"/>
                </a:lnTo>
                <a:lnTo>
                  <a:pt x="2631" y="1244"/>
                </a:lnTo>
                <a:lnTo>
                  <a:pt x="2638" y="1244"/>
                </a:lnTo>
                <a:lnTo>
                  <a:pt x="2644" y="1244"/>
                </a:lnTo>
                <a:lnTo>
                  <a:pt x="2650" y="1244"/>
                </a:lnTo>
                <a:lnTo>
                  <a:pt x="2656" y="1244"/>
                </a:lnTo>
                <a:lnTo>
                  <a:pt x="2663" y="1244"/>
                </a:lnTo>
                <a:lnTo>
                  <a:pt x="2669" y="1244"/>
                </a:lnTo>
                <a:lnTo>
                  <a:pt x="2675" y="1244"/>
                </a:lnTo>
                <a:lnTo>
                  <a:pt x="2681" y="1244"/>
                </a:lnTo>
                <a:lnTo>
                  <a:pt x="2688" y="1244"/>
                </a:lnTo>
                <a:lnTo>
                  <a:pt x="2694" y="1244"/>
                </a:lnTo>
                <a:lnTo>
                  <a:pt x="2700" y="1244"/>
                </a:lnTo>
                <a:lnTo>
                  <a:pt x="2706" y="1244"/>
                </a:lnTo>
                <a:lnTo>
                  <a:pt x="2713" y="1244"/>
                </a:lnTo>
                <a:lnTo>
                  <a:pt x="2719" y="1244"/>
                </a:lnTo>
                <a:lnTo>
                  <a:pt x="2725" y="1244"/>
                </a:lnTo>
                <a:lnTo>
                  <a:pt x="2731" y="1244"/>
                </a:lnTo>
                <a:lnTo>
                  <a:pt x="2738" y="1244"/>
                </a:lnTo>
                <a:lnTo>
                  <a:pt x="2744" y="1244"/>
                </a:lnTo>
                <a:lnTo>
                  <a:pt x="2750" y="1244"/>
                </a:lnTo>
                <a:lnTo>
                  <a:pt x="2756" y="1244"/>
                </a:lnTo>
                <a:lnTo>
                  <a:pt x="2763" y="1244"/>
                </a:lnTo>
                <a:lnTo>
                  <a:pt x="2769" y="1244"/>
                </a:lnTo>
                <a:lnTo>
                  <a:pt x="2775" y="1244"/>
                </a:lnTo>
                <a:lnTo>
                  <a:pt x="2781" y="1244"/>
                </a:lnTo>
                <a:lnTo>
                  <a:pt x="2788" y="1244"/>
                </a:lnTo>
                <a:lnTo>
                  <a:pt x="2794" y="1244"/>
                </a:lnTo>
                <a:lnTo>
                  <a:pt x="2800" y="1244"/>
                </a:lnTo>
                <a:lnTo>
                  <a:pt x="2806" y="1244"/>
                </a:lnTo>
                <a:lnTo>
                  <a:pt x="2813" y="1244"/>
                </a:lnTo>
                <a:lnTo>
                  <a:pt x="2819" y="1244"/>
                </a:lnTo>
                <a:lnTo>
                  <a:pt x="2825" y="1244"/>
                </a:lnTo>
                <a:lnTo>
                  <a:pt x="2831" y="1244"/>
                </a:lnTo>
                <a:lnTo>
                  <a:pt x="2838" y="1244"/>
                </a:lnTo>
                <a:lnTo>
                  <a:pt x="2844" y="1244"/>
                </a:lnTo>
                <a:lnTo>
                  <a:pt x="2850" y="1244"/>
                </a:lnTo>
                <a:lnTo>
                  <a:pt x="2856" y="1244"/>
                </a:lnTo>
                <a:lnTo>
                  <a:pt x="2863" y="1244"/>
                </a:lnTo>
                <a:lnTo>
                  <a:pt x="2869" y="1244"/>
                </a:lnTo>
                <a:lnTo>
                  <a:pt x="2875" y="1244"/>
                </a:lnTo>
                <a:lnTo>
                  <a:pt x="2881" y="1244"/>
                </a:lnTo>
                <a:lnTo>
                  <a:pt x="2888" y="1244"/>
                </a:lnTo>
                <a:lnTo>
                  <a:pt x="2894" y="1244"/>
                </a:lnTo>
                <a:lnTo>
                  <a:pt x="2900" y="1244"/>
                </a:lnTo>
                <a:lnTo>
                  <a:pt x="2906" y="1244"/>
                </a:lnTo>
                <a:lnTo>
                  <a:pt x="2913" y="1244"/>
                </a:lnTo>
                <a:lnTo>
                  <a:pt x="2919" y="1244"/>
                </a:lnTo>
                <a:lnTo>
                  <a:pt x="2925" y="1244"/>
                </a:lnTo>
                <a:lnTo>
                  <a:pt x="2931" y="1244"/>
                </a:lnTo>
                <a:lnTo>
                  <a:pt x="2938" y="1244"/>
                </a:lnTo>
                <a:lnTo>
                  <a:pt x="2944" y="1244"/>
                </a:lnTo>
                <a:lnTo>
                  <a:pt x="2950" y="1244"/>
                </a:lnTo>
                <a:lnTo>
                  <a:pt x="2956" y="1244"/>
                </a:lnTo>
                <a:lnTo>
                  <a:pt x="2963" y="1244"/>
                </a:lnTo>
                <a:lnTo>
                  <a:pt x="2969" y="1244"/>
                </a:lnTo>
                <a:lnTo>
                  <a:pt x="2975" y="1244"/>
                </a:lnTo>
                <a:lnTo>
                  <a:pt x="2981" y="1244"/>
                </a:lnTo>
                <a:lnTo>
                  <a:pt x="2988" y="1244"/>
                </a:ln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2707200" y="4422600"/>
            <a:ext cx="6058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apacity, Ah</a:t>
            </a:r>
            <a:endParaRPr b="0" lang="en-US" sz="900" spc="-1" strike="noStrike">
              <a:solidFill>
                <a:srgbClr val="000000"/>
              </a:solidFill>
              <a:latin typeface="Times New Roman"/>
            </a:endParaRPr>
          </a:p>
        </p:txBody>
      </p:sp>
      <p:sp>
        <p:nvSpPr>
          <p:cNvPr id="113" name=""/>
          <p:cNvSpPr/>
          <p:nvPr/>
        </p:nvSpPr>
        <p:spPr>
          <a:xfrm rot="16200000">
            <a:off x="129600" y="2942280"/>
            <a:ext cx="5036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Voltage, V</a:t>
            </a:r>
            <a:endParaRPr b="0" lang="en-US" sz="900" spc="-1" strike="noStrike">
              <a:solidFill>
                <a:srgbClr val="000000"/>
              </a:solidFill>
              <a:latin typeface="Times New Roman"/>
            </a:endParaRPr>
          </a:p>
        </p:txBody>
      </p:sp>
      <p:sp>
        <p:nvSpPr>
          <p:cNvPr id="114" name=""/>
          <p:cNvSpPr/>
          <p:nvPr/>
        </p:nvSpPr>
        <p:spPr>
          <a:xfrm>
            <a:off x="755640" y="3933720"/>
            <a:ext cx="381636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114840" y="3789360"/>
            <a:ext cx="65304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DV0</a:t>
            </a:r>
            <a:endParaRPr b="0" lang="en-US" sz="2000" spc="-1" strike="noStrike">
              <a:solidFill>
                <a:srgbClr val="000000"/>
              </a:solidFill>
              <a:latin typeface="Times New Roman"/>
            </a:endParaRPr>
          </a:p>
        </p:txBody>
      </p:sp>
      <p:sp>
        <p:nvSpPr>
          <p:cNvPr id="116" name=""/>
          <p:cNvSpPr/>
          <p:nvPr/>
        </p:nvSpPr>
        <p:spPr>
          <a:xfrm>
            <a:off x="4572000" y="3897360"/>
            <a:ext cx="1440" cy="3841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4500000" y="4545000"/>
            <a:ext cx="212400" cy="350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Q</a:t>
            </a:r>
            <a:endParaRPr b="0" lang="en-US" sz="2300" spc="-1" strike="noStrike">
              <a:solidFill>
                <a:srgbClr val="000000"/>
              </a:solidFill>
              <a:latin typeface="Times New Roman"/>
            </a:endParaRPr>
          </a:p>
        </p:txBody>
      </p:sp>
      <p:sp>
        <p:nvSpPr>
          <p:cNvPr id="118" name=""/>
          <p:cNvSpPr/>
          <p:nvPr/>
        </p:nvSpPr>
        <p:spPr>
          <a:xfrm>
            <a:off x="4750920" y="4797360"/>
            <a:ext cx="32832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x</a:t>
            </a:r>
            <a:endParaRPr b="0" lang="en-US" sz="1500" spc="-1" strike="noStrike">
              <a:solidFill>
                <a:srgbClr val="000000"/>
              </a:solidFill>
              <a:latin typeface="Times New Roman"/>
            </a:endParaRPr>
          </a:p>
        </p:txBody>
      </p:sp>
      <p:sp>
        <p:nvSpPr>
          <p:cNvPr id="119" name=""/>
          <p:cNvSpPr/>
          <p:nvPr/>
        </p:nvSpPr>
        <p:spPr>
          <a:xfrm>
            <a:off x="4610160" y="3716280"/>
            <a:ext cx="485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a:t>
            </a:r>
            <a:endParaRPr b="0" lang="en-US" sz="1800" spc="-1" strike="noStrike">
              <a:solidFill>
                <a:srgbClr val="000000"/>
              </a:solidFill>
              <a:latin typeface="Times New Roman"/>
            </a:endParaRPr>
          </a:p>
        </p:txBody>
      </p:sp>
      <p:sp>
        <p:nvSpPr>
          <p:cNvPr id="120" name=""/>
          <p:cNvSpPr/>
          <p:nvPr/>
        </p:nvSpPr>
        <p:spPr>
          <a:xfrm>
            <a:off x="4537080" y="3392640"/>
            <a:ext cx="485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endParaRPr b="0" lang="en-US" sz="1800" spc="-1" strike="noStrike">
              <a:solidFill>
                <a:srgbClr val="000000"/>
              </a:solidFill>
              <a:latin typeface="Times New Roman"/>
            </a:endParaRPr>
          </a:p>
        </p:txBody>
      </p:sp>
      <p:sp>
        <p:nvSpPr>
          <p:cNvPr id="121" name=""/>
          <p:cNvSpPr/>
          <p:nvPr/>
        </p:nvSpPr>
        <p:spPr>
          <a:xfrm>
            <a:off x="4249800" y="3033720"/>
            <a:ext cx="485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a:t>
            </a:r>
            <a:endParaRPr b="0" lang="en-US" sz="1800" spc="-1" strike="noStrike">
              <a:solidFill>
                <a:srgbClr val="000000"/>
              </a:solidFill>
              <a:latin typeface="Times New Roman"/>
            </a:endParaRPr>
          </a:p>
        </p:txBody>
      </p:sp>
      <p:sp>
        <p:nvSpPr>
          <p:cNvPr id="122" name=""/>
          <p:cNvSpPr/>
          <p:nvPr/>
        </p:nvSpPr>
        <p:spPr>
          <a:xfrm>
            <a:off x="4500720" y="3608280"/>
            <a:ext cx="0" cy="6127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4356000" y="3321000"/>
            <a:ext cx="0" cy="90000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755640" y="3608280"/>
            <a:ext cx="378000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755640" y="3321000"/>
            <a:ext cx="360036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78120" y="3500280"/>
            <a:ext cx="65304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DV1</a:t>
            </a:r>
            <a:endParaRPr b="0" lang="en-US" sz="2000" spc="-1" strike="noStrike">
              <a:solidFill>
                <a:srgbClr val="000000"/>
              </a:solidFill>
              <a:latin typeface="Times New Roman"/>
            </a:endParaRPr>
          </a:p>
        </p:txBody>
      </p:sp>
      <p:sp>
        <p:nvSpPr>
          <p:cNvPr id="127" name=""/>
          <p:cNvSpPr/>
          <p:nvPr/>
        </p:nvSpPr>
        <p:spPr>
          <a:xfrm>
            <a:off x="-1080" y="3176640"/>
            <a:ext cx="65304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DV2</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BB6F1743-7A7F-4B5F-BD4B-308A982FA97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905120" y="151920"/>
            <a:ext cx="662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arning before fully discharged with </a:t>
            </a:r>
            <a:br>
              <a:rPr sz="2400"/>
            </a:br>
            <a:r>
              <a:rPr b="1" lang="en-US" sz="2400" spc="-1" strike="noStrike">
                <a:solidFill>
                  <a:srgbClr val="000000"/>
                </a:solidFill>
                <a:latin typeface="Arial"/>
              </a:rPr>
              <a:t>current and temperature compensation</a:t>
            </a:r>
            <a:endParaRPr b="1" lang="en-US" sz="2400" spc="-1" strike="noStrike">
              <a:solidFill>
                <a:srgbClr val="000000"/>
              </a:solidFill>
              <a:latin typeface="Arial"/>
            </a:endParaRPr>
          </a:p>
        </p:txBody>
      </p:sp>
      <p:sp>
        <p:nvSpPr>
          <p:cNvPr id="129" name="PlaceHolder 2"/>
          <p:cNvSpPr>
            <a:spLocks noGrp="1"/>
          </p:cNvSpPr>
          <p:nvPr>
            <p:ph/>
          </p:nvPr>
        </p:nvSpPr>
        <p:spPr>
          <a:xfrm>
            <a:off x="5651640" y="1592280"/>
            <a:ext cx="313344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eling last part of discharge allows to calculate function V(SOC, I, 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bstituting SOC=7% allows to calculate in real time CEDV2 threshold that corresponds to 7% capacity at any current and temperatur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0" name=""/>
          <p:cNvSpPr/>
          <p:nvPr/>
        </p:nvSpPr>
        <p:spPr>
          <a:xfrm>
            <a:off x="75240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1" name=""/>
          <p:cNvSpPr/>
          <p:nvPr/>
        </p:nvSpPr>
        <p:spPr>
          <a:xfrm>
            <a:off x="75240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2" name=""/>
          <p:cNvSpPr/>
          <p:nvPr/>
        </p:nvSpPr>
        <p:spPr>
          <a:xfrm>
            <a:off x="149544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3" name=""/>
          <p:cNvSpPr/>
          <p:nvPr/>
        </p:nvSpPr>
        <p:spPr>
          <a:xfrm>
            <a:off x="149544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4" name=""/>
          <p:cNvSpPr/>
          <p:nvPr/>
        </p:nvSpPr>
        <p:spPr>
          <a:xfrm>
            <a:off x="223668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5" name=""/>
          <p:cNvSpPr/>
          <p:nvPr/>
        </p:nvSpPr>
        <p:spPr>
          <a:xfrm>
            <a:off x="223668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6" name=""/>
          <p:cNvSpPr/>
          <p:nvPr/>
        </p:nvSpPr>
        <p:spPr>
          <a:xfrm>
            <a:off x="297972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7" name=""/>
          <p:cNvSpPr/>
          <p:nvPr/>
        </p:nvSpPr>
        <p:spPr>
          <a:xfrm>
            <a:off x="297972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8" name=""/>
          <p:cNvSpPr/>
          <p:nvPr/>
        </p:nvSpPr>
        <p:spPr>
          <a:xfrm>
            <a:off x="372096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9" name=""/>
          <p:cNvSpPr/>
          <p:nvPr/>
        </p:nvSpPr>
        <p:spPr>
          <a:xfrm>
            <a:off x="372096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0" name=""/>
          <p:cNvSpPr/>
          <p:nvPr/>
        </p:nvSpPr>
        <p:spPr>
          <a:xfrm>
            <a:off x="446256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1" name=""/>
          <p:cNvSpPr/>
          <p:nvPr/>
        </p:nvSpPr>
        <p:spPr>
          <a:xfrm>
            <a:off x="446256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2" name=""/>
          <p:cNvSpPr/>
          <p:nvPr/>
        </p:nvSpPr>
        <p:spPr>
          <a:xfrm>
            <a:off x="521352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3" name=""/>
          <p:cNvSpPr/>
          <p:nvPr/>
        </p:nvSpPr>
        <p:spPr>
          <a:xfrm>
            <a:off x="521352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4" name=""/>
          <p:cNvSpPr/>
          <p:nvPr/>
        </p:nvSpPr>
        <p:spPr>
          <a:xfrm>
            <a:off x="752400" y="394344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5" name=""/>
          <p:cNvSpPr/>
          <p:nvPr/>
        </p:nvSpPr>
        <p:spPr>
          <a:xfrm>
            <a:off x="752400" y="325764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6" name=""/>
          <p:cNvSpPr/>
          <p:nvPr/>
        </p:nvSpPr>
        <p:spPr>
          <a:xfrm>
            <a:off x="752400" y="2570040"/>
            <a:ext cx="4461120" cy="1800"/>
          </a:xfrm>
          <a:prstGeom prst="line">
            <a:avLst/>
          </a:prstGeom>
          <a:ln w="0">
            <a:solidFill>
              <a:srgbClr val="00ff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7" name=""/>
          <p:cNvSpPr/>
          <p:nvPr/>
        </p:nvSpPr>
        <p:spPr>
          <a:xfrm>
            <a:off x="752400" y="188280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8" name=""/>
          <p:cNvSpPr/>
          <p:nvPr/>
        </p:nvSpPr>
        <p:spPr>
          <a:xfrm>
            <a:off x="76608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0</a:t>
            </a:r>
            <a:endParaRPr b="0" lang="en-US" sz="900" spc="-1" strike="noStrike">
              <a:solidFill>
                <a:srgbClr val="000000"/>
              </a:solidFill>
              <a:latin typeface="Times New Roman"/>
            </a:endParaRPr>
          </a:p>
        </p:txBody>
      </p:sp>
      <p:sp>
        <p:nvSpPr>
          <p:cNvPr id="149" name=""/>
          <p:cNvSpPr/>
          <p:nvPr/>
        </p:nvSpPr>
        <p:spPr>
          <a:xfrm>
            <a:off x="150732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a:t>
            </a:r>
            <a:endParaRPr b="0" lang="en-US" sz="900" spc="-1" strike="noStrike">
              <a:solidFill>
                <a:srgbClr val="000000"/>
              </a:solidFill>
              <a:latin typeface="Times New Roman"/>
            </a:endParaRPr>
          </a:p>
        </p:txBody>
      </p:sp>
      <p:sp>
        <p:nvSpPr>
          <p:cNvPr id="150" name=""/>
          <p:cNvSpPr/>
          <p:nvPr/>
        </p:nvSpPr>
        <p:spPr>
          <a:xfrm>
            <a:off x="224892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a:t>
            </a:r>
            <a:endParaRPr b="0" lang="en-US" sz="900" spc="-1" strike="noStrike">
              <a:solidFill>
                <a:srgbClr val="000000"/>
              </a:solidFill>
              <a:latin typeface="Times New Roman"/>
            </a:endParaRPr>
          </a:p>
        </p:txBody>
      </p:sp>
      <p:sp>
        <p:nvSpPr>
          <p:cNvPr id="151" name=""/>
          <p:cNvSpPr/>
          <p:nvPr/>
        </p:nvSpPr>
        <p:spPr>
          <a:xfrm>
            <a:off x="299016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Times New Roman"/>
            </a:endParaRPr>
          </a:p>
        </p:txBody>
      </p:sp>
      <p:sp>
        <p:nvSpPr>
          <p:cNvPr id="152" name=""/>
          <p:cNvSpPr/>
          <p:nvPr/>
        </p:nvSpPr>
        <p:spPr>
          <a:xfrm>
            <a:off x="373320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Times New Roman"/>
            </a:endParaRPr>
          </a:p>
        </p:txBody>
      </p:sp>
      <p:sp>
        <p:nvSpPr>
          <p:cNvPr id="153" name=""/>
          <p:cNvSpPr/>
          <p:nvPr/>
        </p:nvSpPr>
        <p:spPr>
          <a:xfrm>
            <a:off x="447444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5</a:t>
            </a:r>
            <a:endParaRPr b="0" lang="en-US" sz="900" spc="-1" strike="noStrike">
              <a:solidFill>
                <a:srgbClr val="000000"/>
              </a:solidFill>
              <a:latin typeface="Times New Roman"/>
            </a:endParaRPr>
          </a:p>
        </p:txBody>
      </p:sp>
      <p:sp>
        <p:nvSpPr>
          <p:cNvPr id="154" name=""/>
          <p:cNvSpPr/>
          <p:nvPr/>
        </p:nvSpPr>
        <p:spPr>
          <a:xfrm>
            <a:off x="522540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6</a:t>
            </a:r>
            <a:endParaRPr b="0" lang="en-US" sz="900" spc="-1" strike="noStrike">
              <a:solidFill>
                <a:srgbClr val="000000"/>
              </a:solidFill>
              <a:latin typeface="Times New Roman"/>
            </a:endParaRPr>
          </a:p>
        </p:txBody>
      </p:sp>
      <p:sp>
        <p:nvSpPr>
          <p:cNvPr id="155" name=""/>
          <p:cNvSpPr/>
          <p:nvPr/>
        </p:nvSpPr>
        <p:spPr>
          <a:xfrm>
            <a:off x="673920" y="390060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Times New Roman"/>
            </a:endParaRPr>
          </a:p>
        </p:txBody>
      </p:sp>
      <p:sp>
        <p:nvSpPr>
          <p:cNvPr id="156" name=""/>
          <p:cNvSpPr/>
          <p:nvPr/>
        </p:nvSpPr>
        <p:spPr>
          <a:xfrm>
            <a:off x="591120" y="3213000"/>
            <a:ext cx="1454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5</a:t>
            </a:r>
            <a:endParaRPr b="0" lang="en-US" sz="900" spc="-1" strike="noStrike">
              <a:solidFill>
                <a:srgbClr val="000000"/>
              </a:solidFill>
              <a:latin typeface="Times New Roman"/>
            </a:endParaRPr>
          </a:p>
        </p:txBody>
      </p:sp>
      <p:sp>
        <p:nvSpPr>
          <p:cNvPr id="157" name=""/>
          <p:cNvSpPr/>
          <p:nvPr/>
        </p:nvSpPr>
        <p:spPr>
          <a:xfrm>
            <a:off x="673920" y="252720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Times New Roman"/>
            </a:endParaRPr>
          </a:p>
        </p:txBody>
      </p:sp>
      <p:sp>
        <p:nvSpPr>
          <p:cNvPr id="158" name=""/>
          <p:cNvSpPr/>
          <p:nvPr/>
        </p:nvSpPr>
        <p:spPr>
          <a:xfrm>
            <a:off x="591120" y="1839960"/>
            <a:ext cx="1454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5</a:t>
            </a:r>
            <a:endParaRPr b="0" lang="en-US" sz="900" spc="-1" strike="noStrike">
              <a:solidFill>
                <a:srgbClr val="000000"/>
              </a:solidFill>
              <a:latin typeface="Times New Roman"/>
            </a:endParaRPr>
          </a:p>
        </p:txBody>
      </p:sp>
      <p:sp>
        <p:nvSpPr>
          <p:cNvPr id="159" name=""/>
          <p:cNvSpPr/>
          <p:nvPr/>
        </p:nvSpPr>
        <p:spPr>
          <a:xfrm>
            <a:off x="752400" y="1882800"/>
            <a:ext cx="4461120" cy="23446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755640" y="2457360"/>
            <a:ext cx="4378320" cy="1824120"/>
          </a:xfrm>
          <a:custGeom>
            <a:avLst/>
            <a:gdLst/>
            <a:ahLst/>
            <a:rect l="l" t="t" r="r" b="b"/>
            <a:pathLst>
              <a:path w="2988" h="1244">
                <a:moveTo>
                  <a:pt x="0" y="0"/>
                </a:moveTo>
                <a:lnTo>
                  <a:pt x="6" y="119"/>
                </a:lnTo>
                <a:lnTo>
                  <a:pt x="6" y="125"/>
                </a:lnTo>
                <a:lnTo>
                  <a:pt x="13" y="125"/>
                </a:lnTo>
                <a:lnTo>
                  <a:pt x="13" y="138"/>
                </a:lnTo>
                <a:lnTo>
                  <a:pt x="19" y="138"/>
                </a:lnTo>
                <a:lnTo>
                  <a:pt x="25" y="138"/>
                </a:lnTo>
                <a:lnTo>
                  <a:pt x="31" y="150"/>
                </a:lnTo>
                <a:lnTo>
                  <a:pt x="38" y="150"/>
                </a:lnTo>
                <a:lnTo>
                  <a:pt x="44" y="157"/>
                </a:lnTo>
                <a:lnTo>
                  <a:pt x="50" y="157"/>
                </a:lnTo>
                <a:lnTo>
                  <a:pt x="56" y="157"/>
                </a:lnTo>
                <a:lnTo>
                  <a:pt x="63" y="163"/>
                </a:lnTo>
                <a:lnTo>
                  <a:pt x="69" y="163"/>
                </a:lnTo>
                <a:lnTo>
                  <a:pt x="75" y="163"/>
                </a:lnTo>
                <a:lnTo>
                  <a:pt x="75" y="169"/>
                </a:lnTo>
                <a:lnTo>
                  <a:pt x="81" y="169"/>
                </a:lnTo>
                <a:lnTo>
                  <a:pt x="88" y="169"/>
                </a:lnTo>
                <a:lnTo>
                  <a:pt x="94" y="182"/>
                </a:lnTo>
                <a:lnTo>
                  <a:pt x="100" y="182"/>
                </a:lnTo>
                <a:lnTo>
                  <a:pt x="100" y="175"/>
                </a:lnTo>
                <a:lnTo>
                  <a:pt x="106" y="182"/>
                </a:lnTo>
                <a:lnTo>
                  <a:pt x="113" y="182"/>
                </a:lnTo>
                <a:lnTo>
                  <a:pt x="113" y="188"/>
                </a:lnTo>
                <a:lnTo>
                  <a:pt x="119" y="188"/>
                </a:lnTo>
                <a:lnTo>
                  <a:pt x="125" y="194"/>
                </a:lnTo>
                <a:lnTo>
                  <a:pt x="125" y="188"/>
                </a:lnTo>
                <a:lnTo>
                  <a:pt x="131" y="188"/>
                </a:lnTo>
                <a:lnTo>
                  <a:pt x="131" y="200"/>
                </a:lnTo>
                <a:lnTo>
                  <a:pt x="138" y="194"/>
                </a:lnTo>
                <a:lnTo>
                  <a:pt x="144" y="194"/>
                </a:lnTo>
                <a:lnTo>
                  <a:pt x="144" y="200"/>
                </a:lnTo>
                <a:lnTo>
                  <a:pt x="150" y="207"/>
                </a:lnTo>
                <a:lnTo>
                  <a:pt x="156" y="200"/>
                </a:lnTo>
                <a:lnTo>
                  <a:pt x="163" y="200"/>
                </a:lnTo>
                <a:lnTo>
                  <a:pt x="163" y="213"/>
                </a:lnTo>
                <a:lnTo>
                  <a:pt x="169" y="213"/>
                </a:lnTo>
                <a:lnTo>
                  <a:pt x="175" y="207"/>
                </a:lnTo>
                <a:lnTo>
                  <a:pt x="175" y="213"/>
                </a:lnTo>
                <a:lnTo>
                  <a:pt x="181" y="219"/>
                </a:lnTo>
                <a:lnTo>
                  <a:pt x="188" y="219"/>
                </a:lnTo>
                <a:lnTo>
                  <a:pt x="194" y="213"/>
                </a:lnTo>
                <a:lnTo>
                  <a:pt x="194" y="219"/>
                </a:lnTo>
                <a:lnTo>
                  <a:pt x="200" y="219"/>
                </a:lnTo>
                <a:lnTo>
                  <a:pt x="206" y="225"/>
                </a:lnTo>
                <a:lnTo>
                  <a:pt x="206" y="219"/>
                </a:lnTo>
                <a:lnTo>
                  <a:pt x="213" y="219"/>
                </a:lnTo>
                <a:lnTo>
                  <a:pt x="213" y="225"/>
                </a:lnTo>
                <a:lnTo>
                  <a:pt x="219" y="225"/>
                </a:lnTo>
                <a:lnTo>
                  <a:pt x="225" y="225"/>
                </a:lnTo>
                <a:lnTo>
                  <a:pt x="231" y="232"/>
                </a:lnTo>
                <a:lnTo>
                  <a:pt x="238" y="232"/>
                </a:lnTo>
                <a:lnTo>
                  <a:pt x="244" y="232"/>
                </a:lnTo>
                <a:lnTo>
                  <a:pt x="244" y="238"/>
                </a:lnTo>
                <a:lnTo>
                  <a:pt x="250" y="238"/>
                </a:lnTo>
                <a:lnTo>
                  <a:pt x="256" y="232"/>
                </a:lnTo>
                <a:lnTo>
                  <a:pt x="263" y="238"/>
                </a:lnTo>
                <a:lnTo>
                  <a:pt x="269" y="238"/>
                </a:lnTo>
                <a:lnTo>
                  <a:pt x="275" y="238"/>
                </a:lnTo>
                <a:lnTo>
                  <a:pt x="275" y="244"/>
                </a:lnTo>
                <a:lnTo>
                  <a:pt x="281" y="244"/>
                </a:lnTo>
                <a:lnTo>
                  <a:pt x="288" y="238"/>
                </a:lnTo>
                <a:lnTo>
                  <a:pt x="294" y="244"/>
                </a:lnTo>
                <a:lnTo>
                  <a:pt x="294" y="250"/>
                </a:lnTo>
                <a:lnTo>
                  <a:pt x="300" y="244"/>
                </a:lnTo>
                <a:lnTo>
                  <a:pt x="306" y="244"/>
                </a:lnTo>
                <a:lnTo>
                  <a:pt x="306" y="250"/>
                </a:lnTo>
                <a:lnTo>
                  <a:pt x="313" y="250"/>
                </a:lnTo>
                <a:lnTo>
                  <a:pt x="319" y="244"/>
                </a:lnTo>
                <a:lnTo>
                  <a:pt x="319" y="250"/>
                </a:lnTo>
                <a:lnTo>
                  <a:pt x="325" y="250"/>
                </a:lnTo>
                <a:lnTo>
                  <a:pt x="325" y="257"/>
                </a:lnTo>
                <a:lnTo>
                  <a:pt x="331" y="257"/>
                </a:lnTo>
                <a:lnTo>
                  <a:pt x="331" y="250"/>
                </a:lnTo>
                <a:lnTo>
                  <a:pt x="338" y="250"/>
                </a:lnTo>
                <a:lnTo>
                  <a:pt x="338" y="257"/>
                </a:lnTo>
                <a:lnTo>
                  <a:pt x="344" y="257"/>
                </a:lnTo>
                <a:lnTo>
                  <a:pt x="350" y="257"/>
                </a:lnTo>
                <a:lnTo>
                  <a:pt x="356" y="257"/>
                </a:lnTo>
                <a:lnTo>
                  <a:pt x="356" y="263"/>
                </a:lnTo>
                <a:lnTo>
                  <a:pt x="363" y="263"/>
                </a:lnTo>
                <a:lnTo>
                  <a:pt x="363" y="257"/>
                </a:lnTo>
                <a:lnTo>
                  <a:pt x="369" y="257"/>
                </a:lnTo>
                <a:lnTo>
                  <a:pt x="369" y="263"/>
                </a:lnTo>
                <a:lnTo>
                  <a:pt x="375" y="263"/>
                </a:lnTo>
                <a:lnTo>
                  <a:pt x="381" y="263"/>
                </a:lnTo>
                <a:lnTo>
                  <a:pt x="381" y="269"/>
                </a:lnTo>
                <a:lnTo>
                  <a:pt x="388" y="269"/>
                </a:lnTo>
                <a:lnTo>
                  <a:pt x="394" y="263"/>
                </a:lnTo>
                <a:lnTo>
                  <a:pt x="400" y="269"/>
                </a:lnTo>
                <a:lnTo>
                  <a:pt x="406" y="269"/>
                </a:lnTo>
                <a:lnTo>
                  <a:pt x="413" y="269"/>
                </a:lnTo>
                <a:lnTo>
                  <a:pt x="419" y="275"/>
                </a:lnTo>
                <a:lnTo>
                  <a:pt x="425" y="269"/>
                </a:lnTo>
                <a:lnTo>
                  <a:pt x="431" y="275"/>
                </a:lnTo>
                <a:lnTo>
                  <a:pt x="438" y="275"/>
                </a:lnTo>
                <a:lnTo>
                  <a:pt x="444" y="275"/>
                </a:lnTo>
                <a:lnTo>
                  <a:pt x="450" y="282"/>
                </a:lnTo>
                <a:lnTo>
                  <a:pt x="456" y="275"/>
                </a:lnTo>
                <a:lnTo>
                  <a:pt x="463" y="275"/>
                </a:lnTo>
                <a:lnTo>
                  <a:pt x="463" y="282"/>
                </a:lnTo>
                <a:lnTo>
                  <a:pt x="469" y="282"/>
                </a:lnTo>
                <a:lnTo>
                  <a:pt x="475" y="282"/>
                </a:lnTo>
                <a:lnTo>
                  <a:pt x="481" y="288"/>
                </a:lnTo>
                <a:lnTo>
                  <a:pt x="488" y="282"/>
                </a:lnTo>
                <a:lnTo>
                  <a:pt x="494" y="282"/>
                </a:lnTo>
                <a:lnTo>
                  <a:pt x="494" y="288"/>
                </a:lnTo>
                <a:lnTo>
                  <a:pt x="500" y="288"/>
                </a:lnTo>
                <a:lnTo>
                  <a:pt x="506" y="288"/>
                </a:lnTo>
                <a:lnTo>
                  <a:pt x="513" y="288"/>
                </a:lnTo>
                <a:lnTo>
                  <a:pt x="513" y="294"/>
                </a:lnTo>
                <a:lnTo>
                  <a:pt x="519" y="294"/>
                </a:lnTo>
                <a:lnTo>
                  <a:pt x="519" y="288"/>
                </a:lnTo>
                <a:lnTo>
                  <a:pt x="525" y="288"/>
                </a:lnTo>
                <a:lnTo>
                  <a:pt x="531" y="300"/>
                </a:lnTo>
                <a:lnTo>
                  <a:pt x="538" y="294"/>
                </a:lnTo>
                <a:lnTo>
                  <a:pt x="544" y="294"/>
                </a:lnTo>
                <a:lnTo>
                  <a:pt x="550" y="300"/>
                </a:lnTo>
                <a:lnTo>
                  <a:pt x="556" y="294"/>
                </a:lnTo>
                <a:lnTo>
                  <a:pt x="556" y="300"/>
                </a:lnTo>
                <a:lnTo>
                  <a:pt x="563" y="307"/>
                </a:lnTo>
                <a:lnTo>
                  <a:pt x="563" y="300"/>
                </a:lnTo>
                <a:lnTo>
                  <a:pt x="569" y="300"/>
                </a:lnTo>
                <a:lnTo>
                  <a:pt x="575" y="300"/>
                </a:lnTo>
                <a:lnTo>
                  <a:pt x="581" y="307"/>
                </a:lnTo>
                <a:lnTo>
                  <a:pt x="588" y="307"/>
                </a:lnTo>
                <a:lnTo>
                  <a:pt x="588" y="300"/>
                </a:lnTo>
                <a:lnTo>
                  <a:pt x="594" y="307"/>
                </a:lnTo>
                <a:lnTo>
                  <a:pt x="600" y="307"/>
                </a:lnTo>
                <a:lnTo>
                  <a:pt x="606" y="307"/>
                </a:lnTo>
                <a:lnTo>
                  <a:pt x="613" y="307"/>
                </a:lnTo>
                <a:lnTo>
                  <a:pt x="613" y="313"/>
                </a:lnTo>
                <a:lnTo>
                  <a:pt x="619" y="313"/>
                </a:lnTo>
                <a:lnTo>
                  <a:pt x="619" y="307"/>
                </a:lnTo>
                <a:lnTo>
                  <a:pt x="625" y="307"/>
                </a:lnTo>
                <a:lnTo>
                  <a:pt x="625" y="319"/>
                </a:lnTo>
                <a:lnTo>
                  <a:pt x="631" y="313"/>
                </a:lnTo>
                <a:lnTo>
                  <a:pt x="638" y="313"/>
                </a:lnTo>
                <a:lnTo>
                  <a:pt x="644" y="313"/>
                </a:lnTo>
                <a:lnTo>
                  <a:pt x="644" y="319"/>
                </a:lnTo>
                <a:lnTo>
                  <a:pt x="650" y="319"/>
                </a:lnTo>
                <a:lnTo>
                  <a:pt x="650" y="313"/>
                </a:lnTo>
                <a:lnTo>
                  <a:pt x="656" y="313"/>
                </a:lnTo>
                <a:lnTo>
                  <a:pt x="656" y="319"/>
                </a:lnTo>
                <a:lnTo>
                  <a:pt x="663" y="319"/>
                </a:lnTo>
                <a:lnTo>
                  <a:pt x="669" y="319"/>
                </a:lnTo>
                <a:lnTo>
                  <a:pt x="675" y="319"/>
                </a:lnTo>
                <a:lnTo>
                  <a:pt x="675" y="325"/>
                </a:lnTo>
                <a:lnTo>
                  <a:pt x="681" y="325"/>
                </a:lnTo>
                <a:lnTo>
                  <a:pt x="681" y="319"/>
                </a:lnTo>
                <a:lnTo>
                  <a:pt x="688" y="319"/>
                </a:lnTo>
                <a:lnTo>
                  <a:pt x="694" y="325"/>
                </a:lnTo>
                <a:lnTo>
                  <a:pt x="700" y="325"/>
                </a:lnTo>
                <a:lnTo>
                  <a:pt x="706" y="325"/>
                </a:lnTo>
                <a:lnTo>
                  <a:pt x="706" y="332"/>
                </a:lnTo>
                <a:lnTo>
                  <a:pt x="713" y="332"/>
                </a:lnTo>
                <a:lnTo>
                  <a:pt x="719" y="325"/>
                </a:lnTo>
                <a:lnTo>
                  <a:pt x="725" y="332"/>
                </a:lnTo>
                <a:lnTo>
                  <a:pt x="731" y="332"/>
                </a:lnTo>
                <a:lnTo>
                  <a:pt x="738" y="332"/>
                </a:lnTo>
                <a:lnTo>
                  <a:pt x="744" y="338"/>
                </a:lnTo>
                <a:lnTo>
                  <a:pt x="750" y="332"/>
                </a:lnTo>
                <a:lnTo>
                  <a:pt x="756" y="338"/>
                </a:lnTo>
                <a:lnTo>
                  <a:pt x="763" y="338"/>
                </a:lnTo>
                <a:lnTo>
                  <a:pt x="769" y="338"/>
                </a:lnTo>
                <a:lnTo>
                  <a:pt x="775" y="344"/>
                </a:lnTo>
                <a:lnTo>
                  <a:pt x="775" y="338"/>
                </a:lnTo>
                <a:lnTo>
                  <a:pt x="781" y="338"/>
                </a:lnTo>
                <a:lnTo>
                  <a:pt x="788" y="338"/>
                </a:lnTo>
                <a:lnTo>
                  <a:pt x="788" y="344"/>
                </a:lnTo>
                <a:lnTo>
                  <a:pt x="794" y="344"/>
                </a:lnTo>
                <a:lnTo>
                  <a:pt x="800" y="338"/>
                </a:lnTo>
                <a:lnTo>
                  <a:pt x="806" y="338"/>
                </a:lnTo>
                <a:lnTo>
                  <a:pt x="806" y="344"/>
                </a:lnTo>
                <a:lnTo>
                  <a:pt x="813" y="344"/>
                </a:lnTo>
                <a:lnTo>
                  <a:pt x="819" y="344"/>
                </a:lnTo>
                <a:lnTo>
                  <a:pt x="819" y="350"/>
                </a:lnTo>
                <a:lnTo>
                  <a:pt x="825" y="350"/>
                </a:lnTo>
                <a:lnTo>
                  <a:pt x="831" y="350"/>
                </a:lnTo>
                <a:lnTo>
                  <a:pt x="831" y="344"/>
                </a:lnTo>
                <a:lnTo>
                  <a:pt x="838" y="344"/>
                </a:lnTo>
                <a:lnTo>
                  <a:pt x="838" y="350"/>
                </a:lnTo>
                <a:lnTo>
                  <a:pt x="844" y="350"/>
                </a:lnTo>
                <a:lnTo>
                  <a:pt x="850" y="350"/>
                </a:lnTo>
                <a:lnTo>
                  <a:pt x="856" y="357"/>
                </a:lnTo>
                <a:lnTo>
                  <a:pt x="856" y="350"/>
                </a:lnTo>
                <a:lnTo>
                  <a:pt x="863" y="357"/>
                </a:lnTo>
                <a:lnTo>
                  <a:pt x="869" y="350"/>
                </a:lnTo>
                <a:lnTo>
                  <a:pt x="875" y="357"/>
                </a:lnTo>
                <a:lnTo>
                  <a:pt x="881" y="357"/>
                </a:lnTo>
                <a:lnTo>
                  <a:pt x="881" y="350"/>
                </a:lnTo>
                <a:lnTo>
                  <a:pt x="888" y="350"/>
                </a:lnTo>
                <a:lnTo>
                  <a:pt x="894" y="357"/>
                </a:lnTo>
                <a:lnTo>
                  <a:pt x="900" y="357"/>
                </a:lnTo>
                <a:lnTo>
                  <a:pt x="906" y="363"/>
                </a:lnTo>
                <a:lnTo>
                  <a:pt x="913" y="357"/>
                </a:lnTo>
                <a:lnTo>
                  <a:pt x="919" y="357"/>
                </a:lnTo>
                <a:lnTo>
                  <a:pt x="925" y="363"/>
                </a:lnTo>
                <a:lnTo>
                  <a:pt x="931" y="357"/>
                </a:lnTo>
                <a:lnTo>
                  <a:pt x="938" y="363"/>
                </a:lnTo>
                <a:lnTo>
                  <a:pt x="938" y="369"/>
                </a:lnTo>
                <a:lnTo>
                  <a:pt x="944" y="363"/>
                </a:lnTo>
                <a:lnTo>
                  <a:pt x="950" y="363"/>
                </a:lnTo>
                <a:lnTo>
                  <a:pt x="950" y="369"/>
                </a:lnTo>
                <a:lnTo>
                  <a:pt x="956" y="369"/>
                </a:lnTo>
                <a:lnTo>
                  <a:pt x="963" y="369"/>
                </a:lnTo>
                <a:lnTo>
                  <a:pt x="963" y="363"/>
                </a:lnTo>
                <a:lnTo>
                  <a:pt x="969" y="369"/>
                </a:lnTo>
                <a:lnTo>
                  <a:pt x="975" y="369"/>
                </a:lnTo>
                <a:lnTo>
                  <a:pt x="975" y="363"/>
                </a:lnTo>
                <a:lnTo>
                  <a:pt x="981" y="369"/>
                </a:lnTo>
                <a:lnTo>
                  <a:pt x="981" y="375"/>
                </a:lnTo>
                <a:lnTo>
                  <a:pt x="988" y="369"/>
                </a:lnTo>
                <a:lnTo>
                  <a:pt x="994" y="369"/>
                </a:lnTo>
                <a:lnTo>
                  <a:pt x="1000" y="369"/>
                </a:lnTo>
                <a:lnTo>
                  <a:pt x="1000" y="375"/>
                </a:lnTo>
                <a:lnTo>
                  <a:pt x="1006" y="375"/>
                </a:lnTo>
                <a:lnTo>
                  <a:pt x="1006" y="369"/>
                </a:lnTo>
                <a:lnTo>
                  <a:pt x="1013" y="369"/>
                </a:lnTo>
                <a:lnTo>
                  <a:pt x="1013" y="375"/>
                </a:lnTo>
                <a:lnTo>
                  <a:pt x="1019" y="375"/>
                </a:lnTo>
                <a:lnTo>
                  <a:pt x="1025" y="375"/>
                </a:lnTo>
                <a:lnTo>
                  <a:pt x="1025" y="369"/>
                </a:lnTo>
                <a:lnTo>
                  <a:pt x="1031" y="375"/>
                </a:lnTo>
                <a:lnTo>
                  <a:pt x="1031" y="382"/>
                </a:lnTo>
                <a:lnTo>
                  <a:pt x="1038" y="375"/>
                </a:lnTo>
                <a:lnTo>
                  <a:pt x="1044" y="375"/>
                </a:lnTo>
                <a:lnTo>
                  <a:pt x="1050" y="375"/>
                </a:lnTo>
                <a:lnTo>
                  <a:pt x="1056" y="375"/>
                </a:lnTo>
                <a:lnTo>
                  <a:pt x="1063" y="375"/>
                </a:lnTo>
                <a:lnTo>
                  <a:pt x="1069" y="375"/>
                </a:lnTo>
                <a:lnTo>
                  <a:pt x="1069" y="382"/>
                </a:lnTo>
                <a:lnTo>
                  <a:pt x="1075" y="375"/>
                </a:lnTo>
                <a:lnTo>
                  <a:pt x="1075" y="382"/>
                </a:lnTo>
                <a:lnTo>
                  <a:pt x="1081" y="382"/>
                </a:lnTo>
                <a:lnTo>
                  <a:pt x="1088" y="382"/>
                </a:lnTo>
                <a:lnTo>
                  <a:pt x="1094" y="382"/>
                </a:lnTo>
                <a:lnTo>
                  <a:pt x="1100" y="382"/>
                </a:lnTo>
                <a:lnTo>
                  <a:pt x="1106" y="382"/>
                </a:lnTo>
                <a:lnTo>
                  <a:pt x="1113" y="382"/>
                </a:lnTo>
                <a:lnTo>
                  <a:pt x="1119" y="382"/>
                </a:lnTo>
                <a:lnTo>
                  <a:pt x="1125" y="382"/>
                </a:lnTo>
                <a:lnTo>
                  <a:pt x="1131" y="382"/>
                </a:lnTo>
                <a:lnTo>
                  <a:pt x="1138" y="388"/>
                </a:lnTo>
                <a:lnTo>
                  <a:pt x="1144" y="388"/>
                </a:lnTo>
                <a:lnTo>
                  <a:pt x="1150" y="394"/>
                </a:lnTo>
                <a:lnTo>
                  <a:pt x="1150" y="388"/>
                </a:lnTo>
                <a:lnTo>
                  <a:pt x="1156" y="388"/>
                </a:lnTo>
                <a:lnTo>
                  <a:pt x="1163" y="394"/>
                </a:lnTo>
                <a:lnTo>
                  <a:pt x="1169" y="394"/>
                </a:lnTo>
                <a:lnTo>
                  <a:pt x="1169" y="388"/>
                </a:lnTo>
                <a:lnTo>
                  <a:pt x="1175" y="394"/>
                </a:lnTo>
                <a:lnTo>
                  <a:pt x="1181" y="394"/>
                </a:lnTo>
                <a:lnTo>
                  <a:pt x="1188" y="388"/>
                </a:lnTo>
                <a:lnTo>
                  <a:pt x="1194" y="394"/>
                </a:lnTo>
                <a:lnTo>
                  <a:pt x="1200" y="394"/>
                </a:lnTo>
                <a:lnTo>
                  <a:pt x="1206" y="400"/>
                </a:lnTo>
                <a:lnTo>
                  <a:pt x="1213" y="394"/>
                </a:lnTo>
                <a:lnTo>
                  <a:pt x="1219" y="394"/>
                </a:lnTo>
                <a:lnTo>
                  <a:pt x="1225" y="394"/>
                </a:lnTo>
                <a:lnTo>
                  <a:pt x="1225" y="400"/>
                </a:lnTo>
                <a:lnTo>
                  <a:pt x="1231" y="400"/>
                </a:lnTo>
                <a:lnTo>
                  <a:pt x="1231" y="394"/>
                </a:lnTo>
                <a:lnTo>
                  <a:pt x="1238" y="394"/>
                </a:lnTo>
                <a:lnTo>
                  <a:pt x="1244" y="400"/>
                </a:lnTo>
                <a:lnTo>
                  <a:pt x="1250" y="400"/>
                </a:lnTo>
                <a:lnTo>
                  <a:pt x="1250" y="394"/>
                </a:lnTo>
                <a:lnTo>
                  <a:pt x="1256" y="394"/>
                </a:lnTo>
                <a:lnTo>
                  <a:pt x="1256" y="407"/>
                </a:lnTo>
                <a:lnTo>
                  <a:pt x="1263" y="400"/>
                </a:lnTo>
                <a:lnTo>
                  <a:pt x="1269" y="400"/>
                </a:lnTo>
                <a:lnTo>
                  <a:pt x="1275" y="407"/>
                </a:lnTo>
                <a:lnTo>
                  <a:pt x="1281" y="407"/>
                </a:lnTo>
                <a:lnTo>
                  <a:pt x="1281" y="400"/>
                </a:lnTo>
                <a:lnTo>
                  <a:pt x="1288" y="400"/>
                </a:lnTo>
                <a:lnTo>
                  <a:pt x="1288" y="407"/>
                </a:lnTo>
                <a:lnTo>
                  <a:pt x="1294" y="407"/>
                </a:lnTo>
                <a:lnTo>
                  <a:pt x="1294" y="400"/>
                </a:lnTo>
                <a:lnTo>
                  <a:pt x="1300" y="400"/>
                </a:lnTo>
                <a:lnTo>
                  <a:pt x="1306" y="407"/>
                </a:lnTo>
                <a:lnTo>
                  <a:pt x="1313" y="407"/>
                </a:lnTo>
                <a:lnTo>
                  <a:pt x="1313" y="400"/>
                </a:lnTo>
                <a:lnTo>
                  <a:pt x="1319" y="407"/>
                </a:lnTo>
                <a:lnTo>
                  <a:pt x="1325" y="407"/>
                </a:lnTo>
                <a:lnTo>
                  <a:pt x="1331" y="407"/>
                </a:lnTo>
                <a:lnTo>
                  <a:pt x="1338" y="413"/>
                </a:lnTo>
                <a:lnTo>
                  <a:pt x="1344" y="413"/>
                </a:lnTo>
                <a:lnTo>
                  <a:pt x="1344" y="407"/>
                </a:lnTo>
                <a:lnTo>
                  <a:pt x="1350" y="407"/>
                </a:lnTo>
                <a:lnTo>
                  <a:pt x="1356" y="413"/>
                </a:lnTo>
                <a:lnTo>
                  <a:pt x="1363" y="407"/>
                </a:lnTo>
                <a:lnTo>
                  <a:pt x="1369" y="407"/>
                </a:lnTo>
                <a:lnTo>
                  <a:pt x="1369" y="413"/>
                </a:lnTo>
                <a:lnTo>
                  <a:pt x="1375" y="413"/>
                </a:lnTo>
                <a:lnTo>
                  <a:pt x="1381" y="407"/>
                </a:lnTo>
                <a:lnTo>
                  <a:pt x="1388" y="413"/>
                </a:lnTo>
                <a:lnTo>
                  <a:pt x="1388" y="419"/>
                </a:lnTo>
                <a:lnTo>
                  <a:pt x="1394" y="413"/>
                </a:lnTo>
                <a:lnTo>
                  <a:pt x="1400" y="413"/>
                </a:lnTo>
                <a:lnTo>
                  <a:pt x="1400" y="419"/>
                </a:lnTo>
                <a:lnTo>
                  <a:pt x="1406" y="419"/>
                </a:lnTo>
                <a:lnTo>
                  <a:pt x="1413" y="413"/>
                </a:lnTo>
                <a:lnTo>
                  <a:pt x="1419" y="413"/>
                </a:lnTo>
                <a:lnTo>
                  <a:pt x="1419" y="419"/>
                </a:lnTo>
                <a:lnTo>
                  <a:pt x="1425" y="419"/>
                </a:lnTo>
                <a:lnTo>
                  <a:pt x="1431" y="413"/>
                </a:lnTo>
                <a:lnTo>
                  <a:pt x="1431" y="419"/>
                </a:lnTo>
                <a:lnTo>
                  <a:pt x="1438" y="419"/>
                </a:lnTo>
                <a:lnTo>
                  <a:pt x="1444" y="419"/>
                </a:lnTo>
                <a:lnTo>
                  <a:pt x="1444" y="413"/>
                </a:lnTo>
                <a:lnTo>
                  <a:pt x="1450" y="413"/>
                </a:lnTo>
                <a:lnTo>
                  <a:pt x="1450" y="419"/>
                </a:lnTo>
                <a:lnTo>
                  <a:pt x="1456" y="419"/>
                </a:lnTo>
                <a:lnTo>
                  <a:pt x="1463" y="419"/>
                </a:lnTo>
                <a:lnTo>
                  <a:pt x="1469" y="419"/>
                </a:lnTo>
                <a:lnTo>
                  <a:pt x="1475" y="419"/>
                </a:lnTo>
                <a:lnTo>
                  <a:pt x="1481" y="419"/>
                </a:lnTo>
                <a:lnTo>
                  <a:pt x="1488" y="425"/>
                </a:lnTo>
                <a:lnTo>
                  <a:pt x="1488" y="419"/>
                </a:lnTo>
                <a:lnTo>
                  <a:pt x="1494" y="419"/>
                </a:lnTo>
                <a:lnTo>
                  <a:pt x="1500" y="425"/>
                </a:lnTo>
                <a:lnTo>
                  <a:pt x="1506" y="425"/>
                </a:lnTo>
                <a:lnTo>
                  <a:pt x="1513" y="419"/>
                </a:lnTo>
                <a:lnTo>
                  <a:pt x="1519" y="425"/>
                </a:lnTo>
                <a:lnTo>
                  <a:pt x="1525" y="425"/>
                </a:lnTo>
                <a:lnTo>
                  <a:pt x="1525" y="419"/>
                </a:lnTo>
                <a:lnTo>
                  <a:pt x="1531" y="419"/>
                </a:lnTo>
                <a:lnTo>
                  <a:pt x="1531" y="425"/>
                </a:lnTo>
                <a:lnTo>
                  <a:pt x="1538" y="425"/>
                </a:lnTo>
                <a:lnTo>
                  <a:pt x="1544" y="419"/>
                </a:lnTo>
                <a:lnTo>
                  <a:pt x="1550" y="425"/>
                </a:lnTo>
                <a:lnTo>
                  <a:pt x="1556" y="425"/>
                </a:lnTo>
                <a:lnTo>
                  <a:pt x="1563" y="425"/>
                </a:lnTo>
                <a:lnTo>
                  <a:pt x="1569" y="425"/>
                </a:lnTo>
                <a:lnTo>
                  <a:pt x="1575" y="425"/>
                </a:lnTo>
                <a:lnTo>
                  <a:pt x="1581" y="432"/>
                </a:lnTo>
                <a:lnTo>
                  <a:pt x="1588" y="425"/>
                </a:lnTo>
                <a:lnTo>
                  <a:pt x="1594" y="425"/>
                </a:lnTo>
                <a:lnTo>
                  <a:pt x="1600" y="432"/>
                </a:lnTo>
                <a:lnTo>
                  <a:pt x="1606" y="432"/>
                </a:lnTo>
                <a:lnTo>
                  <a:pt x="1613" y="432"/>
                </a:lnTo>
                <a:lnTo>
                  <a:pt x="1613" y="425"/>
                </a:lnTo>
                <a:lnTo>
                  <a:pt x="1619" y="425"/>
                </a:lnTo>
                <a:lnTo>
                  <a:pt x="1625" y="425"/>
                </a:lnTo>
                <a:lnTo>
                  <a:pt x="1631" y="425"/>
                </a:lnTo>
                <a:lnTo>
                  <a:pt x="1638" y="425"/>
                </a:lnTo>
                <a:lnTo>
                  <a:pt x="1644" y="425"/>
                </a:lnTo>
                <a:lnTo>
                  <a:pt x="1650" y="425"/>
                </a:lnTo>
                <a:lnTo>
                  <a:pt x="1650" y="432"/>
                </a:lnTo>
                <a:lnTo>
                  <a:pt x="1656" y="432"/>
                </a:lnTo>
                <a:lnTo>
                  <a:pt x="1656" y="425"/>
                </a:lnTo>
                <a:lnTo>
                  <a:pt x="1663" y="432"/>
                </a:lnTo>
                <a:lnTo>
                  <a:pt x="1669" y="438"/>
                </a:lnTo>
                <a:lnTo>
                  <a:pt x="1675" y="432"/>
                </a:lnTo>
                <a:lnTo>
                  <a:pt x="1681" y="432"/>
                </a:lnTo>
                <a:lnTo>
                  <a:pt x="1681" y="438"/>
                </a:lnTo>
                <a:lnTo>
                  <a:pt x="1688" y="438"/>
                </a:lnTo>
                <a:lnTo>
                  <a:pt x="1694" y="432"/>
                </a:lnTo>
                <a:lnTo>
                  <a:pt x="1700" y="438"/>
                </a:lnTo>
                <a:lnTo>
                  <a:pt x="1706" y="438"/>
                </a:lnTo>
                <a:lnTo>
                  <a:pt x="1706" y="432"/>
                </a:lnTo>
                <a:lnTo>
                  <a:pt x="1713" y="432"/>
                </a:lnTo>
                <a:lnTo>
                  <a:pt x="1719" y="438"/>
                </a:lnTo>
                <a:lnTo>
                  <a:pt x="1725" y="432"/>
                </a:lnTo>
                <a:lnTo>
                  <a:pt x="1731" y="432"/>
                </a:lnTo>
                <a:lnTo>
                  <a:pt x="1738" y="438"/>
                </a:lnTo>
                <a:lnTo>
                  <a:pt x="1744" y="438"/>
                </a:lnTo>
                <a:lnTo>
                  <a:pt x="1750" y="438"/>
                </a:lnTo>
                <a:lnTo>
                  <a:pt x="1756" y="438"/>
                </a:lnTo>
                <a:lnTo>
                  <a:pt x="1763" y="438"/>
                </a:lnTo>
                <a:lnTo>
                  <a:pt x="1769" y="438"/>
                </a:lnTo>
                <a:lnTo>
                  <a:pt x="1769" y="444"/>
                </a:lnTo>
                <a:lnTo>
                  <a:pt x="1775" y="438"/>
                </a:lnTo>
                <a:lnTo>
                  <a:pt x="1781" y="438"/>
                </a:lnTo>
                <a:lnTo>
                  <a:pt x="1788" y="438"/>
                </a:lnTo>
                <a:lnTo>
                  <a:pt x="1794" y="438"/>
                </a:lnTo>
                <a:lnTo>
                  <a:pt x="1800" y="444"/>
                </a:lnTo>
                <a:lnTo>
                  <a:pt x="1800" y="438"/>
                </a:lnTo>
                <a:lnTo>
                  <a:pt x="1806" y="444"/>
                </a:lnTo>
                <a:lnTo>
                  <a:pt x="1813" y="444"/>
                </a:lnTo>
                <a:lnTo>
                  <a:pt x="1813" y="438"/>
                </a:lnTo>
                <a:lnTo>
                  <a:pt x="1819" y="438"/>
                </a:lnTo>
                <a:lnTo>
                  <a:pt x="1825" y="444"/>
                </a:lnTo>
                <a:lnTo>
                  <a:pt x="1831" y="444"/>
                </a:lnTo>
                <a:lnTo>
                  <a:pt x="1838" y="444"/>
                </a:lnTo>
                <a:lnTo>
                  <a:pt x="1844" y="444"/>
                </a:lnTo>
                <a:lnTo>
                  <a:pt x="1850" y="450"/>
                </a:lnTo>
                <a:lnTo>
                  <a:pt x="1850" y="444"/>
                </a:lnTo>
                <a:lnTo>
                  <a:pt x="1856" y="450"/>
                </a:lnTo>
                <a:lnTo>
                  <a:pt x="1856" y="444"/>
                </a:lnTo>
                <a:lnTo>
                  <a:pt x="1863" y="444"/>
                </a:lnTo>
                <a:lnTo>
                  <a:pt x="1869" y="450"/>
                </a:lnTo>
                <a:lnTo>
                  <a:pt x="1875" y="444"/>
                </a:lnTo>
                <a:lnTo>
                  <a:pt x="1881" y="444"/>
                </a:lnTo>
                <a:lnTo>
                  <a:pt x="1888" y="444"/>
                </a:lnTo>
                <a:lnTo>
                  <a:pt x="1894" y="444"/>
                </a:lnTo>
                <a:lnTo>
                  <a:pt x="1900" y="450"/>
                </a:lnTo>
                <a:lnTo>
                  <a:pt x="1906" y="450"/>
                </a:lnTo>
                <a:lnTo>
                  <a:pt x="1906" y="457"/>
                </a:lnTo>
                <a:lnTo>
                  <a:pt x="1913" y="450"/>
                </a:lnTo>
                <a:lnTo>
                  <a:pt x="1913" y="457"/>
                </a:lnTo>
                <a:lnTo>
                  <a:pt x="1919" y="450"/>
                </a:lnTo>
                <a:lnTo>
                  <a:pt x="1925" y="457"/>
                </a:lnTo>
                <a:lnTo>
                  <a:pt x="1931" y="457"/>
                </a:lnTo>
                <a:lnTo>
                  <a:pt x="1931" y="450"/>
                </a:lnTo>
                <a:lnTo>
                  <a:pt x="1938" y="450"/>
                </a:lnTo>
                <a:lnTo>
                  <a:pt x="1944" y="450"/>
                </a:lnTo>
                <a:lnTo>
                  <a:pt x="1950" y="457"/>
                </a:lnTo>
                <a:lnTo>
                  <a:pt x="1956" y="457"/>
                </a:lnTo>
                <a:lnTo>
                  <a:pt x="1963" y="457"/>
                </a:lnTo>
                <a:lnTo>
                  <a:pt x="1969" y="463"/>
                </a:lnTo>
                <a:lnTo>
                  <a:pt x="1969" y="457"/>
                </a:lnTo>
                <a:lnTo>
                  <a:pt x="1975" y="457"/>
                </a:lnTo>
                <a:lnTo>
                  <a:pt x="1981" y="463"/>
                </a:lnTo>
                <a:lnTo>
                  <a:pt x="1988" y="463"/>
                </a:lnTo>
                <a:lnTo>
                  <a:pt x="1988" y="457"/>
                </a:lnTo>
                <a:lnTo>
                  <a:pt x="1994" y="457"/>
                </a:lnTo>
                <a:lnTo>
                  <a:pt x="2000" y="463"/>
                </a:lnTo>
                <a:lnTo>
                  <a:pt x="2006" y="463"/>
                </a:lnTo>
                <a:lnTo>
                  <a:pt x="2013" y="463"/>
                </a:lnTo>
                <a:lnTo>
                  <a:pt x="2013" y="469"/>
                </a:lnTo>
                <a:lnTo>
                  <a:pt x="2019" y="463"/>
                </a:lnTo>
                <a:lnTo>
                  <a:pt x="2025" y="463"/>
                </a:lnTo>
                <a:lnTo>
                  <a:pt x="2031" y="463"/>
                </a:lnTo>
                <a:lnTo>
                  <a:pt x="2031" y="469"/>
                </a:lnTo>
                <a:lnTo>
                  <a:pt x="2038" y="469"/>
                </a:lnTo>
                <a:lnTo>
                  <a:pt x="2038" y="463"/>
                </a:lnTo>
                <a:lnTo>
                  <a:pt x="2044" y="463"/>
                </a:lnTo>
                <a:lnTo>
                  <a:pt x="2050" y="469"/>
                </a:lnTo>
                <a:lnTo>
                  <a:pt x="2056" y="469"/>
                </a:lnTo>
                <a:lnTo>
                  <a:pt x="2063" y="469"/>
                </a:lnTo>
                <a:lnTo>
                  <a:pt x="2063" y="475"/>
                </a:lnTo>
                <a:lnTo>
                  <a:pt x="2069" y="475"/>
                </a:lnTo>
                <a:lnTo>
                  <a:pt x="2069" y="469"/>
                </a:lnTo>
                <a:lnTo>
                  <a:pt x="2075" y="469"/>
                </a:lnTo>
                <a:lnTo>
                  <a:pt x="2081" y="475"/>
                </a:lnTo>
                <a:lnTo>
                  <a:pt x="2088" y="469"/>
                </a:lnTo>
                <a:lnTo>
                  <a:pt x="2088" y="475"/>
                </a:lnTo>
                <a:lnTo>
                  <a:pt x="2094" y="475"/>
                </a:lnTo>
                <a:lnTo>
                  <a:pt x="2100" y="482"/>
                </a:lnTo>
                <a:lnTo>
                  <a:pt x="2100" y="475"/>
                </a:lnTo>
                <a:lnTo>
                  <a:pt x="2106" y="475"/>
                </a:lnTo>
                <a:lnTo>
                  <a:pt x="2113" y="475"/>
                </a:lnTo>
                <a:lnTo>
                  <a:pt x="2113" y="482"/>
                </a:lnTo>
                <a:lnTo>
                  <a:pt x="2119" y="482"/>
                </a:lnTo>
                <a:lnTo>
                  <a:pt x="2125" y="475"/>
                </a:lnTo>
                <a:lnTo>
                  <a:pt x="2131" y="482"/>
                </a:lnTo>
                <a:lnTo>
                  <a:pt x="2138" y="482"/>
                </a:lnTo>
                <a:lnTo>
                  <a:pt x="2144" y="488"/>
                </a:lnTo>
                <a:lnTo>
                  <a:pt x="2150" y="482"/>
                </a:lnTo>
                <a:lnTo>
                  <a:pt x="2156" y="482"/>
                </a:lnTo>
                <a:lnTo>
                  <a:pt x="2163" y="488"/>
                </a:lnTo>
                <a:lnTo>
                  <a:pt x="2169" y="488"/>
                </a:lnTo>
                <a:lnTo>
                  <a:pt x="2169" y="482"/>
                </a:lnTo>
                <a:lnTo>
                  <a:pt x="2175" y="482"/>
                </a:lnTo>
                <a:lnTo>
                  <a:pt x="2175" y="488"/>
                </a:lnTo>
                <a:lnTo>
                  <a:pt x="2181" y="488"/>
                </a:lnTo>
                <a:lnTo>
                  <a:pt x="2188" y="488"/>
                </a:lnTo>
                <a:lnTo>
                  <a:pt x="2194" y="488"/>
                </a:lnTo>
                <a:lnTo>
                  <a:pt x="2194" y="494"/>
                </a:lnTo>
                <a:lnTo>
                  <a:pt x="2200" y="488"/>
                </a:lnTo>
                <a:lnTo>
                  <a:pt x="2206" y="494"/>
                </a:lnTo>
                <a:lnTo>
                  <a:pt x="2213" y="488"/>
                </a:lnTo>
                <a:lnTo>
                  <a:pt x="2213" y="494"/>
                </a:lnTo>
                <a:lnTo>
                  <a:pt x="2219" y="494"/>
                </a:lnTo>
                <a:lnTo>
                  <a:pt x="2225" y="500"/>
                </a:lnTo>
                <a:lnTo>
                  <a:pt x="2225" y="494"/>
                </a:lnTo>
                <a:lnTo>
                  <a:pt x="2231" y="494"/>
                </a:lnTo>
                <a:lnTo>
                  <a:pt x="2238" y="500"/>
                </a:lnTo>
                <a:lnTo>
                  <a:pt x="2244" y="494"/>
                </a:lnTo>
                <a:lnTo>
                  <a:pt x="2250" y="507"/>
                </a:lnTo>
                <a:lnTo>
                  <a:pt x="2256" y="500"/>
                </a:lnTo>
                <a:lnTo>
                  <a:pt x="2263" y="500"/>
                </a:lnTo>
                <a:lnTo>
                  <a:pt x="2269" y="507"/>
                </a:lnTo>
                <a:lnTo>
                  <a:pt x="2275" y="507"/>
                </a:lnTo>
                <a:lnTo>
                  <a:pt x="2281" y="513"/>
                </a:lnTo>
                <a:lnTo>
                  <a:pt x="2288" y="513"/>
                </a:lnTo>
                <a:lnTo>
                  <a:pt x="2288" y="507"/>
                </a:lnTo>
                <a:lnTo>
                  <a:pt x="2294" y="507"/>
                </a:lnTo>
                <a:lnTo>
                  <a:pt x="2300" y="513"/>
                </a:lnTo>
                <a:lnTo>
                  <a:pt x="2306" y="513"/>
                </a:lnTo>
                <a:lnTo>
                  <a:pt x="2313" y="513"/>
                </a:lnTo>
                <a:lnTo>
                  <a:pt x="2319" y="519"/>
                </a:lnTo>
                <a:lnTo>
                  <a:pt x="2325" y="513"/>
                </a:lnTo>
                <a:lnTo>
                  <a:pt x="2331" y="525"/>
                </a:lnTo>
                <a:lnTo>
                  <a:pt x="2338" y="525"/>
                </a:lnTo>
                <a:lnTo>
                  <a:pt x="2338" y="519"/>
                </a:lnTo>
                <a:lnTo>
                  <a:pt x="2344" y="525"/>
                </a:lnTo>
                <a:lnTo>
                  <a:pt x="2344" y="532"/>
                </a:lnTo>
                <a:lnTo>
                  <a:pt x="2350" y="532"/>
                </a:lnTo>
                <a:lnTo>
                  <a:pt x="2356" y="532"/>
                </a:lnTo>
                <a:lnTo>
                  <a:pt x="2356" y="525"/>
                </a:lnTo>
                <a:lnTo>
                  <a:pt x="2363" y="532"/>
                </a:lnTo>
                <a:lnTo>
                  <a:pt x="2363" y="538"/>
                </a:lnTo>
                <a:lnTo>
                  <a:pt x="2369" y="538"/>
                </a:lnTo>
                <a:lnTo>
                  <a:pt x="2369" y="532"/>
                </a:lnTo>
                <a:lnTo>
                  <a:pt x="2375" y="538"/>
                </a:lnTo>
                <a:lnTo>
                  <a:pt x="2381" y="544"/>
                </a:lnTo>
                <a:lnTo>
                  <a:pt x="2388" y="544"/>
                </a:lnTo>
                <a:lnTo>
                  <a:pt x="2394" y="544"/>
                </a:lnTo>
                <a:lnTo>
                  <a:pt x="2394" y="550"/>
                </a:lnTo>
                <a:lnTo>
                  <a:pt x="2400" y="557"/>
                </a:lnTo>
                <a:lnTo>
                  <a:pt x="2406" y="550"/>
                </a:lnTo>
                <a:lnTo>
                  <a:pt x="2406" y="557"/>
                </a:lnTo>
                <a:lnTo>
                  <a:pt x="2413" y="557"/>
                </a:lnTo>
                <a:lnTo>
                  <a:pt x="2419" y="569"/>
                </a:lnTo>
                <a:lnTo>
                  <a:pt x="2425" y="569"/>
                </a:lnTo>
                <a:lnTo>
                  <a:pt x="2431" y="569"/>
                </a:lnTo>
                <a:lnTo>
                  <a:pt x="2431" y="582"/>
                </a:lnTo>
                <a:lnTo>
                  <a:pt x="2438" y="582"/>
                </a:lnTo>
                <a:lnTo>
                  <a:pt x="2444" y="582"/>
                </a:lnTo>
                <a:lnTo>
                  <a:pt x="2450" y="594"/>
                </a:lnTo>
                <a:lnTo>
                  <a:pt x="2456" y="600"/>
                </a:lnTo>
                <a:lnTo>
                  <a:pt x="2463" y="600"/>
                </a:lnTo>
                <a:lnTo>
                  <a:pt x="2463" y="613"/>
                </a:lnTo>
                <a:lnTo>
                  <a:pt x="2469" y="613"/>
                </a:lnTo>
                <a:lnTo>
                  <a:pt x="2469" y="619"/>
                </a:lnTo>
                <a:lnTo>
                  <a:pt x="2475" y="619"/>
                </a:lnTo>
                <a:lnTo>
                  <a:pt x="2475" y="625"/>
                </a:lnTo>
                <a:lnTo>
                  <a:pt x="2481" y="632"/>
                </a:lnTo>
                <a:lnTo>
                  <a:pt x="2488" y="638"/>
                </a:lnTo>
                <a:lnTo>
                  <a:pt x="2488" y="644"/>
                </a:lnTo>
                <a:lnTo>
                  <a:pt x="2494" y="644"/>
                </a:lnTo>
                <a:lnTo>
                  <a:pt x="2494" y="650"/>
                </a:lnTo>
                <a:lnTo>
                  <a:pt x="2500" y="657"/>
                </a:lnTo>
                <a:lnTo>
                  <a:pt x="2500" y="663"/>
                </a:lnTo>
                <a:lnTo>
                  <a:pt x="2506" y="669"/>
                </a:lnTo>
                <a:lnTo>
                  <a:pt x="2506" y="675"/>
                </a:lnTo>
                <a:lnTo>
                  <a:pt x="2513" y="675"/>
                </a:lnTo>
                <a:lnTo>
                  <a:pt x="2519" y="682"/>
                </a:lnTo>
                <a:lnTo>
                  <a:pt x="2519" y="700"/>
                </a:lnTo>
                <a:lnTo>
                  <a:pt x="2525" y="700"/>
                </a:lnTo>
                <a:lnTo>
                  <a:pt x="2525" y="707"/>
                </a:lnTo>
                <a:lnTo>
                  <a:pt x="2531" y="713"/>
                </a:lnTo>
                <a:lnTo>
                  <a:pt x="2531" y="719"/>
                </a:lnTo>
                <a:lnTo>
                  <a:pt x="2538" y="732"/>
                </a:lnTo>
                <a:lnTo>
                  <a:pt x="2538" y="738"/>
                </a:lnTo>
                <a:lnTo>
                  <a:pt x="2544" y="750"/>
                </a:lnTo>
                <a:lnTo>
                  <a:pt x="2550" y="757"/>
                </a:lnTo>
                <a:lnTo>
                  <a:pt x="2550" y="763"/>
                </a:lnTo>
                <a:lnTo>
                  <a:pt x="2556" y="782"/>
                </a:lnTo>
                <a:lnTo>
                  <a:pt x="2556" y="788"/>
                </a:lnTo>
                <a:lnTo>
                  <a:pt x="2563" y="800"/>
                </a:lnTo>
                <a:lnTo>
                  <a:pt x="2563" y="807"/>
                </a:lnTo>
                <a:lnTo>
                  <a:pt x="2569" y="825"/>
                </a:lnTo>
                <a:lnTo>
                  <a:pt x="2569" y="838"/>
                </a:lnTo>
                <a:lnTo>
                  <a:pt x="2575" y="850"/>
                </a:lnTo>
                <a:lnTo>
                  <a:pt x="2581" y="863"/>
                </a:lnTo>
                <a:lnTo>
                  <a:pt x="2581" y="882"/>
                </a:lnTo>
                <a:lnTo>
                  <a:pt x="2588" y="900"/>
                </a:lnTo>
                <a:lnTo>
                  <a:pt x="2588" y="925"/>
                </a:lnTo>
                <a:lnTo>
                  <a:pt x="2594" y="950"/>
                </a:lnTo>
                <a:lnTo>
                  <a:pt x="2594" y="975"/>
                </a:lnTo>
                <a:lnTo>
                  <a:pt x="2600" y="1000"/>
                </a:lnTo>
                <a:lnTo>
                  <a:pt x="2600" y="1032"/>
                </a:lnTo>
                <a:lnTo>
                  <a:pt x="2606" y="1088"/>
                </a:lnTo>
                <a:lnTo>
                  <a:pt x="2613" y="1132"/>
                </a:lnTo>
                <a:lnTo>
                  <a:pt x="2613" y="1175"/>
                </a:lnTo>
                <a:lnTo>
                  <a:pt x="2619" y="1225"/>
                </a:lnTo>
                <a:lnTo>
                  <a:pt x="2619" y="1244"/>
                </a:lnTo>
                <a:lnTo>
                  <a:pt x="2625" y="1244"/>
                </a:lnTo>
                <a:lnTo>
                  <a:pt x="2631" y="1244"/>
                </a:lnTo>
                <a:lnTo>
                  <a:pt x="2638" y="1244"/>
                </a:lnTo>
                <a:lnTo>
                  <a:pt x="2644" y="1244"/>
                </a:lnTo>
                <a:lnTo>
                  <a:pt x="2650" y="1244"/>
                </a:lnTo>
                <a:lnTo>
                  <a:pt x="2656" y="1244"/>
                </a:lnTo>
                <a:lnTo>
                  <a:pt x="2663" y="1244"/>
                </a:lnTo>
                <a:lnTo>
                  <a:pt x="2669" y="1244"/>
                </a:lnTo>
                <a:lnTo>
                  <a:pt x="2675" y="1244"/>
                </a:lnTo>
                <a:lnTo>
                  <a:pt x="2681" y="1244"/>
                </a:lnTo>
                <a:lnTo>
                  <a:pt x="2688" y="1244"/>
                </a:lnTo>
                <a:lnTo>
                  <a:pt x="2694" y="1244"/>
                </a:lnTo>
                <a:lnTo>
                  <a:pt x="2700" y="1244"/>
                </a:lnTo>
                <a:lnTo>
                  <a:pt x="2706" y="1244"/>
                </a:lnTo>
                <a:lnTo>
                  <a:pt x="2713" y="1244"/>
                </a:lnTo>
                <a:lnTo>
                  <a:pt x="2719" y="1244"/>
                </a:lnTo>
                <a:lnTo>
                  <a:pt x="2725" y="1244"/>
                </a:lnTo>
                <a:lnTo>
                  <a:pt x="2731" y="1244"/>
                </a:lnTo>
                <a:lnTo>
                  <a:pt x="2738" y="1244"/>
                </a:lnTo>
                <a:lnTo>
                  <a:pt x="2744" y="1244"/>
                </a:lnTo>
                <a:lnTo>
                  <a:pt x="2750" y="1244"/>
                </a:lnTo>
                <a:lnTo>
                  <a:pt x="2756" y="1244"/>
                </a:lnTo>
                <a:lnTo>
                  <a:pt x="2763" y="1244"/>
                </a:lnTo>
                <a:lnTo>
                  <a:pt x="2769" y="1244"/>
                </a:lnTo>
                <a:lnTo>
                  <a:pt x="2775" y="1244"/>
                </a:lnTo>
                <a:lnTo>
                  <a:pt x="2781" y="1244"/>
                </a:lnTo>
                <a:lnTo>
                  <a:pt x="2788" y="1244"/>
                </a:lnTo>
                <a:lnTo>
                  <a:pt x="2794" y="1244"/>
                </a:lnTo>
                <a:lnTo>
                  <a:pt x="2800" y="1244"/>
                </a:lnTo>
                <a:lnTo>
                  <a:pt x="2806" y="1244"/>
                </a:lnTo>
                <a:lnTo>
                  <a:pt x="2813" y="1244"/>
                </a:lnTo>
                <a:lnTo>
                  <a:pt x="2819" y="1244"/>
                </a:lnTo>
                <a:lnTo>
                  <a:pt x="2825" y="1244"/>
                </a:lnTo>
                <a:lnTo>
                  <a:pt x="2831" y="1244"/>
                </a:lnTo>
                <a:lnTo>
                  <a:pt x="2838" y="1244"/>
                </a:lnTo>
                <a:lnTo>
                  <a:pt x="2844" y="1244"/>
                </a:lnTo>
                <a:lnTo>
                  <a:pt x="2850" y="1244"/>
                </a:lnTo>
                <a:lnTo>
                  <a:pt x="2856" y="1244"/>
                </a:lnTo>
                <a:lnTo>
                  <a:pt x="2863" y="1244"/>
                </a:lnTo>
                <a:lnTo>
                  <a:pt x="2869" y="1244"/>
                </a:lnTo>
                <a:lnTo>
                  <a:pt x="2875" y="1244"/>
                </a:lnTo>
                <a:lnTo>
                  <a:pt x="2881" y="1244"/>
                </a:lnTo>
                <a:lnTo>
                  <a:pt x="2888" y="1244"/>
                </a:lnTo>
                <a:lnTo>
                  <a:pt x="2894" y="1244"/>
                </a:lnTo>
                <a:lnTo>
                  <a:pt x="2900" y="1244"/>
                </a:lnTo>
                <a:lnTo>
                  <a:pt x="2906" y="1244"/>
                </a:lnTo>
                <a:lnTo>
                  <a:pt x="2913" y="1244"/>
                </a:lnTo>
                <a:lnTo>
                  <a:pt x="2919" y="1244"/>
                </a:lnTo>
                <a:lnTo>
                  <a:pt x="2925" y="1244"/>
                </a:lnTo>
                <a:lnTo>
                  <a:pt x="2931" y="1244"/>
                </a:lnTo>
                <a:lnTo>
                  <a:pt x="2938" y="1244"/>
                </a:lnTo>
                <a:lnTo>
                  <a:pt x="2944" y="1244"/>
                </a:lnTo>
                <a:lnTo>
                  <a:pt x="2950" y="1244"/>
                </a:lnTo>
                <a:lnTo>
                  <a:pt x="2956" y="1244"/>
                </a:lnTo>
                <a:lnTo>
                  <a:pt x="2963" y="1244"/>
                </a:lnTo>
                <a:lnTo>
                  <a:pt x="2969" y="1244"/>
                </a:lnTo>
                <a:lnTo>
                  <a:pt x="2975" y="1244"/>
                </a:lnTo>
                <a:lnTo>
                  <a:pt x="2981" y="1244"/>
                </a:lnTo>
                <a:lnTo>
                  <a:pt x="2988" y="1244"/>
                </a:ln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2707200" y="4422600"/>
            <a:ext cx="6058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apacity, Ah</a:t>
            </a:r>
            <a:endParaRPr b="0" lang="en-US" sz="900" spc="-1" strike="noStrike">
              <a:solidFill>
                <a:srgbClr val="000000"/>
              </a:solidFill>
              <a:latin typeface="Times New Roman"/>
            </a:endParaRPr>
          </a:p>
        </p:txBody>
      </p:sp>
      <p:sp>
        <p:nvSpPr>
          <p:cNvPr id="162" name=""/>
          <p:cNvSpPr/>
          <p:nvPr/>
        </p:nvSpPr>
        <p:spPr>
          <a:xfrm rot="16200000">
            <a:off x="129600" y="2942280"/>
            <a:ext cx="5036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Voltage, V</a:t>
            </a:r>
            <a:endParaRPr b="0" lang="en-US" sz="900" spc="-1" strike="noStrike">
              <a:solidFill>
                <a:srgbClr val="000000"/>
              </a:solidFill>
              <a:latin typeface="Times New Roman"/>
            </a:endParaRPr>
          </a:p>
        </p:txBody>
      </p:sp>
      <p:sp>
        <p:nvSpPr>
          <p:cNvPr id="163" name=""/>
          <p:cNvSpPr/>
          <p:nvPr/>
        </p:nvSpPr>
        <p:spPr>
          <a:xfrm>
            <a:off x="4572000" y="3897360"/>
            <a:ext cx="1440" cy="3841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4500000" y="4545000"/>
            <a:ext cx="212400" cy="350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Q</a:t>
            </a:r>
            <a:endParaRPr b="0" lang="en-US" sz="2300" spc="-1" strike="noStrike">
              <a:solidFill>
                <a:srgbClr val="000000"/>
              </a:solidFill>
              <a:latin typeface="Times New Roman"/>
            </a:endParaRPr>
          </a:p>
        </p:txBody>
      </p:sp>
      <p:sp>
        <p:nvSpPr>
          <p:cNvPr id="165" name=""/>
          <p:cNvSpPr/>
          <p:nvPr/>
        </p:nvSpPr>
        <p:spPr>
          <a:xfrm>
            <a:off x="4750920" y="4797360"/>
            <a:ext cx="32832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x</a:t>
            </a:r>
            <a:endParaRPr b="0" lang="en-US" sz="1500" spc="-1" strike="noStrike">
              <a:solidFill>
                <a:srgbClr val="000000"/>
              </a:solidFill>
              <a:latin typeface="Times New Roman"/>
            </a:endParaRPr>
          </a:p>
        </p:txBody>
      </p:sp>
      <p:sp>
        <p:nvSpPr>
          <p:cNvPr id="166" name=""/>
          <p:cNvSpPr/>
          <p:nvPr/>
        </p:nvSpPr>
        <p:spPr>
          <a:xfrm>
            <a:off x="4249800" y="3033720"/>
            <a:ext cx="485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a:t>
            </a:r>
            <a:endParaRPr b="0" lang="en-US" sz="1800" spc="-1" strike="noStrike">
              <a:solidFill>
                <a:srgbClr val="000000"/>
              </a:solidFill>
              <a:latin typeface="Times New Roman"/>
            </a:endParaRPr>
          </a:p>
        </p:txBody>
      </p:sp>
      <p:sp>
        <p:nvSpPr>
          <p:cNvPr id="167" name=""/>
          <p:cNvSpPr/>
          <p:nvPr/>
        </p:nvSpPr>
        <p:spPr>
          <a:xfrm>
            <a:off x="4500720" y="3608280"/>
            <a:ext cx="0" cy="6127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4356000" y="3321000"/>
            <a:ext cx="0" cy="90000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755640" y="3321000"/>
            <a:ext cx="360036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21960" y="3608280"/>
            <a:ext cx="965160" cy="2772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EDV2 (I</a:t>
            </a:r>
            <a:r>
              <a:rPr b="0" lang="en-US" sz="1600" spc="-1" strike="noStrike" baseline="-25000">
                <a:solidFill>
                  <a:srgbClr val="000000"/>
                </a:solidFill>
                <a:latin typeface="Times New Roman"/>
              </a:rPr>
              <a:t>2</a:t>
            </a: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71" name=""/>
          <p:cNvSpPr/>
          <p:nvPr/>
        </p:nvSpPr>
        <p:spPr>
          <a:xfrm>
            <a:off x="611280" y="2673360"/>
            <a:ext cx="4378320" cy="1859040"/>
          </a:xfrm>
          <a:custGeom>
            <a:avLst/>
            <a:gdLst/>
            <a:ahLst/>
            <a:rect l="l" t="t" r="r" b="b"/>
            <a:pathLst>
              <a:path w="2988" h="1244">
                <a:moveTo>
                  <a:pt x="0" y="0"/>
                </a:moveTo>
                <a:lnTo>
                  <a:pt x="6" y="119"/>
                </a:lnTo>
                <a:lnTo>
                  <a:pt x="6" y="125"/>
                </a:lnTo>
                <a:lnTo>
                  <a:pt x="13" y="125"/>
                </a:lnTo>
                <a:lnTo>
                  <a:pt x="13" y="138"/>
                </a:lnTo>
                <a:lnTo>
                  <a:pt x="19" y="138"/>
                </a:lnTo>
                <a:lnTo>
                  <a:pt x="25" y="138"/>
                </a:lnTo>
                <a:lnTo>
                  <a:pt x="31" y="150"/>
                </a:lnTo>
                <a:lnTo>
                  <a:pt x="38" y="150"/>
                </a:lnTo>
                <a:lnTo>
                  <a:pt x="44" y="157"/>
                </a:lnTo>
                <a:lnTo>
                  <a:pt x="50" y="157"/>
                </a:lnTo>
                <a:lnTo>
                  <a:pt x="56" y="157"/>
                </a:lnTo>
                <a:lnTo>
                  <a:pt x="63" y="163"/>
                </a:lnTo>
                <a:lnTo>
                  <a:pt x="69" y="163"/>
                </a:lnTo>
                <a:lnTo>
                  <a:pt x="75" y="163"/>
                </a:lnTo>
                <a:lnTo>
                  <a:pt x="75" y="169"/>
                </a:lnTo>
                <a:lnTo>
                  <a:pt x="81" y="169"/>
                </a:lnTo>
                <a:lnTo>
                  <a:pt x="88" y="169"/>
                </a:lnTo>
                <a:lnTo>
                  <a:pt x="94" y="182"/>
                </a:lnTo>
                <a:lnTo>
                  <a:pt x="100" y="182"/>
                </a:lnTo>
                <a:lnTo>
                  <a:pt x="100" y="175"/>
                </a:lnTo>
                <a:lnTo>
                  <a:pt x="106" y="182"/>
                </a:lnTo>
                <a:lnTo>
                  <a:pt x="113" y="182"/>
                </a:lnTo>
                <a:lnTo>
                  <a:pt x="113" y="188"/>
                </a:lnTo>
                <a:lnTo>
                  <a:pt x="119" y="188"/>
                </a:lnTo>
                <a:lnTo>
                  <a:pt x="125" y="194"/>
                </a:lnTo>
                <a:lnTo>
                  <a:pt x="125" y="188"/>
                </a:lnTo>
                <a:lnTo>
                  <a:pt x="131" y="188"/>
                </a:lnTo>
                <a:lnTo>
                  <a:pt x="131" y="200"/>
                </a:lnTo>
                <a:lnTo>
                  <a:pt x="138" y="194"/>
                </a:lnTo>
                <a:lnTo>
                  <a:pt x="144" y="194"/>
                </a:lnTo>
                <a:lnTo>
                  <a:pt x="144" y="200"/>
                </a:lnTo>
                <a:lnTo>
                  <a:pt x="150" y="207"/>
                </a:lnTo>
                <a:lnTo>
                  <a:pt x="156" y="200"/>
                </a:lnTo>
                <a:lnTo>
                  <a:pt x="163" y="200"/>
                </a:lnTo>
                <a:lnTo>
                  <a:pt x="163" y="213"/>
                </a:lnTo>
                <a:lnTo>
                  <a:pt x="169" y="213"/>
                </a:lnTo>
                <a:lnTo>
                  <a:pt x="175" y="207"/>
                </a:lnTo>
                <a:lnTo>
                  <a:pt x="175" y="213"/>
                </a:lnTo>
                <a:lnTo>
                  <a:pt x="181" y="219"/>
                </a:lnTo>
                <a:lnTo>
                  <a:pt x="188" y="219"/>
                </a:lnTo>
                <a:lnTo>
                  <a:pt x="194" y="213"/>
                </a:lnTo>
                <a:lnTo>
                  <a:pt x="194" y="219"/>
                </a:lnTo>
                <a:lnTo>
                  <a:pt x="200" y="219"/>
                </a:lnTo>
                <a:lnTo>
                  <a:pt x="206" y="225"/>
                </a:lnTo>
                <a:lnTo>
                  <a:pt x="206" y="219"/>
                </a:lnTo>
                <a:lnTo>
                  <a:pt x="213" y="219"/>
                </a:lnTo>
                <a:lnTo>
                  <a:pt x="213" y="225"/>
                </a:lnTo>
                <a:lnTo>
                  <a:pt x="219" y="225"/>
                </a:lnTo>
                <a:lnTo>
                  <a:pt x="225" y="225"/>
                </a:lnTo>
                <a:lnTo>
                  <a:pt x="231" y="232"/>
                </a:lnTo>
                <a:lnTo>
                  <a:pt x="238" y="232"/>
                </a:lnTo>
                <a:lnTo>
                  <a:pt x="244" y="232"/>
                </a:lnTo>
                <a:lnTo>
                  <a:pt x="244" y="238"/>
                </a:lnTo>
                <a:lnTo>
                  <a:pt x="250" y="238"/>
                </a:lnTo>
                <a:lnTo>
                  <a:pt x="256" y="232"/>
                </a:lnTo>
                <a:lnTo>
                  <a:pt x="263" y="238"/>
                </a:lnTo>
                <a:lnTo>
                  <a:pt x="269" y="238"/>
                </a:lnTo>
                <a:lnTo>
                  <a:pt x="275" y="238"/>
                </a:lnTo>
                <a:lnTo>
                  <a:pt x="275" y="244"/>
                </a:lnTo>
                <a:lnTo>
                  <a:pt x="281" y="244"/>
                </a:lnTo>
                <a:lnTo>
                  <a:pt x="288" y="238"/>
                </a:lnTo>
                <a:lnTo>
                  <a:pt x="294" y="244"/>
                </a:lnTo>
                <a:lnTo>
                  <a:pt x="294" y="250"/>
                </a:lnTo>
                <a:lnTo>
                  <a:pt x="300" y="244"/>
                </a:lnTo>
                <a:lnTo>
                  <a:pt x="306" y="244"/>
                </a:lnTo>
                <a:lnTo>
                  <a:pt x="306" y="250"/>
                </a:lnTo>
                <a:lnTo>
                  <a:pt x="313" y="250"/>
                </a:lnTo>
                <a:lnTo>
                  <a:pt x="319" y="244"/>
                </a:lnTo>
                <a:lnTo>
                  <a:pt x="319" y="250"/>
                </a:lnTo>
                <a:lnTo>
                  <a:pt x="325" y="250"/>
                </a:lnTo>
                <a:lnTo>
                  <a:pt x="325" y="257"/>
                </a:lnTo>
                <a:lnTo>
                  <a:pt x="331" y="257"/>
                </a:lnTo>
                <a:lnTo>
                  <a:pt x="331" y="250"/>
                </a:lnTo>
                <a:lnTo>
                  <a:pt x="338" y="250"/>
                </a:lnTo>
                <a:lnTo>
                  <a:pt x="338" y="257"/>
                </a:lnTo>
                <a:lnTo>
                  <a:pt x="344" y="257"/>
                </a:lnTo>
                <a:lnTo>
                  <a:pt x="350" y="257"/>
                </a:lnTo>
                <a:lnTo>
                  <a:pt x="356" y="257"/>
                </a:lnTo>
                <a:lnTo>
                  <a:pt x="356" y="263"/>
                </a:lnTo>
                <a:lnTo>
                  <a:pt x="363" y="263"/>
                </a:lnTo>
                <a:lnTo>
                  <a:pt x="363" y="257"/>
                </a:lnTo>
                <a:lnTo>
                  <a:pt x="369" y="257"/>
                </a:lnTo>
                <a:lnTo>
                  <a:pt x="369" y="263"/>
                </a:lnTo>
                <a:lnTo>
                  <a:pt x="375" y="263"/>
                </a:lnTo>
                <a:lnTo>
                  <a:pt x="381" y="263"/>
                </a:lnTo>
                <a:lnTo>
                  <a:pt x="381" y="269"/>
                </a:lnTo>
                <a:lnTo>
                  <a:pt x="388" y="269"/>
                </a:lnTo>
                <a:lnTo>
                  <a:pt x="394" y="263"/>
                </a:lnTo>
                <a:lnTo>
                  <a:pt x="400" y="269"/>
                </a:lnTo>
                <a:lnTo>
                  <a:pt x="406" y="269"/>
                </a:lnTo>
                <a:lnTo>
                  <a:pt x="413" y="269"/>
                </a:lnTo>
                <a:lnTo>
                  <a:pt x="419" y="275"/>
                </a:lnTo>
                <a:lnTo>
                  <a:pt x="425" y="269"/>
                </a:lnTo>
                <a:lnTo>
                  <a:pt x="431" y="275"/>
                </a:lnTo>
                <a:lnTo>
                  <a:pt x="438" y="275"/>
                </a:lnTo>
                <a:lnTo>
                  <a:pt x="444" y="275"/>
                </a:lnTo>
                <a:lnTo>
                  <a:pt x="450" y="282"/>
                </a:lnTo>
                <a:lnTo>
                  <a:pt x="456" y="275"/>
                </a:lnTo>
                <a:lnTo>
                  <a:pt x="463" y="275"/>
                </a:lnTo>
                <a:lnTo>
                  <a:pt x="463" y="282"/>
                </a:lnTo>
                <a:lnTo>
                  <a:pt x="469" y="282"/>
                </a:lnTo>
                <a:lnTo>
                  <a:pt x="475" y="282"/>
                </a:lnTo>
                <a:lnTo>
                  <a:pt x="481" y="288"/>
                </a:lnTo>
                <a:lnTo>
                  <a:pt x="488" y="282"/>
                </a:lnTo>
                <a:lnTo>
                  <a:pt x="494" y="282"/>
                </a:lnTo>
                <a:lnTo>
                  <a:pt x="494" y="288"/>
                </a:lnTo>
                <a:lnTo>
                  <a:pt x="500" y="288"/>
                </a:lnTo>
                <a:lnTo>
                  <a:pt x="506" y="288"/>
                </a:lnTo>
                <a:lnTo>
                  <a:pt x="513" y="288"/>
                </a:lnTo>
                <a:lnTo>
                  <a:pt x="513" y="294"/>
                </a:lnTo>
                <a:lnTo>
                  <a:pt x="519" y="294"/>
                </a:lnTo>
                <a:lnTo>
                  <a:pt x="519" y="288"/>
                </a:lnTo>
                <a:lnTo>
                  <a:pt x="525" y="288"/>
                </a:lnTo>
                <a:lnTo>
                  <a:pt x="531" y="300"/>
                </a:lnTo>
                <a:lnTo>
                  <a:pt x="538" y="294"/>
                </a:lnTo>
                <a:lnTo>
                  <a:pt x="544" y="294"/>
                </a:lnTo>
                <a:lnTo>
                  <a:pt x="550" y="300"/>
                </a:lnTo>
                <a:lnTo>
                  <a:pt x="556" y="294"/>
                </a:lnTo>
                <a:lnTo>
                  <a:pt x="556" y="300"/>
                </a:lnTo>
                <a:lnTo>
                  <a:pt x="563" y="307"/>
                </a:lnTo>
                <a:lnTo>
                  <a:pt x="563" y="300"/>
                </a:lnTo>
                <a:lnTo>
                  <a:pt x="569" y="300"/>
                </a:lnTo>
                <a:lnTo>
                  <a:pt x="575" y="300"/>
                </a:lnTo>
                <a:lnTo>
                  <a:pt x="581" y="307"/>
                </a:lnTo>
                <a:lnTo>
                  <a:pt x="588" y="307"/>
                </a:lnTo>
                <a:lnTo>
                  <a:pt x="588" y="300"/>
                </a:lnTo>
                <a:lnTo>
                  <a:pt x="594" y="307"/>
                </a:lnTo>
                <a:lnTo>
                  <a:pt x="600" y="307"/>
                </a:lnTo>
                <a:lnTo>
                  <a:pt x="606" y="307"/>
                </a:lnTo>
                <a:lnTo>
                  <a:pt x="613" y="307"/>
                </a:lnTo>
                <a:lnTo>
                  <a:pt x="613" y="313"/>
                </a:lnTo>
                <a:lnTo>
                  <a:pt x="619" y="313"/>
                </a:lnTo>
                <a:lnTo>
                  <a:pt x="619" y="307"/>
                </a:lnTo>
                <a:lnTo>
                  <a:pt x="625" y="307"/>
                </a:lnTo>
                <a:lnTo>
                  <a:pt x="625" y="319"/>
                </a:lnTo>
                <a:lnTo>
                  <a:pt x="631" y="313"/>
                </a:lnTo>
                <a:lnTo>
                  <a:pt x="638" y="313"/>
                </a:lnTo>
                <a:lnTo>
                  <a:pt x="644" y="313"/>
                </a:lnTo>
                <a:lnTo>
                  <a:pt x="644" y="319"/>
                </a:lnTo>
                <a:lnTo>
                  <a:pt x="650" y="319"/>
                </a:lnTo>
                <a:lnTo>
                  <a:pt x="650" y="313"/>
                </a:lnTo>
                <a:lnTo>
                  <a:pt x="656" y="313"/>
                </a:lnTo>
                <a:lnTo>
                  <a:pt x="656" y="319"/>
                </a:lnTo>
                <a:lnTo>
                  <a:pt x="663" y="319"/>
                </a:lnTo>
                <a:lnTo>
                  <a:pt x="669" y="319"/>
                </a:lnTo>
                <a:lnTo>
                  <a:pt x="675" y="319"/>
                </a:lnTo>
                <a:lnTo>
                  <a:pt x="675" y="325"/>
                </a:lnTo>
                <a:lnTo>
                  <a:pt x="681" y="325"/>
                </a:lnTo>
                <a:lnTo>
                  <a:pt x="681" y="319"/>
                </a:lnTo>
                <a:lnTo>
                  <a:pt x="688" y="319"/>
                </a:lnTo>
                <a:lnTo>
                  <a:pt x="694" y="325"/>
                </a:lnTo>
                <a:lnTo>
                  <a:pt x="700" y="325"/>
                </a:lnTo>
                <a:lnTo>
                  <a:pt x="706" y="325"/>
                </a:lnTo>
                <a:lnTo>
                  <a:pt x="706" y="332"/>
                </a:lnTo>
                <a:lnTo>
                  <a:pt x="713" y="332"/>
                </a:lnTo>
                <a:lnTo>
                  <a:pt x="719" y="325"/>
                </a:lnTo>
                <a:lnTo>
                  <a:pt x="725" y="332"/>
                </a:lnTo>
                <a:lnTo>
                  <a:pt x="731" y="332"/>
                </a:lnTo>
                <a:lnTo>
                  <a:pt x="738" y="332"/>
                </a:lnTo>
                <a:lnTo>
                  <a:pt x="744" y="338"/>
                </a:lnTo>
                <a:lnTo>
                  <a:pt x="750" y="332"/>
                </a:lnTo>
                <a:lnTo>
                  <a:pt x="756" y="338"/>
                </a:lnTo>
                <a:lnTo>
                  <a:pt x="763" y="338"/>
                </a:lnTo>
                <a:lnTo>
                  <a:pt x="769" y="338"/>
                </a:lnTo>
                <a:lnTo>
                  <a:pt x="775" y="344"/>
                </a:lnTo>
                <a:lnTo>
                  <a:pt x="775" y="338"/>
                </a:lnTo>
                <a:lnTo>
                  <a:pt x="781" y="338"/>
                </a:lnTo>
                <a:lnTo>
                  <a:pt x="788" y="338"/>
                </a:lnTo>
                <a:lnTo>
                  <a:pt x="788" y="344"/>
                </a:lnTo>
                <a:lnTo>
                  <a:pt x="794" y="344"/>
                </a:lnTo>
                <a:lnTo>
                  <a:pt x="800" y="338"/>
                </a:lnTo>
                <a:lnTo>
                  <a:pt x="806" y="338"/>
                </a:lnTo>
                <a:lnTo>
                  <a:pt x="806" y="344"/>
                </a:lnTo>
                <a:lnTo>
                  <a:pt x="813" y="344"/>
                </a:lnTo>
                <a:lnTo>
                  <a:pt x="819" y="344"/>
                </a:lnTo>
                <a:lnTo>
                  <a:pt x="819" y="350"/>
                </a:lnTo>
                <a:lnTo>
                  <a:pt x="825" y="350"/>
                </a:lnTo>
                <a:lnTo>
                  <a:pt x="831" y="350"/>
                </a:lnTo>
                <a:lnTo>
                  <a:pt x="831" y="344"/>
                </a:lnTo>
                <a:lnTo>
                  <a:pt x="838" y="344"/>
                </a:lnTo>
                <a:lnTo>
                  <a:pt x="838" y="350"/>
                </a:lnTo>
                <a:lnTo>
                  <a:pt x="844" y="350"/>
                </a:lnTo>
                <a:lnTo>
                  <a:pt x="850" y="350"/>
                </a:lnTo>
                <a:lnTo>
                  <a:pt x="856" y="357"/>
                </a:lnTo>
                <a:lnTo>
                  <a:pt x="856" y="350"/>
                </a:lnTo>
                <a:lnTo>
                  <a:pt x="863" y="357"/>
                </a:lnTo>
                <a:lnTo>
                  <a:pt x="869" y="350"/>
                </a:lnTo>
                <a:lnTo>
                  <a:pt x="875" y="357"/>
                </a:lnTo>
                <a:lnTo>
                  <a:pt x="881" y="357"/>
                </a:lnTo>
                <a:lnTo>
                  <a:pt x="881" y="350"/>
                </a:lnTo>
                <a:lnTo>
                  <a:pt x="888" y="350"/>
                </a:lnTo>
                <a:lnTo>
                  <a:pt x="894" y="357"/>
                </a:lnTo>
                <a:lnTo>
                  <a:pt x="900" y="357"/>
                </a:lnTo>
                <a:lnTo>
                  <a:pt x="906" y="363"/>
                </a:lnTo>
                <a:lnTo>
                  <a:pt x="913" y="357"/>
                </a:lnTo>
                <a:lnTo>
                  <a:pt x="919" y="357"/>
                </a:lnTo>
                <a:lnTo>
                  <a:pt x="925" y="363"/>
                </a:lnTo>
                <a:lnTo>
                  <a:pt x="931" y="357"/>
                </a:lnTo>
                <a:lnTo>
                  <a:pt x="938" y="363"/>
                </a:lnTo>
                <a:lnTo>
                  <a:pt x="938" y="369"/>
                </a:lnTo>
                <a:lnTo>
                  <a:pt x="944" y="363"/>
                </a:lnTo>
                <a:lnTo>
                  <a:pt x="950" y="363"/>
                </a:lnTo>
                <a:lnTo>
                  <a:pt x="950" y="369"/>
                </a:lnTo>
                <a:lnTo>
                  <a:pt x="956" y="369"/>
                </a:lnTo>
                <a:lnTo>
                  <a:pt x="963" y="369"/>
                </a:lnTo>
                <a:lnTo>
                  <a:pt x="963" y="363"/>
                </a:lnTo>
                <a:lnTo>
                  <a:pt x="969" y="369"/>
                </a:lnTo>
                <a:lnTo>
                  <a:pt x="975" y="369"/>
                </a:lnTo>
                <a:lnTo>
                  <a:pt x="975" y="363"/>
                </a:lnTo>
                <a:lnTo>
                  <a:pt x="981" y="369"/>
                </a:lnTo>
                <a:lnTo>
                  <a:pt x="981" y="375"/>
                </a:lnTo>
                <a:lnTo>
                  <a:pt x="988" y="369"/>
                </a:lnTo>
                <a:lnTo>
                  <a:pt x="994" y="369"/>
                </a:lnTo>
                <a:lnTo>
                  <a:pt x="1000" y="369"/>
                </a:lnTo>
                <a:lnTo>
                  <a:pt x="1000" y="375"/>
                </a:lnTo>
                <a:lnTo>
                  <a:pt x="1006" y="375"/>
                </a:lnTo>
                <a:lnTo>
                  <a:pt x="1006" y="369"/>
                </a:lnTo>
                <a:lnTo>
                  <a:pt x="1013" y="369"/>
                </a:lnTo>
                <a:lnTo>
                  <a:pt x="1013" y="375"/>
                </a:lnTo>
                <a:lnTo>
                  <a:pt x="1019" y="375"/>
                </a:lnTo>
                <a:lnTo>
                  <a:pt x="1025" y="375"/>
                </a:lnTo>
                <a:lnTo>
                  <a:pt x="1025" y="369"/>
                </a:lnTo>
                <a:lnTo>
                  <a:pt x="1031" y="375"/>
                </a:lnTo>
                <a:lnTo>
                  <a:pt x="1031" y="382"/>
                </a:lnTo>
                <a:lnTo>
                  <a:pt x="1038" y="375"/>
                </a:lnTo>
                <a:lnTo>
                  <a:pt x="1044" y="375"/>
                </a:lnTo>
                <a:lnTo>
                  <a:pt x="1050" y="375"/>
                </a:lnTo>
                <a:lnTo>
                  <a:pt x="1056" y="375"/>
                </a:lnTo>
                <a:lnTo>
                  <a:pt x="1063" y="375"/>
                </a:lnTo>
                <a:lnTo>
                  <a:pt x="1069" y="375"/>
                </a:lnTo>
                <a:lnTo>
                  <a:pt x="1069" y="382"/>
                </a:lnTo>
                <a:lnTo>
                  <a:pt x="1075" y="375"/>
                </a:lnTo>
                <a:lnTo>
                  <a:pt x="1075" y="382"/>
                </a:lnTo>
                <a:lnTo>
                  <a:pt x="1081" y="382"/>
                </a:lnTo>
                <a:lnTo>
                  <a:pt x="1088" y="382"/>
                </a:lnTo>
                <a:lnTo>
                  <a:pt x="1094" y="382"/>
                </a:lnTo>
                <a:lnTo>
                  <a:pt x="1100" y="382"/>
                </a:lnTo>
                <a:lnTo>
                  <a:pt x="1106" y="382"/>
                </a:lnTo>
                <a:lnTo>
                  <a:pt x="1113" y="382"/>
                </a:lnTo>
                <a:lnTo>
                  <a:pt x="1119" y="382"/>
                </a:lnTo>
                <a:lnTo>
                  <a:pt x="1125" y="382"/>
                </a:lnTo>
                <a:lnTo>
                  <a:pt x="1131" y="382"/>
                </a:lnTo>
                <a:lnTo>
                  <a:pt x="1138" y="388"/>
                </a:lnTo>
                <a:lnTo>
                  <a:pt x="1144" y="388"/>
                </a:lnTo>
                <a:lnTo>
                  <a:pt x="1150" y="394"/>
                </a:lnTo>
                <a:lnTo>
                  <a:pt x="1150" y="388"/>
                </a:lnTo>
                <a:lnTo>
                  <a:pt x="1156" y="388"/>
                </a:lnTo>
                <a:lnTo>
                  <a:pt x="1163" y="394"/>
                </a:lnTo>
                <a:lnTo>
                  <a:pt x="1169" y="394"/>
                </a:lnTo>
                <a:lnTo>
                  <a:pt x="1169" y="388"/>
                </a:lnTo>
                <a:lnTo>
                  <a:pt x="1175" y="394"/>
                </a:lnTo>
                <a:lnTo>
                  <a:pt x="1181" y="394"/>
                </a:lnTo>
                <a:lnTo>
                  <a:pt x="1188" y="388"/>
                </a:lnTo>
                <a:lnTo>
                  <a:pt x="1194" y="394"/>
                </a:lnTo>
                <a:lnTo>
                  <a:pt x="1200" y="394"/>
                </a:lnTo>
                <a:lnTo>
                  <a:pt x="1206" y="400"/>
                </a:lnTo>
                <a:lnTo>
                  <a:pt x="1213" y="394"/>
                </a:lnTo>
                <a:lnTo>
                  <a:pt x="1219" y="394"/>
                </a:lnTo>
                <a:lnTo>
                  <a:pt x="1225" y="394"/>
                </a:lnTo>
                <a:lnTo>
                  <a:pt x="1225" y="400"/>
                </a:lnTo>
                <a:lnTo>
                  <a:pt x="1231" y="400"/>
                </a:lnTo>
                <a:lnTo>
                  <a:pt x="1231" y="394"/>
                </a:lnTo>
                <a:lnTo>
                  <a:pt x="1238" y="394"/>
                </a:lnTo>
                <a:lnTo>
                  <a:pt x="1244" y="400"/>
                </a:lnTo>
                <a:lnTo>
                  <a:pt x="1250" y="400"/>
                </a:lnTo>
                <a:lnTo>
                  <a:pt x="1250" y="394"/>
                </a:lnTo>
                <a:lnTo>
                  <a:pt x="1256" y="394"/>
                </a:lnTo>
                <a:lnTo>
                  <a:pt x="1256" y="407"/>
                </a:lnTo>
                <a:lnTo>
                  <a:pt x="1263" y="400"/>
                </a:lnTo>
                <a:lnTo>
                  <a:pt x="1269" y="400"/>
                </a:lnTo>
                <a:lnTo>
                  <a:pt x="1275" y="407"/>
                </a:lnTo>
                <a:lnTo>
                  <a:pt x="1281" y="407"/>
                </a:lnTo>
                <a:lnTo>
                  <a:pt x="1281" y="400"/>
                </a:lnTo>
                <a:lnTo>
                  <a:pt x="1288" y="400"/>
                </a:lnTo>
                <a:lnTo>
                  <a:pt x="1288" y="407"/>
                </a:lnTo>
                <a:lnTo>
                  <a:pt x="1294" y="407"/>
                </a:lnTo>
                <a:lnTo>
                  <a:pt x="1294" y="400"/>
                </a:lnTo>
                <a:lnTo>
                  <a:pt x="1300" y="400"/>
                </a:lnTo>
                <a:lnTo>
                  <a:pt x="1306" y="407"/>
                </a:lnTo>
                <a:lnTo>
                  <a:pt x="1313" y="407"/>
                </a:lnTo>
                <a:lnTo>
                  <a:pt x="1313" y="400"/>
                </a:lnTo>
                <a:lnTo>
                  <a:pt x="1319" y="407"/>
                </a:lnTo>
                <a:lnTo>
                  <a:pt x="1325" y="407"/>
                </a:lnTo>
                <a:lnTo>
                  <a:pt x="1331" y="407"/>
                </a:lnTo>
                <a:lnTo>
                  <a:pt x="1338" y="413"/>
                </a:lnTo>
                <a:lnTo>
                  <a:pt x="1344" y="413"/>
                </a:lnTo>
                <a:lnTo>
                  <a:pt x="1344" y="407"/>
                </a:lnTo>
                <a:lnTo>
                  <a:pt x="1350" y="407"/>
                </a:lnTo>
                <a:lnTo>
                  <a:pt x="1356" y="413"/>
                </a:lnTo>
                <a:lnTo>
                  <a:pt x="1363" y="407"/>
                </a:lnTo>
                <a:lnTo>
                  <a:pt x="1369" y="407"/>
                </a:lnTo>
                <a:lnTo>
                  <a:pt x="1369" y="413"/>
                </a:lnTo>
                <a:lnTo>
                  <a:pt x="1375" y="413"/>
                </a:lnTo>
                <a:lnTo>
                  <a:pt x="1381" y="407"/>
                </a:lnTo>
                <a:lnTo>
                  <a:pt x="1388" y="413"/>
                </a:lnTo>
                <a:lnTo>
                  <a:pt x="1388" y="419"/>
                </a:lnTo>
                <a:lnTo>
                  <a:pt x="1394" y="413"/>
                </a:lnTo>
                <a:lnTo>
                  <a:pt x="1400" y="413"/>
                </a:lnTo>
                <a:lnTo>
                  <a:pt x="1400" y="419"/>
                </a:lnTo>
                <a:lnTo>
                  <a:pt x="1406" y="419"/>
                </a:lnTo>
                <a:lnTo>
                  <a:pt x="1413" y="413"/>
                </a:lnTo>
                <a:lnTo>
                  <a:pt x="1419" y="413"/>
                </a:lnTo>
                <a:lnTo>
                  <a:pt x="1419" y="419"/>
                </a:lnTo>
                <a:lnTo>
                  <a:pt x="1425" y="419"/>
                </a:lnTo>
                <a:lnTo>
                  <a:pt x="1431" y="413"/>
                </a:lnTo>
                <a:lnTo>
                  <a:pt x="1431" y="419"/>
                </a:lnTo>
                <a:lnTo>
                  <a:pt x="1438" y="419"/>
                </a:lnTo>
                <a:lnTo>
                  <a:pt x="1444" y="419"/>
                </a:lnTo>
                <a:lnTo>
                  <a:pt x="1444" y="413"/>
                </a:lnTo>
                <a:lnTo>
                  <a:pt x="1450" y="413"/>
                </a:lnTo>
                <a:lnTo>
                  <a:pt x="1450" y="419"/>
                </a:lnTo>
                <a:lnTo>
                  <a:pt x="1456" y="419"/>
                </a:lnTo>
                <a:lnTo>
                  <a:pt x="1463" y="419"/>
                </a:lnTo>
                <a:lnTo>
                  <a:pt x="1469" y="419"/>
                </a:lnTo>
                <a:lnTo>
                  <a:pt x="1475" y="419"/>
                </a:lnTo>
                <a:lnTo>
                  <a:pt x="1481" y="419"/>
                </a:lnTo>
                <a:lnTo>
                  <a:pt x="1488" y="425"/>
                </a:lnTo>
                <a:lnTo>
                  <a:pt x="1488" y="419"/>
                </a:lnTo>
                <a:lnTo>
                  <a:pt x="1494" y="419"/>
                </a:lnTo>
                <a:lnTo>
                  <a:pt x="1500" y="425"/>
                </a:lnTo>
                <a:lnTo>
                  <a:pt x="1506" y="425"/>
                </a:lnTo>
                <a:lnTo>
                  <a:pt x="1513" y="419"/>
                </a:lnTo>
                <a:lnTo>
                  <a:pt x="1519" y="425"/>
                </a:lnTo>
                <a:lnTo>
                  <a:pt x="1525" y="425"/>
                </a:lnTo>
                <a:lnTo>
                  <a:pt x="1525" y="419"/>
                </a:lnTo>
                <a:lnTo>
                  <a:pt x="1531" y="419"/>
                </a:lnTo>
                <a:lnTo>
                  <a:pt x="1531" y="425"/>
                </a:lnTo>
                <a:lnTo>
                  <a:pt x="1538" y="425"/>
                </a:lnTo>
                <a:lnTo>
                  <a:pt x="1544" y="419"/>
                </a:lnTo>
                <a:lnTo>
                  <a:pt x="1550" y="425"/>
                </a:lnTo>
                <a:lnTo>
                  <a:pt x="1556" y="425"/>
                </a:lnTo>
                <a:lnTo>
                  <a:pt x="1563" y="425"/>
                </a:lnTo>
                <a:lnTo>
                  <a:pt x="1569" y="425"/>
                </a:lnTo>
                <a:lnTo>
                  <a:pt x="1575" y="425"/>
                </a:lnTo>
                <a:lnTo>
                  <a:pt x="1581" y="432"/>
                </a:lnTo>
                <a:lnTo>
                  <a:pt x="1588" y="425"/>
                </a:lnTo>
                <a:lnTo>
                  <a:pt x="1594" y="425"/>
                </a:lnTo>
                <a:lnTo>
                  <a:pt x="1600" y="432"/>
                </a:lnTo>
                <a:lnTo>
                  <a:pt x="1606" y="432"/>
                </a:lnTo>
                <a:lnTo>
                  <a:pt x="1613" y="432"/>
                </a:lnTo>
                <a:lnTo>
                  <a:pt x="1613" y="425"/>
                </a:lnTo>
                <a:lnTo>
                  <a:pt x="1619" y="425"/>
                </a:lnTo>
                <a:lnTo>
                  <a:pt x="1625" y="425"/>
                </a:lnTo>
                <a:lnTo>
                  <a:pt x="1631" y="425"/>
                </a:lnTo>
                <a:lnTo>
                  <a:pt x="1638" y="425"/>
                </a:lnTo>
                <a:lnTo>
                  <a:pt x="1644" y="425"/>
                </a:lnTo>
                <a:lnTo>
                  <a:pt x="1650" y="425"/>
                </a:lnTo>
                <a:lnTo>
                  <a:pt x="1650" y="432"/>
                </a:lnTo>
                <a:lnTo>
                  <a:pt x="1656" y="432"/>
                </a:lnTo>
                <a:lnTo>
                  <a:pt x="1656" y="425"/>
                </a:lnTo>
                <a:lnTo>
                  <a:pt x="1663" y="432"/>
                </a:lnTo>
                <a:lnTo>
                  <a:pt x="1669" y="438"/>
                </a:lnTo>
                <a:lnTo>
                  <a:pt x="1675" y="432"/>
                </a:lnTo>
                <a:lnTo>
                  <a:pt x="1681" y="432"/>
                </a:lnTo>
                <a:lnTo>
                  <a:pt x="1681" y="438"/>
                </a:lnTo>
                <a:lnTo>
                  <a:pt x="1688" y="438"/>
                </a:lnTo>
                <a:lnTo>
                  <a:pt x="1694" y="432"/>
                </a:lnTo>
                <a:lnTo>
                  <a:pt x="1700" y="438"/>
                </a:lnTo>
                <a:lnTo>
                  <a:pt x="1706" y="438"/>
                </a:lnTo>
                <a:lnTo>
                  <a:pt x="1706" y="432"/>
                </a:lnTo>
                <a:lnTo>
                  <a:pt x="1713" y="432"/>
                </a:lnTo>
                <a:lnTo>
                  <a:pt x="1719" y="438"/>
                </a:lnTo>
                <a:lnTo>
                  <a:pt x="1725" y="432"/>
                </a:lnTo>
                <a:lnTo>
                  <a:pt x="1731" y="432"/>
                </a:lnTo>
                <a:lnTo>
                  <a:pt x="1738" y="438"/>
                </a:lnTo>
                <a:lnTo>
                  <a:pt x="1744" y="438"/>
                </a:lnTo>
                <a:lnTo>
                  <a:pt x="1750" y="438"/>
                </a:lnTo>
                <a:lnTo>
                  <a:pt x="1756" y="438"/>
                </a:lnTo>
                <a:lnTo>
                  <a:pt x="1763" y="438"/>
                </a:lnTo>
                <a:lnTo>
                  <a:pt x="1769" y="438"/>
                </a:lnTo>
                <a:lnTo>
                  <a:pt x="1769" y="444"/>
                </a:lnTo>
                <a:lnTo>
                  <a:pt x="1775" y="438"/>
                </a:lnTo>
                <a:lnTo>
                  <a:pt x="1781" y="438"/>
                </a:lnTo>
                <a:lnTo>
                  <a:pt x="1788" y="438"/>
                </a:lnTo>
                <a:lnTo>
                  <a:pt x="1794" y="438"/>
                </a:lnTo>
                <a:lnTo>
                  <a:pt x="1800" y="444"/>
                </a:lnTo>
                <a:lnTo>
                  <a:pt x="1800" y="438"/>
                </a:lnTo>
                <a:lnTo>
                  <a:pt x="1806" y="444"/>
                </a:lnTo>
                <a:lnTo>
                  <a:pt x="1813" y="444"/>
                </a:lnTo>
                <a:lnTo>
                  <a:pt x="1813" y="438"/>
                </a:lnTo>
                <a:lnTo>
                  <a:pt x="1819" y="438"/>
                </a:lnTo>
                <a:lnTo>
                  <a:pt x="1825" y="444"/>
                </a:lnTo>
                <a:lnTo>
                  <a:pt x="1831" y="444"/>
                </a:lnTo>
                <a:lnTo>
                  <a:pt x="1838" y="444"/>
                </a:lnTo>
                <a:lnTo>
                  <a:pt x="1844" y="444"/>
                </a:lnTo>
                <a:lnTo>
                  <a:pt x="1850" y="450"/>
                </a:lnTo>
                <a:lnTo>
                  <a:pt x="1850" y="444"/>
                </a:lnTo>
                <a:lnTo>
                  <a:pt x="1856" y="450"/>
                </a:lnTo>
                <a:lnTo>
                  <a:pt x="1856" y="444"/>
                </a:lnTo>
                <a:lnTo>
                  <a:pt x="1863" y="444"/>
                </a:lnTo>
                <a:lnTo>
                  <a:pt x="1869" y="450"/>
                </a:lnTo>
                <a:lnTo>
                  <a:pt x="1875" y="444"/>
                </a:lnTo>
                <a:lnTo>
                  <a:pt x="1881" y="444"/>
                </a:lnTo>
                <a:lnTo>
                  <a:pt x="1888" y="444"/>
                </a:lnTo>
                <a:lnTo>
                  <a:pt x="1894" y="444"/>
                </a:lnTo>
                <a:lnTo>
                  <a:pt x="1900" y="450"/>
                </a:lnTo>
                <a:lnTo>
                  <a:pt x="1906" y="450"/>
                </a:lnTo>
                <a:lnTo>
                  <a:pt x="1906" y="457"/>
                </a:lnTo>
                <a:lnTo>
                  <a:pt x="1913" y="450"/>
                </a:lnTo>
                <a:lnTo>
                  <a:pt x="1913" y="457"/>
                </a:lnTo>
                <a:lnTo>
                  <a:pt x="1919" y="450"/>
                </a:lnTo>
                <a:lnTo>
                  <a:pt x="1925" y="457"/>
                </a:lnTo>
                <a:lnTo>
                  <a:pt x="1931" y="457"/>
                </a:lnTo>
                <a:lnTo>
                  <a:pt x="1931" y="450"/>
                </a:lnTo>
                <a:lnTo>
                  <a:pt x="1938" y="450"/>
                </a:lnTo>
                <a:lnTo>
                  <a:pt x="1944" y="450"/>
                </a:lnTo>
                <a:lnTo>
                  <a:pt x="1950" y="457"/>
                </a:lnTo>
                <a:lnTo>
                  <a:pt x="1956" y="457"/>
                </a:lnTo>
                <a:lnTo>
                  <a:pt x="1963" y="457"/>
                </a:lnTo>
                <a:lnTo>
                  <a:pt x="1969" y="463"/>
                </a:lnTo>
                <a:lnTo>
                  <a:pt x="1969" y="457"/>
                </a:lnTo>
                <a:lnTo>
                  <a:pt x="1975" y="457"/>
                </a:lnTo>
                <a:lnTo>
                  <a:pt x="1981" y="463"/>
                </a:lnTo>
                <a:lnTo>
                  <a:pt x="1988" y="463"/>
                </a:lnTo>
                <a:lnTo>
                  <a:pt x="1988" y="457"/>
                </a:lnTo>
                <a:lnTo>
                  <a:pt x="1994" y="457"/>
                </a:lnTo>
                <a:lnTo>
                  <a:pt x="2000" y="463"/>
                </a:lnTo>
                <a:lnTo>
                  <a:pt x="2006" y="463"/>
                </a:lnTo>
                <a:lnTo>
                  <a:pt x="2013" y="463"/>
                </a:lnTo>
                <a:lnTo>
                  <a:pt x="2013" y="469"/>
                </a:lnTo>
                <a:lnTo>
                  <a:pt x="2019" y="463"/>
                </a:lnTo>
                <a:lnTo>
                  <a:pt x="2025" y="463"/>
                </a:lnTo>
                <a:lnTo>
                  <a:pt x="2031" y="463"/>
                </a:lnTo>
                <a:lnTo>
                  <a:pt x="2031" y="469"/>
                </a:lnTo>
                <a:lnTo>
                  <a:pt x="2038" y="469"/>
                </a:lnTo>
                <a:lnTo>
                  <a:pt x="2038" y="463"/>
                </a:lnTo>
                <a:lnTo>
                  <a:pt x="2044" y="463"/>
                </a:lnTo>
                <a:lnTo>
                  <a:pt x="2050" y="469"/>
                </a:lnTo>
                <a:lnTo>
                  <a:pt x="2056" y="469"/>
                </a:lnTo>
                <a:lnTo>
                  <a:pt x="2063" y="469"/>
                </a:lnTo>
                <a:lnTo>
                  <a:pt x="2063" y="475"/>
                </a:lnTo>
                <a:lnTo>
                  <a:pt x="2069" y="475"/>
                </a:lnTo>
                <a:lnTo>
                  <a:pt x="2069" y="469"/>
                </a:lnTo>
                <a:lnTo>
                  <a:pt x="2075" y="469"/>
                </a:lnTo>
                <a:lnTo>
                  <a:pt x="2081" y="475"/>
                </a:lnTo>
                <a:lnTo>
                  <a:pt x="2088" y="469"/>
                </a:lnTo>
                <a:lnTo>
                  <a:pt x="2088" y="475"/>
                </a:lnTo>
                <a:lnTo>
                  <a:pt x="2094" y="475"/>
                </a:lnTo>
                <a:lnTo>
                  <a:pt x="2100" y="482"/>
                </a:lnTo>
                <a:lnTo>
                  <a:pt x="2100" y="475"/>
                </a:lnTo>
                <a:lnTo>
                  <a:pt x="2106" y="475"/>
                </a:lnTo>
                <a:lnTo>
                  <a:pt x="2113" y="475"/>
                </a:lnTo>
                <a:lnTo>
                  <a:pt x="2113" y="482"/>
                </a:lnTo>
                <a:lnTo>
                  <a:pt x="2119" y="482"/>
                </a:lnTo>
                <a:lnTo>
                  <a:pt x="2125" y="475"/>
                </a:lnTo>
                <a:lnTo>
                  <a:pt x="2131" y="482"/>
                </a:lnTo>
                <a:lnTo>
                  <a:pt x="2138" y="482"/>
                </a:lnTo>
                <a:lnTo>
                  <a:pt x="2144" y="488"/>
                </a:lnTo>
                <a:lnTo>
                  <a:pt x="2150" y="482"/>
                </a:lnTo>
                <a:lnTo>
                  <a:pt x="2156" y="482"/>
                </a:lnTo>
                <a:lnTo>
                  <a:pt x="2163" y="488"/>
                </a:lnTo>
                <a:lnTo>
                  <a:pt x="2169" y="488"/>
                </a:lnTo>
                <a:lnTo>
                  <a:pt x="2169" y="482"/>
                </a:lnTo>
                <a:lnTo>
                  <a:pt x="2175" y="482"/>
                </a:lnTo>
                <a:lnTo>
                  <a:pt x="2175" y="488"/>
                </a:lnTo>
                <a:lnTo>
                  <a:pt x="2181" y="488"/>
                </a:lnTo>
                <a:lnTo>
                  <a:pt x="2188" y="488"/>
                </a:lnTo>
                <a:lnTo>
                  <a:pt x="2194" y="488"/>
                </a:lnTo>
                <a:lnTo>
                  <a:pt x="2194" y="494"/>
                </a:lnTo>
                <a:lnTo>
                  <a:pt x="2200" y="488"/>
                </a:lnTo>
                <a:lnTo>
                  <a:pt x="2206" y="494"/>
                </a:lnTo>
                <a:lnTo>
                  <a:pt x="2213" y="488"/>
                </a:lnTo>
                <a:lnTo>
                  <a:pt x="2213" y="494"/>
                </a:lnTo>
                <a:lnTo>
                  <a:pt x="2219" y="494"/>
                </a:lnTo>
                <a:lnTo>
                  <a:pt x="2225" y="500"/>
                </a:lnTo>
                <a:lnTo>
                  <a:pt x="2225" y="494"/>
                </a:lnTo>
                <a:lnTo>
                  <a:pt x="2231" y="494"/>
                </a:lnTo>
                <a:lnTo>
                  <a:pt x="2238" y="500"/>
                </a:lnTo>
                <a:lnTo>
                  <a:pt x="2244" y="494"/>
                </a:lnTo>
                <a:lnTo>
                  <a:pt x="2250" y="507"/>
                </a:lnTo>
                <a:lnTo>
                  <a:pt x="2256" y="500"/>
                </a:lnTo>
                <a:lnTo>
                  <a:pt x="2263" y="500"/>
                </a:lnTo>
                <a:lnTo>
                  <a:pt x="2269" y="507"/>
                </a:lnTo>
                <a:lnTo>
                  <a:pt x="2275" y="507"/>
                </a:lnTo>
                <a:lnTo>
                  <a:pt x="2281" y="513"/>
                </a:lnTo>
                <a:lnTo>
                  <a:pt x="2288" y="513"/>
                </a:lnTo>
                <a:lnTo>
                  <a:pt x="2288" y="507"/>
                </a:lnTo>
                <a:lnTo>
                  <a:pt x="2294" y="507"/>
                </a:lnTo>
                <a:lnTo>
                  <a:pt x="2300" y="513"/>
                </a:lnTo>
                <a:lnTo>
                  <a:pt x="2306" y="513"/>
                </a:lnTo>
                <a:lnTo>
                  <a:pt x="2313" y="513"/>
                </a:lnTo>
                <a:lnTo>
                  <a:pt x="2319" y="519"/>
                </a:lnTo>
                <a:lnTo>
                  <a:pt x="2325" y="513"/>
                </a:lnTo>
                <a:lnTo>
                  <a:pt x="2331" y="525"/>
                </a:lnTo>
                <a:lnTo>
                  <a:pt x="2338" y="525"/>
                </a:lnTo>
                <a:lnTo>
                  <a:pt x="2338" y="519"/>
                </a:lnTo>
                <a:lnTo>
                  <a:pt x="2344" y="525"/>
                </a:lnTo>
                <a:lnTo>
                  <a:pt x="2344" y="532"/>
                </a:lnTo>
                <a:lnTo>
                  <a:pt x="2350" y="532"/>
                </a:lnTo>
                <a:lnTo>
                  <a:pt x="2356" y="532"/>
                </a:lnTo>
                <a:lnTo>
                  <a:pt x="2356" y="525"/>
                </a:lnTo>
                <a:lnTo>
                  <a:pt x="2363" y="532"/>
                </a:lnTo>
                <a:lnTo>
                  <a:pt x="2363" y="538"/>
                </a:lnTo>
                <a:lnTo>
                  <a:pt x="2369" y="538"/>
                </a:lnTo>
                <a:lnTo>
                  <a:pt x="2369" y="532"/>
                </a:lnTo>
                <a:lnTo>
                  <a:pt x="2375" y="538"/>
                </a:lnTo>
                <a:lnTo>
                  <a:pt x="2381" y="544"/>
                </a:lnTo>
                <a:lnTo>
                  <a:pt x="2388" y="544"/>
                </a:lnTo>
                <a:lnTo>
                  <a:pt x="2394" y="544"/>
                </a:lnTo>
                <a:lnTo>
                  <a:pt x="2394" y="550"/>
                </a:lnTo>
                <a:lnTo>
                  <a:pt x="2400" y="557"/>
                </a:lnTo>
                <a:lnTo>
                  <a:pt x="2406" y="550"/>
                </a:lnTo>
                <a:lnTo>
                  <a:pt x="2406" y="557"/>
                </a:lnTo>
                <a:lnTo>
                  <a:pt x="2413" y="557"/>
                </a:lnTo>
                <a:lnTo>
                  <a:pt x="2419" y="569"/>
                </a:lnTo>
                <a:lnTo>
                  <a:pt x="2425" y="569"/>
                </a:lnTo>
                <a:lnTo>
                  <a:pt x="2431" y="569"/>
                </a:lnTo>
                <a:lnTo>
                  <a:pt x="2431" y="582"/>
                </a:lnTo>
                <a:lnTo>
                  <a:pt x="2438" y="582"/>
                </a:lnTo>
                <a:lnTo>
                  <a:pt x="2444" y="582"/>
                </a:lnTo>
                <a:lnTo>
                  <a:pt x="2450" y="594"/>
                </a:lnTo>
                <a:lnTo>
                  <a:pt x="2456" y="600"/>
                </a:lnTo>
                <a:lnTo>
                  <a:pt x="2463" y="600"/>
                </a:lnTo>
                <a:lnTo>
                  <a:pt x="2463" y="613"/>
                </a:lnTo>
                <a:lnTo>
                  <a:pt x="2469" y="613"/>
                </a:lnTo>
                <a:lnTo>
                  <a:pt x="2469" y="619"/>
                </a:lnTo>
                <a:lnTo>
                  <a:pt x="2475" y="619"/>
                </a:lnTo>
                <a:lnTo>
                  <a:pt x="2475" y="625"/>
                </a:lnTo>
                <a:lnTo>
                  <a:pt x="2481" y="632"/>
                </a:lnTo>
                <a:lnTo>
                  <a:pt x="2488" y="638"/>
                </a:lnTo>
                <a:lnTo>
                  <a:pt x="2488" y="644"/>
                </a:lnTo>
                <a:lnTo>
                  <a:pt x="2494" y="644"/>
                </a:lnTo>
                <a:lnTo>
                  <a:pt x="2494" y="650"/>
                </a:lnTo>
                <a:lnTo>
                  <a:pt x="2500" y="657"/>
                </a:lnTo>
                <a:lnTo>
                  <a:pt x="2500" y="663"/>
                </a:lnTo>
                <a:lnTo>
                  <a:pt x="2506" y="669"/>
                </a:lnTo>
                <a:lnTo>
                  <a:pt x="2506" y="675"/>
                </a:lnTo>
                <a:lnTo>
                  <a:pt x="2513" y="675"/>
                </a:lnTo>
                <a:lnTo>
                  <a:pt x="2519" y="682"/>
                </a:lnTo>
                <a:lnTo>
                  <a:pt x="2519" y="700"/>
                </a:lnTo>
                <a:lnTo>
                  <a:pt x="2525" y="700"/>
                </a:lnTo>
                <a:lnTo>
                  <a:pt x="2525" y="707"/>
                </a:lnTo>
                <a:lnTo>
                  <a:pt x="2531" y="713"/>
                </a:lnTo>
                <a:lnTo>
                  <a:pt x="2531" y="719"/>
                </a:lnTo>
                <a:lnTo>
                  <a:pt x="2538" y="732"/>
                </a:lnTo>
                <a:lnTo>
                  <a:pt x="2538" y="738"/>
                </a:lnTo>
                <a:lnTo>
                  <a:pt x="2544" y="750"/>
                </a:lnTo>
                <a:lnTo>
                  <a:pt x="2550" y="757"/>
                </a:lnTo>
                <a:lnTo>
                  <a:pt x="2550" y="763"/>
                </a:lnTo>
                <a:lnTo>
                  <a:pt x="2556" y="782"/>
                </a:lnTo>
                <a:lnTo>
                  <a:pt x="2556" y="788"/>
                </a:lnTo>
                <a:lnTo>
                  <a:pt x="2563" y="800"/>
                </a:lnTo>
                <a:lnTo>
                  <a:pt x="2563" y="807"/>
                </a:lnTo>
                <a:lnTo>
                  <a:pt x="2569" y="825"/>
                </a:lnTo>
                <a:lnTo>
                  <a:pt x="2569" y="838"/>
                </a:lnTo>
                <a:lnTo>
                  <a:pt x="2575" y="850"/>
                </a:lnTo>
                <a:lnTo>
                  <a:pt x="2581" y="863"/>
                </a:lnTo>
                <a:lnTo>
                  <a:pt x="2581" y="882"/>
                </a:lnTo>
                <a:lnTo>
                  <a:pt x="2588" y="900"/>
                </a:lnTo>
                <a:lnTo>
                  <a:pt x="2588" y="925"/>
                </a:lnTo>
                <a:lnTo>
                  <a:pt x="2594" y="950"/>
                </a:lnTo>
                <a:lnTo>
                  <a:pt x="2594" y="975"/>
                </a:lnTo>
                <a:lnTo>
                  <a:pt x="2600" y="1000"/>
                </a:lnTo>
                <a:lnTo>
                  <a:pt x="2600" y="1032"/>
                </a:lnTo>
                <a:lnTo>
                  <a:pt x="2606" y="1088"/>
                </a:lnTo>
                <a:lnTo>
                  <a:pt x="2613" y="1132"/>
                </a:lnTo>
                <a:lnTo>
                  <a:pt x="2613" y="1175"/>
                </a:lnTo>
                <a:lnTo>
                  <a:pt x="2619" y="1225"/>
                </a:lnTo>
                <a:lnTo>
                  <a:pt x="2619" y="1244"/>
                </a:lnTo>
                <a:lnTo>
                  <a:pt x="2625" y="1244"/>
                </a:lnTo>
                <a:lnTo>
                  <a:pt x="2631" y="1244"/>
                </a:lnTo>
                <a:lnTo>
                  <a:pt x="2638" y="1244"/>
                </a:lnTo>
                <a:lnTo>
                  <a:pt x="2644" y="1244"/>
                </a:lnTo>
                <a:lnTo>
                  <a:pt x="2650" y="1244"/>
                </a:lnTo>
                <a:lnTo>
                  <a:pt x="2656" y="1244"/>
                </a:lnTo>
                <a:lnTo>
                  <a:pt x="2663" y="1244"/>
                </a:lnTo>
                <a:lnTo>
                  <a:pt x="2669" y="1244"/>
                </a:lnTo>
                <a:lnTo>
                  <a:pt x="2675" y="1244"/>
                </a:lnTo>
                <a:lnTo>
                  <a:pt x="2681" y="1244"/>
                </a:lnTo>
                <a:lnTo>
                  <a:pt x="2688" y="1244"/>
                </a:lnTo>
                <a:lnTo>
                  <a:pt x="2694" y="1244"/>
                </a:lnTo>
                <a:lnTo>
                  <a:pt x="2700" y="1244"/>
                </a:lnTo>
                <a:lnTo>
                  <a:pt x="2706" y="1244"/>
                </a:lnTo>
                <a:lnTo>
                  <a:pt x="2713" y="1244"/>
                </a:lnTo>
                <a:lnTo>
                  <a:pt x="2719" y="1244"/>
                </a:lnTo>
                <a:lnTo>
                  <a:pt x="2725" y="1244"/>
                </a:lnTo>
                <a:lnTo>
                  <a:pt x="2731" y="1244"/>
                </a:lnTo>
                <a:lnTo>
                  <a:pt x="2738" y="1244"/>
                </a:lnTo>
                <a:lnTo>
                  <a:pt x="2744" y="1244"/>
                </a:lnTo>
                <a:lnTo>
                  <a:pt x="2750" y="1244"/>
                </a:lnTo>
                <a:lnTo>
                  <a:pt x="2756" y="1244"/>
                </a:lnTo>
                <a:lnTo>
                  <a:pt x="2763" y="1244"/>
                </a:lnTo>
                <a:lnTo>
                  <a:pt x="2769" y="1244"/>
                </a:lnTo>
                <a:lnTo>
                  <a:pt x="2775" y="1244"/>
                </a:lnTo>
                <a:lnTo>
                  <a:pt x="2781" y="1244"/>
                </a:lnTo>
                <a:lnTo>
                  <a:pt x="2788" y="1244"/>
                </a:lnTo>
                <a:lnTo>
                  <a:pt x="2794" y="1244"/>
                </a:lnTo>
                <a:lnTo>
                  <a:pt x="2800" y="1244"/>
                </a:lnTo>
                <a:lnTo>
                  <a:pt x="2806" y="1244"/>
                </a:lnTo>
                <a:lnTo>
                  <a:pt x="2813" y="1244"/>
                </a:lnTo>
                <a:lnTo>
                  <a:pt x="2819" y="1244"/>
                </a:lnTo>
                <a:lnTo>
                  <a:pt x="2825" y="1244"/>
                </a:lnTo>
                <a:lnTo>
                  <a:pt x="2831" y="1244"/>
                </a:lnTo>
                <a:lnTo>
                  <a:pt x="2838" y="1244"/>
                </a:lnTo>
                <a:lnTo>
                  <a:pt x="2844" y="1244"/>
                </a:lnTo>
                <a:lnTo>
                  <a:pt x="2850" y="1244"/>
                </a:lnTo>
                <a:lnTo>
                  <a:pt x="2856" y="1244"/>
                </a:lnTo>
                <a:lnTo>
                  <a:pt x="2863" y="1244"/>
                </a:lnTo>
                <a:lnTo>
                  <a:pt x="2869" y="1244"/>
                </a:lnTo>
                <a:lnTo>
                  <a:pt x="2875" y="1244"/>
                </a:lnTo>
                <a:lnTo>
                  <a:pt x="2881" y="1244"/>
                </a:lnTo>
                <a:lnTo>
                  <a:pt x="2888" y="1244"/>
                </a:lnTo>
                <a:lnTo>
                  <a:pt x="2894" y="1244"/>
                </a:lnTo>
                <a:lnTo>
                  <a:pt x="2900" y="1244"/>
                </a:lnTo>
                <a:lnTo>
                  <a:pt x="2906" y="1244"/>
                </a:lnTo>
                <a:lnTo>
                  <a:pt x="2913" y="1244"/>
                </a:lnTo>
                <a:lnTo>
                  <a:pt x="2919" y="1244"/>
                </a:lnTo>
                <a:lnTo>
                  <a:pt x="2925" y="1244"/>
                </a:lnTo>
                <a:lnTo>
                  <a:pt x="2931" y="1244"/>
                </a:lnTo>
                <a:lnTo>
                  <a:pt x="2938" y="1244"/>
                </a:lnTo>
                <a:lnTo>
                  <a:pt x="2944" y="1244"/>
                </a:lnTo>
                <a:lnTo>
                  <a:pt x="2950" y="1244"/>
                </a:lnTo>
                <a:lnTo>
                  <a:pt x="2956" y="1244"/>
                </a:lnTo>
                <a:lnTo>
                  <a:pt x="2963" y="1244"/>
                </a:lnTo>
                <a:lnTo>
                  <a:pt x="2969" y="1244"/>
                </a:lnTo>
                <a:lnTo>
                  <a:pt x="2975" y="1244"/>
                </a:lnTo>
                <a:lnTo>
                  <a:pt x="2981" y="1244"/>
                </a:lnTo>
                <a:lnTo>
                  <a:pt x="2988" y="1244"/>
                </a:lnTo>
              </a:path>
            </a:pathLst>
          </a:custGeom>
          <a:noFill/>
          <a:ln w="93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4176720" y="3500280"/>
            <a:ext cx="0" cy="7207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503280" y="2637000"/>
            <a:ext cx="252360" cy="36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755640" y="3537000"/>
            <a:ext cx="342108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21960" y="3284640"/>
            <a:ext cx="965160" cy="2772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EDV2 (I</a:t>
            </a:r>
            <a:r>
              <a:rPr b="0" lang="en-US" sz="1600" spc="-1" strike="noStrike" baseline="-25000">
                <a:solidFill>
                  <a:srgbClr val="000000"/>
                </a:solidFill>
                <a:latin typeface="Times New Roman"/>
              </a:rPr>
              <a:t>1</a:t>
            </a: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4" name="PlaceHolder 3"/>
          <p:cNvSpPr>
            <a:spLocks noGrp="1"/>
          </p:cNvSpPr>
          <p:nvPr>
            <p:ph type="sldNum" idx="2"/>
          </p:nvPr>
        </p:nvSpPr>
        <p:spPr/>
        <p:txBody>
          <a:bodyPr/>
          <a:p>
            <a:fld id="{658AAB78-9D62-4FDB-9489-AFB87966762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905120" y="151920"/>
            <a:ext cx="54864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sic functionality of CEDV parameters</a:t>
            </a:r>
            <a:endParaRPr b="1" lang="en-US" sz="2400" spc="-1" strike="noStrike">
              <a:solidFill>
                <a:srgbClr val="000000"/>
              </a:solidFill>
              <a:latin typeface="Arial"/>
            </a:endParaRPr>
          </a:p>
        </p:txBody>
      </p:sp>
      <p:sp>
        <p:nvSpPr>
          <p:cNvPr id="177" name="PlaceHolder 2"/>
          <p:cNvSpPr>
            <a:spLocks noGrp="1"/>
          </p:cNvSpPr>
          <p:nvPr>
            <p:ph/>
          </p:nvPr>
        </p:nvSpPr>
        <p:spPr>
          <a:xfrm>
            <a:off x="4858920" y="1592280"/>
            <a:ext cx="39258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s </a:t>
            </a:r>
            <a:r>
              <a:rPr b="0" lang="en-US" sz="1800" spc="-1" strike="noStrike">
                <a:solidFill>
                  <a:srgbClr val="ff0000"/>
                </a:solidFill>
                <a:latin typeface="Arial"/>
              </a:rPr>
              <a:t>EMF</a:t>
            </a:r>
            <a:r>
              <a:rPr b="0" lang="en-US" sz="1800" spc="-1" strike="noStrike">
                <a:solidFill>
                  <a:srgbClr val="000000"/>
                </a:solidFill>
                <a:latin typeface="Arial"/>
              </a:rPr>
              <a:t> and </a:t>
            </a:r>
            <a:r>
              <a:rPr b="0" lang="en-US" sz="1800" spc="-1" strike="noStrike">
                <a:solidFill>
                  <a:srgbClr val="ff0000"/>
                </a:solidFill>
                <a:latin typeface="Arial"/>
              </a:rPr>
              <a:t>C0</a:t>
            </a:r>
            <a:r>
              <a:rPr b="0" lang="en-US" sz="1800" spc="-1" strike="noStrike">
                <a:solidFill>
                  <a:srgbClr val="000000"/>
                </a:solidFill>
                <a:latin typeface="Arial"/>
              </a:rPr>
              <a:t> define function OCV(SOC,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s (</a:t>
            </a:r>
            <a:r>
              <a:rPr b="0" lang="en-US" sz="1800" spc="-1" strike="noStrike">
                <a:solidFill>
                  <a:srgbClr val="ff0000"/>
                </a:solidFill>
                <a:latin typeface="Arial"/>
              </a:rPr>
              <a:t>R0</a:t>
            </a:r>
            <a:r>
              <a:rPr b="0" lang="en-US" sz="1800" spc="-1" strike="noStrike">
                <a:solidFill>
                  <a:srgbClr val="000000"/>
                </a:solidFill>
                <a:latin typeface="Arial"/>
              </a:rPr>
              <a:t>,</a:t>
            </a:r>
            <a:r>
              <a:rPr b="0" lang="en-US" sz="1800" spc="-1" strike="noStrike">
                <a:solidFill>
                  <a:srgbClr val="ff0000"/>
                </a:solidFill>
                <a:latin typeface="Arial"/>
              </a:rPr>
              <a:t>R1</a:t>
            </a:r>
            <a:r>
              <a:rPr b="0" lang="en-US" sz="1800" spc="-1" strike="noStrike">
                <a:solidFill>
                  <a:srgbClr val="000000"/>
                </a:solidFill>
                <a:latin typeface="Arial"/>
              </a:rPr>
              <a:t> and </a:t>
            </a:r>
            <a:r>
              <a:rPr b="0" lang="en-US" sz="1800" spc="-1" strike="noStrike">
                <a:solidFill>
                  <a:srgbClr val="ff0000"/>
                </a:solidFill>
                <a:latin typeface="Arial"/>
              </a:rPr>
              <a:t>T0</a:t>
            </a:r>
            <a:r>
              <a:rPr b="0" lang="en-US" sz="1800" spc="-1" strike="noStrike">
                <a:solidFill>
                  <a:srgbClr val="000000"/>
                </a:solidFill>
                <a:latin typeface="Arial"/>
              </a:rPr>
              <a:t>) define R(SOC,T). </a:t>
            </a:r>
            <a:r>
              <a:rPr b="0" lang="en-US" sz="1800" spc="-1" strike="noStrike">
                <a:solidFill>
                  <a:srgbClr val="ff0000"/>
                </a:solidFill>
                <a:latin typeface="Arial"/>
              </a:rPr>
              <a:t>R1</a:t>
            </a:r>
            <a:r>
              <a:rPr b="0" lang="en-US" sz="1800" spc="-1" strike="noStrike">
                <a:solidFill>
                  <a:srgbClr val="000000"/>
                </a:solidFill>
                <a:latin typeface="Arial"/>
              </a:rPr>
              <a:t> defines the slope of R(SOC) dependence, </a:t>
            </a:r>
            <a:r>
              <a:rPr b="0" lang="en-US" sz="1800" spc="-1" strike="noStrike">
                <a:solidFill>
                  <a:srgbClr val="ff0000"/>
                </a:solidFill>
                <a:latin typeface="Arial"/>
              </a:rPr>
              <a:t>R0</a:t>
            </a:r>
            <a:r>
              <a:rPr b="0" lang="en-US" sz="1800" spc="-1" strike="noStrike">
                <a:solidFill>
                  <a:srgbClr val="000000"/>
                </a:solidFill>
                <a:latin typeface="Arial"/>
              </a:rPr>
              <a:t> the magnitude of R, and </a:t>
            </a:r>
            <a:r>
              <a:rPr b="0" lang="en-US" sz="1800" spc="-1" strike="noStrike">
                <a:solidFill>
                  <a:srgbClr val="ff0000"/>
                </a:solidFill>
                <a:latin typeface="Arial"/>
              </a:rPr>
              <a:t>T0</a:t>
            </a:r>
            <a:r>
              <a:rPr b="0" lang="en-US" sz="1800" spc="-1" strike="noStrike">
                <a:solidFill>
                  <a:srgbClr val="000000"/>
                </a:solidFill>
                <a:latin typeface="Arial"/>
              </a:rPr>
              <a:t> the slope of R(T) dependence.</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 </a:t>
            </a:r>
            <a:r>
              <a:rPr b="0" lang="en-US" sz="1800" spc="-1" strike="noStrike">
                <a:solidFill>
                  <a:srgbClr val="ff0000"/>
                </a:solidFill>
                <a:latin typeface="Arial"/>
              </a:rPr>
              <a:t>TC</a:t>
            </a:r>
            <a:r>
              <a:rPr b="0" lang="en-US" sz="1800" spc="-1" strike="noStrike">
                <a:solidFill>
                  <a:srgbClr val="000000"/>
                </a:solidFill>
                <a:latin typeface="Arial"/>
              </a:rPr>
              <a:t> defines additional resistance increase at temperatures below 21</a:t>
            </a:r>
            <a:r>
              <a:rPr b="0" lang="en-US" sz="1800" spc="-1" strike="noStrike" baseline="30000">
                <a:solidFill>
                  <a:srgbClr val="000000"/>
                </a:solidFill>
                <a:latin typeface="Arial"/>
              </a:rPr>
              <a:t>o</a:t>
            </a:r>
            <a:r>
              <a:rPr b="0" lang="en-US" sz="1800" spc="-1" strike="noStrike">
                <a:solidFill>
                  <a:srgbClr val="000000"/>
                </a:solidFill>
                <a:latin typeface="Arial"/>
              </a:rPr>
              <a:t>C: R`(SOC,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 </a:t>
            </a:r>
            <a:r>
              <a:rPr b="0" lang="en-US" sz="1800" spc="-1" strike="noStrike">
                <a:solidFill>
                  <a:srgbClr val="ff0000"/>
                </a:solidFill>
                <a:latin typeface="Arial"/>
              </a:rPr>
              <a:t>C1</a:t>
            </a:r>
            <a:r>
              <a:rPr b="0" lang="en-US" sz="1800" spc="-1" strike="noStrike">
                <a:solidFill>
                  <a:srgbClr val="000000"/>
                </a:solidFill>
                <a:latin typeface="Arial"/>
              </a:rPr>
              <a:t> allows to shift whole function to the left. EDV2 is reached earlier and so reserve capacity is provided. 1 Unit of C1 shifts function by 0.39%</a:t>
            </a:r>
            <a:endParaRPr b="0" lang="en-US" sz="1800" spc="-1" strike="noStrike">
              <a:solidFill>
                <a:srgbClr val="000000"/>
              </a:solidFill>
              <a:latin typeface="Arial"/>
            </a:endParaRPr>
          </a:p>
        </p:txBody>
      </p:sp>
      <p:pic>
        <p:nvPicPr>
          <p:cNvPr id="178" name="" descr=""/>
          <p:cNvPicPr/>
          <p:nvPr/>
        </p:nvPicPr>
        <p:blipFill>
          <a:blip r:embed="rId1"/>
          <a:stretch/>
        </p:blipFill>
        <p:spPr>
          <a:xfrm>
            <a:off x="468360" y="1305000"/>
            <a:ext cx="4495680" cy="4362480"/>
          </a:xfrm>
          <a:prstGeom prst="rect">
            <a:avLst/>
          </a:prstGeom>
          <a:ln w="0">
            <a:noFill/>
          </a:ln>
        </p:spPr>
      </p:pic>
      <p:grpSp>
        <p:nvGrpSpPr>
          <p:cNvPr id="179" name=""/>
          <p:cNvGrpSpPr/>
          <p:nvPr/>
        </p:nvGrpSpPr>
        <p:grpSpPr>
          <a:xfrm>
            <a:off x="2150640" y="3524400"/>
            <a:ext cx="152640" cy="228600"/>
            <a:chOff x="2150640" y="3524400"/>
            <a:chExt cx="152640" cy="228600"/>
          </a:xfrm>
        </p:grpSpPr>
        <p:sp>
          <p:nvSpPr>
            <p:cNvPr id="180" name=""/>
            <p:cNvSpPr/>
            <p:nvPr/>
          </p:nvSpPr>
          <p:spPr>
            <a:xfrm flipH="1">
              <a:off x="2150640" y="3524400"/>
              <a:ext cx="152280" cy="2286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2151000" y="3524400"/>
              <a:ext cx="152280" cy="2286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2" name=""/>
          <p:cNvSpPr/>
          <p:nvPr/>
        </p:nvSpPr>
        <p:spPr>
          <a:xfrm flipV="1">
            <a:off x="2232000" y="1592280"/>
            <a:ext cx="0" cy="277344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3024360" y="5300640"/>
            <a:ext cx="1616040" cy="403200"/>
          </a:xfrm>
          <a:prstGeom prst="borderCallout2">
            <a:avLst>
              <a:gd name="adj1" fmla="val 18750"/>
              <a:gd name="adj2" fmla="val -8333"/>
              <a:gd name="adj3" fmla="val 28347"/>
              <a:gd name="adj4" fmla="val -25342"/>
              <a:gd name="adj5" fmla="val -205120"/>
              <a:gd name="adj6" fmla="val -46759"/>
            </a:avLst>
          </a:prstGeom>
          <a:no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attery Low</a:t>
            </a:r>
            <a:endParaRPr b="0" lang="en-US" sz="1800" spc="-1" strike="noStrike">
              <a:solidFill>
                <a:srgbClr val="000000"/>
              </a:solidFill>
              <a:latin typeface="Times New Roman"/>
            </a:endParaRPr>
          </a:p>
        </p:txBody>
      </p:sp>
      <p:sp>
        <p:nvSpPr>
          <p:cNvPr id="184" name=""/>
          <p:cNvSpPr/>
          <p:nvPr/>
        </p:nvSpPr>
        <p:spPr>
          <a:xfrm>
            <a:off x="1835280" y="1052640"/>
            <a:ext cx="1616040" cy="403200"/>
          </a:xfrm>
          <a:prstGeom prst="borderCallout2">
            <a:avLst>
              <a:gd name="adj1" fmla="val 18750"/>
              <a:gd name="adj2" fmla="val -8333"/>
              <a:gd name="adj3" fmla="val 28347"/>
              <a:gd name="adj4" fmla="val -24361"/>
              <a:gd name="adj5" fmla="val 644486"/>
              <a:gd name="adj6" fmla="val -44694"/>
            </a:avLst>
          </a:prstGeom>
          <a:no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DV2</a:t>
            </a:r>
            <a:endParaRPr b="0" lang="en-US" sz="1800" spc="-1" strike="noStrike">
              <a:solidFill>
                <a:srgbClr val="000000"/>
              </a:solidFill>
              <a:latin typeface="Times New Roman"/>
            </a:endParaRPr>
          </a:p>
        </p:txBody>
      </p:sp>
      <p:sp>
        <p:nvSpPr>
          <p:cNvPr id="185" name=""/>
          <p:cNvSpPr/>
          <p:nvPr/>
        </p:nvSpPr>
        <p:spPr>
          <a:xfrm flipH="1">
            <a:off x="1115640" y="3610080"/>
            <a:ext cx="3311640" cy="34920"/>
          </a:xfrm>
          <a:prstGeom prst="line">
            <a:avLst/>
          </a:prstGeom>
          <a:ln w="12600">
            <a:solidFill>
              <a:srgbClr val="000000"/>
            </a:solidFill>
            <a:prstDash val="dash"/>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86" name=""/>
          <p:cNvSpPr/>
          <p:nvPr/>
        </p:nvSpPr>
        <p:spPr>
          <a:xfrm>
            <a:off x="2521440" y="1700280"/>
            <a:ext cx="14562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CV(SOC,T)</a:t>
            </a:r>
            <a:endParaRPr b="0" lang="en-US" sz="1800" spc="-1" strike="noStrike">
              <a:solidFill>
                <a:srgbClr val="000000"/>
              </a:solidFill>
              <a:latin typeface="Times New Roman"/>
            </a:endParaRPr>
          </a:p>
        </p:txBody>
      </p:sp>
      <p:sp>
        <p:nvSpPr>
          <p:cNvPr id="187" name=""/>
          <p:cNvSpPr/>
          <p:nvPr/>
        </p:nvSpPr>
        <p:spPr>
          <a:xfrm>
            <a:off x="1771920" y="2852640"/>
            <a:ext cx="26694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CV(SOC,T)-I*R(SOC,T)</a:t>
            </a:r>
            <a:endParaRPr b="0" lang="en-US" sz="1800" spc="-1" strike="noStrike">
              <a:solidFill>
                <a:srgbClr val="000000"/>
              </a:solidFill>
              <a:latin typeface="Times New Roman"/>
            </a:endParaRPr>
          </a:p>
        </p:txBody>
      </p:sp>
      <p:sp>
        <p:nvSpPr>
          <p:cNvPr id="188" name=""/>
          <p:cNvSpPr/>
          <p:nvPr/>
        </p:nvSpPr>
        <p:spPr>
          <a:xfrm>
            <a:off x="1512720" y="3968640"/>
            <a:ext cx="27990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CV(SOC,T)+I*R`(SOC,T)</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595E80D9-F8D5-4516-A4AF-13D0A32D950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quired data</a:t>
            </a:r>
            <a:endParaRPr b="1" lang="en-US" sz="2800" spc="-1" strike="noStrike">
              <a:solidFill>
                <a:srgbClr val="000000"/>
              </a:solidFill>
              <a:latin typeface="Arial"/>
            </a:endParaRPr>
          </a:p>
        </p:txBody>
      </p:sp>
      <p:sp>
        <p:nvSpPr>
          <p:cNvPr id="190" name="PlaceHolder 2"/>
          <p:cNvSpPr>
            <a:spLocks noGrp="1"/>
          </p:cNvSpPr>
          <p:nvPr>
            <p:ph/>
          </p:nvPr>
        </p:nvSpPr>
        <p:spPr>
          <a:xfrm>
            <a:off x="4419360" y="990720"/>
            <a:ext cx="4400280" cy="5209920"/>
          </a:xfrm>
          <a:prstGeom prst="rect">
            <a:avLst/>
          </a:prstGeom>
          <a:noFill/>
          <a:ln w="0">
            <a:noFill/>
          </a:ln>
        </p:spPr>
        <p:txBody>
          <a:bodyPr lIns="90000" rIns="90000" tIns="46800" bIns="46800" anchor="t">
            <a:normAutofit/>
          </a:bodyPr>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inious discharge at 2 different rates, from fully charged state until termination voltage is reached.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ime, voltage, current and temperature (directly on the cells) has to be recorded and stored as separate columsn. Any text should be removed from files prior to calculations.</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sy recording method is to use our EV software that is reading data directly from our fuel-gauge.</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ke sure to set over-temperature limits in the fuel-gauge higher then expected cell temperature during the test.</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st rate should be average typical, and second should be average high for your application. Note that high rate should NOT be maximal peak current, but maximal average sustained rate that can practically occur in the application.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charge does not have to be constant current. It can be any load pattern typical for your application, including constant power.</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ery should be fully charged prior to application of test pattern.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st at both rates has to be perfored at 3 different temperatures. Typical temperatures for the test are 5, 30, 50 oC. Note that cells heat-up during high rate discharge, so if your max spec temperature is 70, you can use chamber temperature 50.</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 result of all tests you will obtain 6 files.</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temperature was changed, battery should be left for reaching thermal equilibrium for at least 2 hrs prior to testing</a:t>
            </a:r>
            <a:endParaRPr b="0" lang="en-US" sz="1000" spc="-1" strike="noStrike">
              <a:solidFill>
                <a:srgbClr val="000000"/>
              </a:solidFill>
              <a:latin typeface="Arial"/>
            </a:endParaRPr>
          </a:p>
        </p:txBody>
      </p:sp>
      <p:pic>
        <p:nvPicPr>
          <p:cNvPr id="191" name="" descr=""/>
          <p:cNvPicPr/>
          <p:nvPr/>
        </p:nvPicPr>
        <p:blipFill>
          <a:blip r:embed="rId1"/>
          <a:stretch/>
        </p:blipFill>
        <p:spPr>
          <a:xfrm>
            <a:off x="1476360" y="1089000"/>
            <a:ext cx="2495520" cy="5005440"/>
          </a:xfrm>
          <a:prstGeom prst="rect">
            <a:avLst/>
          </a:prstGeom>
          <a:ln w="0">
            <a:noFill/>
          </a:ln>
        </p:spPr>
      </p:pic>
      <p:sp>
        <p:nvSpPr>
          <p:cNvPr id="4" name="PlaceHolder 3"/>
          <p:cNvSpPr>
            <a:spLocks noGrp="1"/>
          </p:cNvSpPr>
          <p:nvPr>
            <p:ph type="sldNum" idx="2"/>
          </p:nvPr>
        </p:nvSpPr>
        <p:spPr/>
        <p:txBody>
          <a:bodyPr/>
          <a:p>
            <a:fld id="{57FB2148-328D-4E78-AA6B-37C380AB7D3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1)</a:t>
            </a:r>
            <a:endParaRPr b="1" lang="en-US" sz="2800" spc="-1" strike="noStrike">
              <a:solidFill>
                <a:srgbClr val="000000"/>
              </a:solidFill>
              <a:latin typeface="Arial"/>
            </a:endParaRPr>
          </a:p>
        </p:txBody>
      </p:sp>
      <p:pic>
        <p:nvPicPr>
          <p:cNvPr id="193" name="" descr=""/>
          <p:cNvPicPr/>
          <p:nvPr/>
        </p:nvPicPr>
        <p:blipFill>
          <a:blip r:embed="rId1"/>
          <a:stretch/>
        </p:blipFill>
        <p:spPr>
          <a:xfrm>
            <a:off x="1835280" y="1197000"/>
            <a:ext cx="5400720" cy="4905360"/>
          </a:xfrm>
          <a:prstGeom prst="rect">
            <a:avLst/>
          </a:prstGeom>
          <a:ln w="0">
            <a:noFill/>
          </a:ln>
        </p:spPr>
      </p:pic>
      <p:sp>
        <p:nvSpPr>
          <p:cNvPr id="3" name="PlaceHolder 2"/>
          <p:cNvSpPr>
            <a:spLocks noGrp="1"/>
          </p:cNvSpPr>
          <p:nvPr>
            <p:ph type="sldNum" idx="2"/>
          </p:nvPr>
        </p:nvSpPr>
        <p:spPr/>
        <p:txBody>
          <a:bodyPr/>
          <a:p>
            <a:fld id="{8166FDCF-DC22-4F77-927C-18C9DCD0ACF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2)</a:t>
            </a:r>
            <a:endParaRPr b="1" lang="en-US" sz="2800" spc="-1" strike="noStrike">
              <a:solidFill>
                <a:srgbClr val="000000"/>
              </a:solidFill>
              <a:latin typeface="Arial"/>
            </a:endParaRPr>
          </a:p>
        </p:txBody>
      </p:sp>
      <p:pic>
        <p:nvPicPr>
          <p:cNvPr id="195" name="" descr=""/>
          <p:cNvPicPr/>
          <p:nvPr/>
        </p:nvPicPr>
        <p:blipFill>
          <a:blip r:embed="rId1"/>
          <a:stretch/>
        </p:blipFill>
        <p:spPr>
          <a:xfrm>
            <a:off x="1871640" y="1260360"/>
            <a:ext cx="5400720" cy="4330800"/>
          </a:xfrm>
          <a:prstGeom prst="rect">
            <a:avLst/>
          </a:prstGeom>
          <a:ln w="0">
            <a:noFill/>
          </a:ln>
        </p:spPr>
      </p:pic>
      <p:sp>
        <p:nvSpPr>
          <p:cNvPr id="3" name="PlaceHolder 2"/>
          <p:cNvSpPr>
            <a:spLocks noGrp="1"/>
          </p:cNvSpPr>
          <p:nvPr>
            <p:ph type="sldNum" idx="2"/>
          </p:nvPr>
        </p:nvSpPr>
        <p:spPr/>
        <p:txBody>
          <a:bodyPr/>
          <a:p>
            <a:fld id="{F692E8DD-9E59-447C-84E0-1EDB69A9D1F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3)</a:t>
            </a:r>
            <a:endParaRPr b="1" lang="en-US" sz="2800" spc="-1" strike="noStrike">
              <a:solidFill>
                <a:srgbClr val="000000"/>
              </a:solidFill>
              <a:latin typeface="Arial"/>
            </a:endParaRPr>
          </a:p>
        </p:txBody>
      </p:sp>
      <p:pic>
        <p:nvPicPr>
          <p:cNvPr id="197" name="" descr=""/>
          <p:cNvPicPr/>
          <p:nvPr/>
        </p:nvPicPr>
        <p:blipFill>
          <a:blip r:embed="rId1"/>
          <a:stretch/>
        </p:blipFill>
        <p:spPr>
          <a:xfrm>
            <a:off x="1871640" y="1125360"/>
            <a:ext cx="4724280" cy="5050080"/>
          </a:xfrm>
          <a:prstGeom prst="rect">
            <a:avLst/>
          </a:prstGeom>
          <a:ln w="0">
            <a:noFill/>
          </a:ln>
        </p:spPr>
      </p:pic>
      <p:sp>
        <p:nvSpPr>
          <p:cNvPr id="3" name="PlaceHolder 2"/>
          <p:cNvSpPr>
            <a:spLocks noGrp="1"/>
          </p:cNvSpPr>
          <p:nvPr>
            <p:ph type="sldNum" idx="2"/>
          </p:nvPr>
        </p:nvSpPr>
        <p:spPr/>
        <p:txBody>
          <a:bodyPr/>
          <a:p>
            <a:fld id="{8E3ED9DD-E76D-41C7-BC05-98CED075811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15T21:04:03Z</dcterms:created>
  <dc:creator>Evgenij Barsoukov</dc:creator>
  <dc:description/>
  <dc:language>en-US</dc:language>
  <cp:lastModifiedBy>Evgenij Barsoukov</cp:lastModifiedBy>
  <cp:lastPrinted>2002-06-06T20:12:54Z</cp:lastPrinted>
  <dcterms:modified xsi:type="dcterms:W3CDTF">2004-06-18T20:00:18Z</dcterms:modified>
  <cp:revision>139</cp:revision>
  <dc:subject/>
  <dc:title>Slide 1</dc:title>
</cp:coreProperties>
</file>